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6858000" cy="9144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51888-07BA-4BDB-A21E-409C22CAC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ECE25-8E30-47DA-873F-5B9F4DFF2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2A55F-5076-4760-8DCC-D31664DA6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849CD-DD70-42AE-BF68-92AFDDAC7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DC9A4-100E-429A-8A0E-A368A9927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187E3-D383-4357-8C3E-E7F81965D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F788D-74F8-4755-937A-568E3517F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6C27A-9F5E-49CC-AE1A-204CC3411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91D96-E420-4936-8B5F-B0B384591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E781C-49F8-4FFD-8464-60C19B7A3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B16E2-BACB-4FDD-9929-4B59B974B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833BA-F968-43CA-B454-28FDE4AFA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CD6F4-F0A1-4531-A018-295C9FC11E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9360" y="144360"/>
            <a:ext cx="5562720" cy="5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MONTANTI  FONIA BOZZA</a:t>
            </a:r>
            <a:br>
              <a:rPr sz="2000"/>
            </a:b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COTUGNO BA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968400" y="1805040"/>
            <a:ext cx="3618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O - 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968400" y="2719440"/>
            <a:ext cx="3618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O - 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68400" y="3633840"/>
            <a:ext cx="3618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O -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968400" y="4548240"/>
            <a:ext cx="3618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O-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968400" y="5462640"/>
            <a:ext cx="3618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O - 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68400" y="6808680"/>
            <a:ext cx="361800" cy="642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O - -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010120" y="3767040"/>
            <a:ext cx="36216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U -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010120" y="4681440"/>
            <a:ext cx="36216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U -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10120" y="5595840"/>
            <a:ext cx="36216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U - 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133720" y="2195640"/>
            <a:ext cx="0" cy="324000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82840" y="2109960"/>
            <a:ext cx="533160" cy="144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482840" y="2948040"/>
            <a:ext cx="533160" cy="144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82840" y="3862440"/>
            <a:ext cx="533160" cy="144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482840" y="4776840"/>
            <a:ext cx="533160" cy="144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82840" y="5691240"/>
            <a:ext cx="533160" cy="144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457880" y="3995640"/>
            <a:ext cx="5331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57880" y="4910040"/>
            <a:ext cx="5331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457880" y="5824440"/>
            <a:ext cx="5331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538360" y="43149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04920" y="152280"/>
            <a:ext cx="1780920" cy="5144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1434240" y="67755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150  CP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413720" y="543564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100  CP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434240" y="453240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150  CP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34240" y="361800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150  CP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434240" y="270360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150  CP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34240" y="1865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100  CP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409280" y="466560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100  CP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439520" y="375120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100  CP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439520" y="558000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100  CP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709360" y="8739360"/>
            <a:ext cx="111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. Dabbicco 20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292640" y="3203640"/>
            <a:ext cx="0" cy="216036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 flipV="1">
            <a:off x="777600" y="1900080"/>
            <a:ext cx="1522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51160" y="1633680"/>
            <a:ext cx="33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3300"/>
                </a:solidFill>
                <a:latin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 flipV="1">
            <a:off x="777600" y="290808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50800" y="2641680"/>
            <a:ext cx="40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3300"/>
                </a:solidFill>
                <a:latin typeface="Times New Roman"/>
              </a:rPr>
              <a:t>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777600" y="384300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51160" y="3578400"/>
            <a:ext cx="33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3300"/>
                </a:solidFill>
                <a:latin typeface="Times New Roman"/>
              </a:rPr>
              <a:t>9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 flipV="1">
            <a:off x="777600" y="4708440"/>
            <a:ext cx="1522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50800" y="4441680"/>
            <a:ext cx="40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3300"/>
                </a:solidFill>
                <a:latin typeface="Times New Roman"/>
              </a:rPr>
              <a:t>1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 flipV="1">
            <a:off x="777600" y="564336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49360" y="537840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3300"/>
                </a:solidFill>
                <a:latin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H="1" flipV="1">
            <a:off x="777600" y="701172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160" y="6588000"/>
            <a:ext cx="610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3300"/>
                </a:solidFill>
                <a:latin typeface="Times New Roman"/>
              </a:rPr>
              <a:t>99 +?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5505480" y="560664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5505480" y="469224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505480" y="381600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77120" y="3564000"/>
            <a:ext cx="33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3300"/>
                </a:solidFill>
                <a:latin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583240" y="4500720"/>
            <a:ext cx="33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3300"/>
                </a:solidFill>
                <a:latin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51200" y="1854360"/>
            <a:ext cx="3866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71720" y="2762280"/>
            <a:ext cx="3866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71720" y="3699000"/>
            <a:ext cx="3866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71720" y="4643280"/>
            <a:ext cx="3866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71000" y="5499000"/>
            <a:ext cx="378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71360" y="6939000"/>
            <a:ext cx="42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281040" y="7667640"/>
            <a:ext cx="42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213600" y="4645080"/>
            <a:ext cx="3866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190560" y="5581800"/>
            <a:ext cx="378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81920" y="3710160"/>
            <a:ext cx="3866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984920" y="2867040"/>
            <a:ext cx="3618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U - 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432320" y="3095640"/>
            <a:ext cx="5335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414320" y="2851200"/>
            <a:ext cx="573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50  CP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5479920" y="2879280"/>
            <a:ext cx="1526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551560" y="2627280"/>
            <a:ext cx="33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3300"/>
                </a:solidFill>
                <a:latin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181920" y="2844720"/>
            <a:ext cx="3866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162480" y="6510240"/>
            <a:ext cx="42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996920" y="2916360"/>
            <a:ext cx="144720" cy="14436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996920" y="2124000"/>
            <a:ext cx="144720" cy="14436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996920" y="3851280"/>
            <a:ext cx="144720" cy="14436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996920" y="4788000"/>
            <a:ext cx="144720" cy="14436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989000" y="5605560"/>
            <a:ext cx="362160" cy="6429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P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.T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4292640" y="3058920"/>
            <a:ext cx="144360" cy="14436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4292640" y="3995640"/>
            <a:ext cx="144360" cy="1447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4292640" y="4932000"/>
            <a:ext cx="144360" cy="14436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930480" y="5513400"/>
            <a:ext cx="362160" cy="6429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P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.T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1052280" y="1476000"/>
            <a:ext cx="21564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93000" y="1260360"/>
            <a:ext cx="63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3300"/>
                </a:solidFill>
                <a:latin typeface="Times New Roman"/>
              </a:rPr>
              <a:t>8 AS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348000" y="738036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33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591160" y="5376960"/>
            <a:ext cx="480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3300"/>
                </a:solidFill>
                <a:latin typeface="Times New Roman"/>
              </a:rPr>
              <a:t>31 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3300"/>
                </a:solidFill>
                <a:latin typeface="Times New Roman"/>
              </a:rPr>
              <a:t>35 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229360" y="6227640"/>
            <a:ext cx="360360" cy="50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306040" y="6673680"/>
            <a:ext cx="63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3300"/>
                </a:solidFill>
                <a:latin typeface="Times New Roman"/>
              </a:rPr>
              <a:t>4 AS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82680" y="1809720"/>
            <a:ext cx="3333960" cy="3070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BOZZA AGGIORNATA   AL 24 / 05 / 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6800" y="946080"/>
            <a:ext cx="1139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OSPEDA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730760" y="946080"/>
            <a:ext cx="79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UFFI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492280" y="5724360"/>
            <a:ext cx="144144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92280" y="5796000"/>
            <a:ext cx="144144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988000" y="5435640"/>
            <a:ext cx="72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00  C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054960" y="5737320"/>
            <a:ext cx="659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3300"/>
                </a:solidFill>
                <a:latin typeface="Times New Roman"/>
              </a:rPr>
              <a:t>8 F. O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84360" y="8545680"/>
            <a:ext cx="155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Tot. P.d.l. 522 + ???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038480" y="7524720"/>
            <a:ext cx="1235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Tot. P.d.l. 169 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173 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1052280" y="7451640"/>
            <a:ext cx="21564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56920" y="8278920"/>
            <a:ext cx="729360" cy="246240"/>
          </a:xfrm>
          <a:prstGeom prst="rect">
            <a:avLst/>
          </a:prstGeom>
          <a:solidFill>
            <a:srgbClr val="ffff00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OUR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1844640" y="6876720"/>
            <a:ext cx="216000" cy="14436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2060640" y="6227640"/>
            <a:ext cx="0" cy="64944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709720" y="6443640"/>
            <a:ext cx="4320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Times New Roman"/>
              </a:rPr>
              <a:t>C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Times New Roman"/>
              </a:rPr>
              <a:t>C.S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H="1" flipV="1">
            <a:off x="2276280" y="6227280"/>
            <a:ext cx="215640" cy="28908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1483920" y="7020000"/>
            <a:ext cx="3603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133000" y="6227640"/>
            <a:ext cx="573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50  CP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492280" y="6516720"/>
            <a:ext cx="144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997360" y="6948360"/>
            <a:ext cx="287280" cy="6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126440" y="7496280"/>
            <a:ext cx="573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30  CP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419200" y="5580000"/>
            <a:ext cx="362160" cy="6429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P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.T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058840" y="7667640"/>
            <a:ext cx="362160" cy="3556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Times New Roman"/>
              </a:rPr>
              <a:t>L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205000" y="6227640"/>
            <a:ext cx="0" cy="129708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4800" y="6848640"/>
            <a:ext cx="573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30  CP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00080" y="8062920"/>
            <a:ext cx="863640" cy="246240"/>
          </a:xfrm>
          <a:prstGeom prst="rect">
            <a:avLst/>
          </a:prstGeom>
          <a:solidFill>
            <a:srgbClr val="ffff00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LUDOTE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20640" y="7888320"/>
            <a:ext cx="362160" cy="3556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567160" y="7321680"/>
            <a:ext cx="33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3300"/>
                </a:solidFill>
                <a:latin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2565360" y="758304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1125360" y="7956360"/>
            <a:ext cx="21600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270080" y="7826400"/>
            <a:ext cx="33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3300"/>
                </a:solidFill>
                <a:latin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NC01GBCO" descr=""/>
          <p:cNvPicPr/>
          <p:nvPr/>
        </p:nvPicPr>
        <p:blipFill>
          <a:blip r:embed="rId2"/>
          <a:stretch/>
        </p:blipFill>
        <p:spPr>
          <a:xfrm>
            <a:off x="6165720" y="208080"/>
            <a:ext cx="576360" cy="5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19000" y="108000"/>
            <a:ext cx="58867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MONTANTI  DATI BOZZA</a:t>
            </a:r>
            <a:br>
              <a:rPr sz="2000"/>
            </a:b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COTUGNO - BA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304920" y="152280"/>
            <a:ext cx="1780920" cy="51444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968400" y="1863720"/>
            <a:ext cx="3618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O - 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968400" y="2778120"/>
            <a:ext cx="3618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O - 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968400" y="3692520"/>
            <a:ext cx="3618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O -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968400" y="4606920"/>
            <a:ext cx="3618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O-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907920" y="5521320"/>
            <a:ext cx="42228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O – 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907920" y="6450120"/>
            <a:ext cx="374760" cy="642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O - -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010120" y="3624120"/>
            <a:ext cx="36216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U -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010120" y="4538520"/>
            <a:ext cx="36360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U -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037120" y="5452920"/>
            <a:ext cx="33660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U – 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00"/>
                </a:solidFill>
                <a:latin typeface="Times New Roman"/>
              </a:rPr>
              <a:t>C.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133720" y="2254320"/>
            <a:ext cx="0" cy="303840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482840" y="2168640"/>
            <a:ext cx="533160" cy="144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482840" y="3006720"/>
            <a:ext cx="533160" cy="144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482840" y="3921120"/>
            <a:ext cx="533160" cy="144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482840" y="4835520"/>
            <a:ext cx="533160" cy="144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565360" y="5867280"/>
            <a:ext cx="244800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457880" y="3997440"/>
            <a:ext cx="5331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069720" y="8604360"/>
            <a:ext cx="111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. Dabbicco 20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292640" y="3218040"/>
            <a:ext cx="0" cy="214596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H="1" flipV="1">
            <a:off x="777600" y="195876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51160" y="1692360"/>
            <a:ext cx="33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3300"/>
                </a:solidFill>
                <a:latin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 flipV="1">
            <a:off x="777600" y="296676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50800" y="2700360"/>
            <a:ext cx="40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3300"/>
                </a:solidFill>
                <a:latin typeface="Times New Roman"/>
              </a:rPr>
              <a:t>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777600" y="390168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51160" y="3637080"/>
            <a:ext cx="33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3300"/>
                </a:solidFill>
                <a:latin typeface="Times New Roman"/>
              </a:rPr>
              <a:t>9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777600" y="4767120"/>
            <a:ext cx="1522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50800" y="4500720"/>
            <a:ext cx="40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3300"/>
                </a:solidFill>
                <a:latin typeface="Times New Roman"/>
              </a:rPr>
              <a:t>1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633240" y="548460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04640" y="5219640"/>
            <a:ext cx="3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3300"/>
                </a:solidFill>
                <a:latin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H="1" flipV="1">
            <a:off x="585720" y="644328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90800" y="6227640"/>
            <a:ext cx="64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3300"/>
                </a:solidFill>
                <a:latin typeface="Times New Roman"/>
              </a:rPr>
              <a:t>99 + ?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5516640" y="546372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5516640" y="441756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505480" y="367308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577120" y="3421080"/>
            <a:ext cx="33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3300"/>
                </a:solidFill>
                <a:latin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662800" y="4226040"/>
            <a:ext cx="33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3300"/>
                </a:solidFill>
                <a:latin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51200" y="1913040"/>
            <a:ext cx="3866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71720" y="2820960"/>
            <a:ext cx="3866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71720" y="3757680"/>
            <a:ext cx="3866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71720" y="4702320"/>
            <a:ext cx="3866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71000" y="5557680"/>
            <a:ext cx="378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85400" y="6643800"/>
            <a:ext cx="42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165120" y="6877080"/>
            <a:ext cx="42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213600" y="4502160"/>
            <a:ext cx="3866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190560" y="5438880"/>
            <a:ext cx="378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181920" y="3567240"/>
            <a:ext cx="3866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984920" y="2724120"/>
            <a:ext cx="3618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U - 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432320" y="3097080"/>
            <a:ext cx="5335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479920" y="2736360"/>
            <a:ext cx="1526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551560" y="2484360"/>
            <a:ext cx="33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3300"/>
                </a:solidFill>
                <a:latin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181920" y="2701800"/>
            <a:ext cx="3866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162480" y="6367320"/>
            <a:ext cx="42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996920" y="2975040"/>
            <a:ext cx="144720" cy="14436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996920" y="2182680"/>
            <a:ext cx="144720" cy="1447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996920" y="3909960"/>
            <a:ext cx="144720" cy="14436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996920" y="4846680"/>
            <a:ext cx="144720" cy="14436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4292640" y="3060360"/>
            <a:ext cx="144360" cy="14436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4292640" y="3997080"/>
            <a:ext cx="144360" cy="14436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386160" y="658800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33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591160" y="523404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3300"/>
                </a:solidFill>
                <a:latin typeface="Times New Roman"/>
              </a:rPr>
              <a:t>31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65720" y="1030320"/>
            <a:ext cx="1003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OSPED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730760" y="1030320"/>
            <a:ext cx="70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UFFI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349360" y="2122560"/>
            <a:ext cx="0" cy="324144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12920" y="2843280"/>
            <a:ext cx="144360" cy="14436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212920" y="2050920"/>
            <a:ext cx="144360" cy="14472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212920" y="3778200"/>
            <a:ext cx="144360" cy="14436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212920" y="4714920"/>
            <a:ext cx="144360" cy="14436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H="1">
            <a:off x="1484280" y="2050920"/>
            <a:ext cx="72072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1484280" y="2843280"/>
            <a:ext cx="72072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1484280" y="3780000"/>
            <a:ext cx="72072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1484280" y="4716360"/>
            <a:ext cx="72072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2565360" y="5796000"/>
            <a:ext cx="244800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4076280" y="2930400"/>
            <a:ext cx="1800" cy="244800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367520" y="3073320"/>
            <a:ext cx="529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3 UT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4078440" y="2850840"/>
            <a:ext cx="144360" cy="14436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4078440" y="3787560"/>
            <a:ext cx="144360" cy="14436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221000" y="2857680"/>
            <a:ext cx="79236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221000" y="3794040"/>
            <a:ext cx="79236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367520" y="3981600"/>
            <a:ext cx="529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3 UT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481640" y="4946760"/>
            <a:ext cx="529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3 UT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486080" y="2195640"/>
            <a:ext cx="529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3 UT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486080" y="3032280"/>
            <a:ext cx="529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3 UT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486080" y="3924360"/>
            <a:ext cx="529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3 UT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457640" y="4832280"/>
            <a:ext cx="529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3 UT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558080" y="1806480"/>
            <a:ext cx="549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ff3300"/>
                </a:solidFill>
                <a:latin typeface="Times New Roman"/>
              </a:rPr>
              <a:t>8 F. 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042000" y="5867280"/>
            <a:ext cx="529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3 UT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558080" y="4500720"/>
            <a:ext cx="549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ff3300"/>
                </a:solidFill>
                <a:latin typeface="Times New Roman"/>
              </a:rPr>
              <a:t>8 F. 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558080" y="3564000"/>
            <a:ext cx="549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ff3300"/>
                </a:solidFill>
                <a:latin typeface="Times New Roman"/>
              </a:rPr>
              <a:t>8 F. 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463280" y="2641680"/>
            <a:ext cx="549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ff3300"/>
                </a:solidFill>
                <a:latin typeface="Times New Roman"/>
              </a:rPr>
              <a:t>8 F. 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463280" y="3549600"/>
            <a:ext cx="549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ff3300"/>
                </a:solidFill>
                <a:latin typeface="Times New Roman"/>
              </a:rPr>
              <a:t>8 F. 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943000" y="5551560"/>
            <a:ext cx="77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ff3300"/>
                </a:solidFill>
                <a:latin typeface="Times New Roman"/>
              </a:rPr>
              <a:t>2 x 8  F. 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558080" y="2598840"/>
            <a:ext cx="549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ff3300"/>
                </a:solidFill>
                <a:latin typeface="Times New Roman"/>
              </a:rPr>
              <a:t>8 F. 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33840" y="7969320"/>
            <a:ext cx="1125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Tot. P.d.l. 169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30280" y="8340840"/>
            <a:ext cx="147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Tot. P.d.l. 514 + ??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484280" y="6443640"/>
            <a:ext cx="504720" cy="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H="1">
            <a:off x="1989000" y="6300720"/>
            <a:ext cx="144720" cy="1429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484280" y="6588000"/>
            <a:ext cx="57636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1989000" y="6443280"/>
            <a:ext cx="216000" cy="14436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82680" y="1809720"/>
            <a:ext cx="3333960" cy="3070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BOZZA AGGIORNATA   AL 24 / 05 / 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4076640" y="4730400"/>
            <a:ext cx="144360" cy="14436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V="1">
            <a:off x="4292640" y="4946400"/>
            <a:ext cx="144360" cy="14436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221000" y="4730760"/>
            <a:ext cx="72072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437000" y="4946760"/>
            <a:ext cx="5763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37720" y="4514760"/>
            <a:ext cx="549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ff3300"/>
                </a:solidFill>
                <a:latin typeface="Times New Roman"/>
              </a:rPr>
              <a:t>8 F. 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2133720" y="6156000"/>
            <a:ext cx="0" cy="14436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V="1">
            <a:off x="2205000" y="6084360"/>
            <a:ext cx="0" cy="35892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1483920" y="6012000"/>
            <a:ext cx="3603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484280" y="5867280"/>
            <a:ext cx="36036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559160" y="6227640"/>
            <a:ext cx="529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3 UT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510560" y="6559560"/>
            <a:ext cx="549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ff3300"/>
                </a:solidFill>
                <a:latin typeface="Times New Roman"/>
              </a:rPr>
              <a:t>8 F. 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907560" y="7093080"/>
            <a:ext cx="71640" cy="35856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120" y="8101080"/>
            <a:ext cx="729360" cy="246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ORG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052640" y="7093080"/>
            <a:ext cx="72720" cy="35856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78080" y="7207200"/>
            <a:ext cx="529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3 UT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053360" y="7207200"/>
            <a:ext cx="549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ff3300"/>
                </a:solidFill>
                <a:latin typeface="Times New Roman"/>
              </a:rPr>
              <a:t>8 F. 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916280" y="5475240"/>
            <a:ext cx="5047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Times New Roman"/>
              </a:rPr>
              <a:t>C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Times New Roman"/>
              </a:rPr>
              <a:t>C.S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437000" y="5508720"/>
            <a:ext cx="57636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292640" y="5364000"/>
            <a:ext cx="144360" cy="1447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076640" y="5364000"/>
            <a:ext cx="289080" cy="28764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365720" y="5651640"/>
            <a:ext cx="64764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565360" y="5940360"/>
            <a:ext cx="64764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765000" y="7674120"/>
            <a:ext cx="374760" cy="426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117880" y="7380360"/>
            <a:ext cx="374400" cy="426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Times New Roman"/>
              </a:rPr>
              <a:t>L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904760" y="7856640"/>
            <a:ext cx="863640" cy="246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LUDOTE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349360" y="6084720"/>
            <a:ext cx="0" cy="107964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421000" y="6084720"/>
            <a:ext cx="144360" cy="107964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446920" y="6732720"/>
            <a:ext cx="549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ff3300"/>
                </a:solidFill>
                <a:latin typeface="Times New Roman"/>
              </a:rPr>
              <a:t>8 F. 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889280" y="6732720"/>
            <a:ext cx="529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3 UT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2637000" y="743868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 flipV="1">
            <a:off x="1268280" y="7654680"/>
            <a:ext cx="1526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710080" y="738036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3300"/>
                </a:solidFill>
                <a:latin typeface="Times New Roman"/>
              </a:rPr>
              <a:t>12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343160" y="759636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3300"/>
                </a:solidFill>
                <a:latin typeface="Times New Roman"/>
              </a:rPr>
              <a:t>12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6" name="NC01GBCO" descr=""/>
          <p:cNvPicPr/>
          <p:nvPr/>
        </p:nvPicPr>
        <p:blipFill>
          <a:blip r:embed="rId2"/>
          <a:stretch/>
        </p:blipFill>
        <p:spPr>
          <a:xfrm>
            <a:off x="6237360" y="208080"/>
            <a:ext cx="50472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1660680" y="4079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1780920" cy="514440"/>
          </a:xfrm>
          <a:prstGeom prst="rect">
            <a:avLst/>
          </a:prstGeom>
          <a:ln w="0">
            <a:noFill/>
          </a:ln>
        </p:spPr>
      </p:pic>
      <p:sp>
        <p:nvSpPr>
          <p:cNvPr id="289" name=""/>
          <p:cNvSpPr/>
          <p:nvPr/>
        </p:nvSpPr>
        <p:spPr>
          <a:xfrm>
            <a:off x="549360" y="4716360"/>
            <a:ext cx="58291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Distribuzione montan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484280" y="2987640"/>
            <a:ext cx="39164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Times New Roman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Times New Roman"/>
              </a:rPr>
              <a:t>  “ </a:t>
            </a:r>
            <a:r>
              <a:rPr b="1" lang="it-IT" sz="2400" spc="-1" strike="noStrike">
                <a:solidFill>
                  <a:srgbClr val="ff0000"/>
                </a:solidFill>
                <a:latin typeface="Times New Roman"/>
              </a:rPr>
              <a:t>COTUGNO – BARI 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</a:rPr>
              <a:t>Cablaggio strutturato  fonia – dati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478400" y="8618400"/>
            <a:ext cx="1087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A. DABBICCO 200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491560" y="6673680"/>
            <a:ext cx="2230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3300"/>
                </a:solidFill>
                <a:latin typeface="Times New Roman"/>
              </a:rPr>
              <a:t>AGGIORNATA AL 24 / 05 / 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3" name="NC01GBCO" descr=""/>
          <p:cNvPicPr/>
          <p:nvPr/>
        </p:nvPicPr>
        <p:blipFill>
          <a:blip r:embed="rId2"/>
          <a:stretch/>
        </p:blipFill>
        <p:spPr>
          <a:xfrm>
            <a:off x="6237360" y="208080"/>
            <a:ext cx="50472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24T08:22:21Z</dcterms:created>
  <dc:creator>DABBICCO TELECOMUNICAZIONI</dc:creator>
  <dc:description/>
  <dc:language>en-US</dc:language>
  <cp:lastModifiedBy>irccs</cp:lastModifiedBy>
  <dcterms:modified xsi:type="dcterms:W3CDTF">2008-09-05T11:46:17Z</dcterms:modified>
  <cp:revision>59</cp:revision>
  <dc:subject/>
  <dc:title>MONTANTI FONIA</dc:title>
</cp:coreProperties>
</file>