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3B4-BEA2-4CFE-95CB-1359642D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14A-B144-4E79-B701-CCE67CE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72E-9141-445C-9DA3-B09D768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25D-8928-467B-829B-0DC46D5C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65D-5D1C-44E3-B69D-59E26BC2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06A-26F9-4B64-8C96-D371C05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F0D-9E63-4E25-9311-713DF3E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4E3-B37C-4F25-BC19-CA3F8FBD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BA0-5A1B-44F7-9E6E-24DE144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D43-FDD4-4084-A4D3-9ECEED3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D4C-E505-4186-99E3-2DC307B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B8C-804D-4B74-A790-B644358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749-E94D-4673-90A1-C0261479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907920"/>
            <a:ext cx="774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72360" y="923760"/>
            <a:ext cx="0" cy="8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72360" y="1719360"/>
            <a:ext cx="63036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02720" y="1728720"/>
            <a:ext cx="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02720" y="3338640"/>
            <a:ext cx="0" cy="34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1640" y="923760"/>
            <a:ext cx="0" cy="556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93080" y="1012680"/>
            <a:ext cx="987120" cy="795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13440" y="998640"/>
            <a:ext cx="809640" cy="80964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9080" y="998640"/>
            <a:ext cx="900360" cy="730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0200" y="998640"/>
            <a:ext cx="1079280" cy="720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1640" y="998640"/>
            <a:ext cx="1079640" cy="1065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2360" y="1268280"/>
            <a:ext cx="98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ack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mplific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38640" y="108900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addri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en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ele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2000" y="90792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f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1640" y="998640"/>
            <a:ext cx="108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ut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1640" y="1089000"/>
            <a:ext cx="108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ut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o R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1200" y="20779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.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7040" y="397044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posizione rack  locale tecnico Ospedale  Cotu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0920" y="4428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5,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69160" y="998640"/>
            <a:ext cx="1079280" cy="1065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3800" y="21398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.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6988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ack  D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entro St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000" y="998640"/>
            <a:ext cx="1079640" cy="1065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000" y="1089000"/>
            <a:ext cx="108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ut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o R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20779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.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640" y="1012680"/>
            <a:ext cx="270000" cy="255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20200" y="1282680"/>
            <a:ext cx="530280" cy="18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440" y="31860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gresso tele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780920" cy="514440"/>
          </a:xfrm>
          <a:prstGeom prst="rect">
            <a:avLst/>
          </a:prstGeom>
          <a:ln w="0">
            <a:noFill/>
          </a:ln>
        </p:spPr>
      </p:pic>
      <p:pic>
        <p:nvPicPr>
          <p:cNvPr id="70" name="NC01GBCO" descr=""/>
          <p:cNvPicPr/>
          <p:nvPr/>
        </p:nvPicPr>
        <p:blipFill>
          <a:blip r:embed="rId2"/>
          <a:stretch/>
        </p:blipFill>
        <p:spPr>
          <a:xfrm>
            <a:off x="8405640" y="208080"/>
            <a:ext cx="5763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06:40Z</dcterms:created>
  <dc:creator>ANDA</dc:creator>
  <dc:description/>
  <dc:language>en-US</dc:language>
  <cp:lastModifiedBy>ANDA</cp:lastModifiedBy>
  <dcterms:modified xsi:type="dcterms:W3CDTF">2008-09-05T07:16:16Z</dcterms:modified>
  <cp:revision>7</cp:revision>
  <dc:subject/>
  <dc:title>Diapositiva 1</dc:title>
</cp:coreProperties>
</file>