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11430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877-277A-4129-8C08-436ED67E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582912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6883920"/>
            <a:ext cx="582912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318-1A69-4B86-8DA2-A7745CE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6883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6883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AE9-44B7-4A31-BC7C-DD38442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3301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3301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6883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6883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6883920"/>
            <a:ext cx="18766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4A9-671C-43DC-B6A1-919A73D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0DD-0D90-4B20-A6E8-C2D4987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5829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E4D-E2BD-4B84-9007-23A403BD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284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3301920"/>
            <a:ext cx="284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B3E-D990-4F37-8E57-CC6875C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D78-A06F-47E3-AAC2-BF6E89D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1015920"/>
            <a:ext cx="582912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A31-725B-447F-89F9-13153673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3301920"/>
            <a:ext cx="284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6883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48F-02C9-4123-AE58-DFCF07B7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284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6883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9AF-439F-4D5C-8365-366BF50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3301920"/>
            <a:ext cx="284436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6883920"/>
            <a:ext cx="582912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3C2-48F9-4DC9-9D64-17D90B5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3301920"/>
            <a:ext cx="5829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10414080"/>
            <a:ext cx="142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0414080"/>
            <a:ext cx="217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10414080"/>
            <a:ext cx="142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459C-5F2A-43F3-A6CC-313309B4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33840" y="370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347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3840" y="3019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3840" y="3247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9000" y="3051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9013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9000" y="3267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57720" y="5210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964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57720" y="8451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7720" y="909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92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81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90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53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168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62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25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888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417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60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73720" y="852336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6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67960" y="47070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3051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305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305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05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00640" y="4491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00640" y="4938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028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766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450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2096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9728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028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766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450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2096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9728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700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64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148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9076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70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700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64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148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9076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670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5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180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702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46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224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5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180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46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24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93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701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14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93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701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385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4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90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32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086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766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529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29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32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086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766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529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29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00640" y="845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072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684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404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7560" y="101678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0280" y="10433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7660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4500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20960" y="10433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9728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0280" y="1050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7660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4500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20960" y="1050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9728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68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49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1300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893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65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68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449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1300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93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65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5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0180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020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465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2248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25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0180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7020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465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2248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3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701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385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145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90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93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701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385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145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90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3228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0860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76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529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2928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3228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0860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76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29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2928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072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684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404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7560" y="105998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90080" y="9929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16640" y="10396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22800" y="1039644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21720" y="9891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00640" y="881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17360" y="8524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16640" y="88138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9624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93360" y="8740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9000" y="1061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290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81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590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53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1168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76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62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25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888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417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668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160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79720" y="8451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079720" y="8299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289400" y="837540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79720" y="8223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229000" y="830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92360" y="80186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02440" y="25178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51400" y="499428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30080" y="14670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14440" y="385560"/>
            <a:ext cx="58291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O.  4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75880" y="881064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postazioni Ascens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29360" y="27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02440" y="2114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00280" y="233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16280" y="252576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922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685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448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208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494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257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020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543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306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066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29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352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115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638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64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924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687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0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973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368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4964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259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922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685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448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208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734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494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257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020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543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306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066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829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352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115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878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638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164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924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687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450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973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7368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4964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259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54560" y="27543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54560" y="26240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16280" y="2225520"/>
            <a:ext cx="267480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68560" y="22255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52800" y="1752480"/>
            <a:ext cx="2317680" cy="895320"/>
          </a:xfrm>
          <a:custGeom>
            <a:avLst/>
            <a:gdLst/>
            <a:ahLst/>
            <a:rect l="l" t="t" r="r" b="b"/>
            <a:pathLst>
              <a:path w="1460" h="564">
                <a:moveTo>
                  <a:pt x="0" y="0"/>
                </a:moveTo>
                <a:cubicBezTo>
                  <a:pt x="2" y="22"/>
                  <a:pt x="0" y="45"/>
                  <a:pt x="6" y="66"/>
                </a:cubicBezTo>
                <a:cubicBezTo>
                  <a:pt x="12" y="86"/>
                  <a:pt x="28" y="83"/>
                  <a:pt x="42" y="90"/>
                </a:cubicBezTo>
                <a:cubicBezTo>
                  <a:pt x="123" y="130"/>
                  <a:pt x="125" y="119"/>
                  <a:pt x="246" y="126"/>
                </a:cubicBezTo>
                <a:cubicBezTo>
                  <a:pt x="274" y="128"/>
                  <a:pt x="302" y="130"/>
                  <a:pt x="330" y="132"/>
                </a:cubicBezTo>
                <a:cubicBezTo>
                  <a:pt x="562" y="178"/>
                  <a:pt x="843" y="154"/>
                  <a:pt x="1080" y="162"/>
                </a:cubicBezTo>
                <a:cubicBezTo>
                  <a:pt x="1144" y="169"/>
                  <a:pt x="1203" y="180"/>
                  <a:pt x="1266" y="186"/>
                </a:cubicBezTo>
                <a:cubicBezTo>
                  <a:pt x="1291" y="192"/>
                  <a:pt x="1310" y="201"/>
                  <a:pt x="1332" y="216"/>
                </a:cubicBezTo>
                <a:cubicBezTo>
                  <a:pt x="1358" y="255"/>
                  <a:pt x="1375" y="301"/>
                  <a:pt x="1398" y="342"/>
                </a:cubicBezTo>
                <a:cubicBezTo>
                  <a:pt x="1429" y="399"/>
                  <a:pt x="1406" y="379"/>
                  <a:pt x="1440" y="402"/>
                </a:cubicBezTo>
                <a:cubicBezTo>
                  <a:pt x="1460" y="462"/>
                  <a:pt x="1458" y="491"/>
                  <a:pt x="1458" y="56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24200" y="2617920"/>
            <a:ext cx="492120" cy="1915920"/>
          </a:xfrm>
          <a:custGeom>
            <a:avLst/>
            <a:gdLst/>
            <a:ahLst/>
            <a:rect l="l" t="t" r="r" b="b"/>
            <a:pathLst>
              <a:path w="310" h="1207">
                <a:moveTo>
                  <a:pt x="66" y="7"/>
                </a:moveTo>
                <a:cubicBezTo>
                  <a:pt x="38" y="0"/>
                  <a:pt x="28" y="6"/>
                  <a:pt x="0" y="13"/>
                </a:cubicBezTo>
                <a:cubicBezTo>
                  <a:pt x="2" y="31"/>
                  <a:pt x="1" y="50"/>
                  <a:pt x="6" y="67"/>
                </a:cubicBezTo>
                <a:cubicBezTo>
                  <a:pt x="22" y="121"/>
                  <a:pt x="23" y="103"/>
                  <a:pt x="48" y="133"/>
                </a:cubicBezTo>
                <a:cubicBezTo>
                  <a:pt x="94" y="189"/>
                  <a:pt x="132" y="229"/>
                  <a:pt x="204" y="247"/>
                </a:cubicBezTo>
                <a:cubicBezTo>
                  <a:pt x="217" y="256"/>
                  <a:pt x="233" y="262"/>
                  <a:pt x="246" y="271"/>
                </a:cubicBezTo>
                <a:cubicBezTo>
                  <a:pt x="266" y="285"/>
                  <a:pt x="273" y="305"/>
                  <a:pt x="294" y="319"/>
                </a:cubicBezTo>
                <a:cubicBezTo>
                  <a:pt x="310" y="385"/>
                  <a:pt x="285" y="454"/>
                  <a:pt x="264" y="517"/>
                </a:cubicBezTo>
                <a:cubicBezTo>
                  <a:pt x="259" y="532"/>
                  <a:pt x="246" y="544"/>
                  <a:pt x="240" y="559"/>
                </a:cubicBezTo>
                <a:cubicBezTo>
                  <a:pt x="226" y="594"/>
                  <a:pt x="215" y="634"/>
                  <a:pt x="198" y="667"/>
                </a:cubicBezTo>
                <a:cubicBezTo>
                  <a:pt x="184" y="696"/>
                  <a:pt x="161" y="713"/>
                  <a:pt x="144" y="739"/>
                </a:cubicBezTo>
                <a:cubicBezTo>
                  <a:pt x="138" y="762"/>
                  <a:pt x="127" y="777"/>
                  <a:pt x="120" y="799"/>
                </a:cubicBezTo>
                <a:cubicBezTo>
                  <a:pt x="115" y="859"/>
                  <a:pt x="113" y="919"/>
                  <a:pt x="108" y="979"/>
                </a:cubicBezTo>
                <a:cubicBezTo>
                  <a:pt x="105" y="1008"/>
                  <a:pt x="87" y="1041"/>
                  <a:pt x="78" y="1069"/>
                </a:cubicBezTo>
                <a:cubicBezTo>
                  <a:pt x="82" y="1099"/>
                  <a:pt x="81" y="1130"/>
                  <a:pt x="90" y="1159"/>
                </a:cubicBezTo>
                <a:cubicBezTo>
                  <a:pt x="92" y="1165"/>
                  <a:pt x="102" y="1162"/>
                  <a:pt x="108" y="1165"/>
                </a:cubicBezTo>
                <a:cubicBezTo>
                  <a:pt x="135" y="1178"/>
                  <a:pt x="158" y="1198"/>
                  <a:pt x="186" y="1207"/>
                </a:cubicBezTo>
                <a:cubicBezTo>
                  <a:pt x="179" y="1185"/>
                  <a:pt x="173" y="1183"/>
                  <a:pt x="150" y="1183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27480" y="2800440"/>
            <a:ext cx="1263600" cy="2162160"/>
          </a:xfrm>
          <a:custGeom>
            <a:avLst/>
            <a:gdLst/>
            <a:ahLst/>
            <a:rect l="l" t="t" r="r" b="b"/>
            <a:pathLst>
              <a:path w="796" h="1362">
                <a:moveTo>
                  <a:pt x="0" y="0"/>
                </a:moveTo>
                <a:cubicBezTo>
                  <a:pt x="1" y="28"/>
                  <a:pt x="2" y="56"/>
                  <a:pt x="4" y="84"/>
                </a:cubicBezTo>
                <a:cubicBezTo>
                  <a:pt x="7" y="119"/>
                  <a:pt x="89" y="187"/>
                  <a:pt x="124" y="192"/>
                </a:cubicBezTo>
                <a:cubicBezTo>
                  <a:pt x="147" y="195"/>
                  <a:pt x="169" y="197"/>
                  <a:pt x="192" y="200"/>
                </a:cubicBezTo>
                <a:cubicBezTo>
                  <a:pt x="216" y="204"/>
                  <a:pt x="240" y="208"/>
                  <a:pt x="264" y="212"/>
                </a:cubicBezTo>
                <a:cubicBezTo>
                  <a:pt x="385" y="232"/>
                  <a:pt x="508" y="241"/>
                  <a:pt x="628" y="268"/>
                </a:cubicBezTo>
                <a:cubicBezTo>
                  <a:pt x="653" y="280"/>
                  <a:pt x="664" y="308"/>
                  <a:pt x="684" y="328"/>
                </a:cubicBezTo>
                <a:cubicBezTo>
                  <a:pt x="705" y="391"/>
                  <a:pt x="723" y="453"/>
                  <a:pt x="752" y="512"/>
                </a:cubicBezTo>
                <a:cubicBezTo>
                  <a:pt x="759" y="549"/>
                  <a:pt x="775" y="587"/>
                  <a:pt x="784" y="624"/>
                </a:cubicBezTo>
                <a:cubicBezTo>
                  <a:pt x="786" y="743"/>
                  <a:pt x="789" y="833"/>
                  <a:pt x="796" y="944"/>
                </a:cubicBezTo>
                <a:cubicBezTo>
                  <a:pt x="795" y="989"/>
                  <a:pt x="795" y="1035"/>
                  <a:pt x="792" y="1080"/>
                </a:cubicBezTo>
                <a:cubicBezTo>
                  <a:pt x="790" y="1100"/>
                  <a:pt x="776" y="1114"/>
                  <a:pt x="768" y="1132"/>
                </a:cubicBezTo>
                <a:cubicBezTo>
                  <a:pt x="750" y="1175"/>
                  <a:pt x="711" y="1224"/>
                  <a:pt x="664" y="1236"/>
                </a:cubicBezTo>
                <a:cubicBezTo>
                  <a:pt x="609" y="1235"/>
                  <a:pt x="555" y="1236"/>
                  <a:pt x="500" y="1232"/>
                </a:cubicBezTo>
                <a:cubicBezTo>
                  <a:pt x="484" y="1231"/>
                  <a:pt x="452" y="1220"/>
                  <a:pt x="452" y="1220"/>
                </a:cubicBezTo>
                <a:cubicBezTo>
                  <a:pt x="376" y="1221"/>
                  <a:pt x="300" y="1219"/>
                  <a:pt x="224" y="1224"/>
                </a:cubicBezTo>
                <a:cubicBezTo>
                  <a:pt x="218" y="1224"/>
                  <a:pt x="191" y="1244"/>
                  <a:pt x="184" y="1248"/>
                </a:cubicBezTo>
                <a:cubicBezTo>
                  <a:pt x="142" y="1269"/>
                  <a:pt x="106" y="1286"/>
                  <a:pt x="72" y="1320"/>
                </a:cubicBezTo>
                <a:cubicBezTo>
                  <a:pt x="69" y="1328"/>
                  <a:pt x="40" y="1362"/>
                  <a:pt x="60" y="135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00160" y="8661240"/>
            <a:ext cx="216000" cy="1308240"/>
          </a:xfrm>
          <a:custGeom>
            <a:avLst/>
            <a:gdLst/>
            <a:ahLst/>
            <a:rect l="l" t="t" r="r" b="b"/>
            <a:pathLst>
              <a:path w="136" h="824">
                <a:moveTo>
                  <a:pt x="108" y="0"/>
                </a:moveTo>
                <a:cubicBezTo>
                  <a:pt x="91" y="6"/>
                  <a:pt x="82" y="18"/>
                  <a:pt x="68" y="28"/>
                </a:cubicBezTo>
                <a:cubicBezTo>
                  <a:pt x="60" y="34"/>
                  <a:pt x="52" y="39"/>
                  <a:pt x="44" y="44"/>
                </a:cubicBezTo>
                <a:cubicBezTo>
                  <a:pt x="40" y="47"/>
                  <a:pt x="32" y="52"/>
                  <a:pt x="32" y="52"/>
                </a:cubicBezTo>
                <a:cubicBezTo>
                  <a:pt x="22" y="82"/>
                  <a:pt x="37" y="46"/>
                  <a:pt x="16" y="72"/>
                </a:cubicBezTo>
                <a:cubicBezTo>
                  <a:pt x="10" y="80"/>
                  <a:pt x="3" y="98"/>
                  <a:pt x="0" y="108"/>
                </a:cubicBezTo>
                <a:cubicBezTo>
                  <a:pt x="1" y="187"/>
                  <a:pt x="2" y="265"/>
                  <a:pt x="4" y="344"/>
                </a:cubicBezTo>
                <a:cubicBezTo>
                  <a:pt x="6" y="402"/>
                  <a:pt x="6" y="470"/>
                  <a:pt x="20" y="528"/>
                </a:cubicBezTo>
                <a:cubicBezTo>
                  <a:pt x="29" y="562"/>
                  <a:pt x="48" y="595"/>
                  <a:pt x="60" y="628"/>
                </a:cubicBezTo>
                <a:cubicBezTo>
                  <a:pt x="66" y="644"/>
                  <a:pt x="68" y="665"/>
                  <a:pt x="76" y="680"/>
                </a:cubicBezTo>
                <a:cubicBezTo>
                  <a:pt x="86" y="700"/>
                  <a:pt x="87" y="685"/>
                  <a:pt x="92" y="716"/>
                </a:cubicBezTo>
                <a:cubicBezTo>
                  <a:pt x="96" y="740"/>
                  <a:pt x="107" y="760"/>
                  <a:pt x="112" y="784"/>
                </a:cubicBezTo>
                <a:cubicBezTo>
                  <a:pt x="114" y="796"/>
                  <a:pt x="111" y="811"/>
                  <a:pt x="120" y="820"/>
                </a:cubicBezTo>
                <a:cubicBezTo>
                  <a:pt x="123" y="823"/>
                  <a:pt x="128" y="823"/>
                  <a:pt x="132" y="824"/>
                </a:cubicBezTo>
                <a:cubicBezTo>
                  <a:pt x="133" y="820"/>
                  <a:pt x="136" y="812"/>
                  <a:pt x="136" y="8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27480" y="8948880"/>
            <a:ext cx="1127160" cy="1261800"/>
          </a:xfrm>
          <a:custGeom>
            <a:avLst/>
            <a:gdLst/>
            <a:ahLst/>
            <a:rect l="l" t="t" r="r" b="b"/>
            <a:pathLst>
              <a:path w="710" h="795">
                <a:moveTo>
                  <a:pt x="0" y="703"/>
                </a:moveTo>
                <a:cubicBezTo>
                  <a:pt x="25" y="745"/>
                  <a:pt x="24" y="755"/>
                  <a:pt x="60" y="779"/>
                </a:cubicBezTo>
                <a:cubicBezTo>
                  <a:pt x="71" y="786"/>
                  <a:pt x="96" y="795"/>
                  <a:pt x="96" y="795"/>
                </a:cubicBezTo>
                <a:cubicBezTo>
                  <a:pt x="132" y="794"/>
                  <a:pt x="168" y="793"/>
                  <a:pt x="204" y="791"/>
                </a:cubicBezTo>
                <a:cubicBezTo>
                  <a:pt x="223" y="790"/>
                  <a:pt x="249" y="772"/>
                  <a:pt x="268" y="767"/>
                </a:cubicBezTo>
                <a:cubicBezTo>
                  <a:pt x="310" y="755"/>
                  <a:pt x="343" y="754"/>
                  <a:pt x="388" y="751"/>
                </a:cubicBezTo>
                <a:cubicBezTo>
                  <a:pt x="457" y="728"/>
                  <a:pt x="533" y="741"/>
                  <a:pt x="604" y="755"/>
                </a:cubicBezTo>
                <a:cubicBezTo>
                  <a:pt x="665" y="749"/>
                  <a:pt x="640" y="755"/>
                  <a:pt x="672" y="723"/>
                </a:cubicBezTo>
                <a:cubicBezTo>
                  <a:pt x="710" y="609"/>
                  <a:pt x="683" y="695"/>
                  <a:pt x="672" y="387"/>
                </a:cubicBezTo>
                <a:cubicBezTo>
                  <a:pt x="671" y="349"/>
                  <a:pt x="645" y="304"/>
                  <a:pt x="636" y="267"/>
                </a:cubicBezTo>
                <a:cubicBezTo>
                  <a:pt x="610" y="164"/>
                  <a:pt x="565" y="64"/>
                  <a:pt x="448" y="47"/>
                </a:cubicBezTo>
                <a:cubicBezTo>
                  <a:pt x="418" y="37"/>
                  <a:pt x="387" y="31"/>
                  <a:pt x="356" y="23"/>
                </a:cubicBezTo>
                <a:cubicBezTo>
                  <a:pt x="265" y="0"/>
                  <a:pt x="76" y="19"/>
                  <a:pt x="76" y="19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"/>
          <p:cNvSpPr/>
          <p:nvPr/>
        </p:nvSpPr>
        <p:spPr>
          <a:xfrm>
            <a:off x="1673280" y="1160640"/>
            <a:ext cx="3124080" cy="99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1847880" y="1846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1847880" y="3218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1847880" y="2303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1847880" y="2989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1847880" y="2075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 flipV="1">
            <a:off x="1676520" y="58392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 flipV="1">
            <a:off x="4800600" y="58392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209680" y="584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 flipV="1">
            <a:off x="4797360" y="1080900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743200" y="888840"/>
            <a:ext cx="39996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3581280" y="888840"/>
            <a:ext cx="40032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1847880" y="3446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1847880" y="1617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847880" y="1389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1847880" y="1160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1847880" y="2760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1847880" y="6647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847880" y="7572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847880" y="7104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847880" y="7800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847880" y="6875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1847880" y="8029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1847880" y="6418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1847880" y="6189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1847880" y="5961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1847880" y="7332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4533840" y="4361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4533840" y="550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4533840" y="4818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533840" y="527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4533840" y="4589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4533840" y="573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4533840" y="4132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4533840" y="3903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4533840" y="3675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533840" y="5046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1847880" y="4361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847880" y="550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1847880" y="4818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1847880" y="527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1847880" y="4589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47880" y="573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1847880" y="4132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1847880" y="3903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1847880" y="3675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1847880" y="5046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4533840" y="1846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4533840" y="3218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4533840" y="2303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4533840" y="2989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4533840" y="2075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4533840" y="3446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4533840" y="1617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4533840" y="1389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4533840" y="1160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4533840" y="2760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4533840" y="664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4533840" y="8258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4533840" y="7104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4533840" y="756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4533840" y="687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4533840" y="8029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4533840" y="641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4533840" y="618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4533840" y="596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4533840" y="733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4533840" y="664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4533840" y="7104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4533840" y="756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4533840" y="687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533840" y="641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533840" y="618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4533840" y="596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533840" y="733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533840" y="664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533840" y="7800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4533840" y="7104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4533840" y="756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4533840" y="687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4533840" y="641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4533840" y="618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4533840" y="596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4533840" y="733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1847880" y="8258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1886040" y="8715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1809720" y="8715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1981080" y="368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060640" y="7353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V="1">
            <a:off x="4797360" y="105930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753200" y="208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753200" y="231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1753200" y="3008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847880" y="6200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1753200" y="6886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753200" y="73580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5084640" y="584280"/>
            <a:ext cx="20880" cy="1029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847880" y="8486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1847880" y="8715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1847880" y="9172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1847880" y="8943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4533840" y="8486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4533840" y="8715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4533840" y="8943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4533840" y="9172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1847880" y="9401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1847880" y="9629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1847880" y="9858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1847880" y="10086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4533840" y="9629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533840" y="9858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4533840" y="10086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4533840" y="9401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1847880" y="2543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1753200" y="25542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4533840" y="2543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1847880" y="1031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1847880" y="1054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4533840" y="1031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4533840" y="1054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989000" y="778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989000" y="8290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76320" y="2700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5815" name=""/>
          <p:cNvSpPr/>
          <p:nvPr/>
        </p:nvSpPr>
        <p:spPr>
          <a:xfrm>
            <a:off x="1989000" y="598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989000" y="64184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060640" y="66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989000" y="6850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060640" y="7569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989000" y="620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962520" y="78375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2438280" y="78375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2895480" y="78375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3429000" y="78375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54440" y="1048536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1981080" y="917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1989000" y="936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1989000" y="893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1989000" y="872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304600" y="9406080"/>
            <a:ext cx="120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Uff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 flipH="1">
            <a:off x="5373720" y="9334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1847160" y="2700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OSPEDAL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5091840" y="1123164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2060640" y="7066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1700280" y="1088244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3500280" y="8121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576600" y="8121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3645000" y="8121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3720960" y="8121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3797280" y="8121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3500280" y="81979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3576600" y="8197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3645000" y="8197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3720960" y="81979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3797280" y="8197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3070080" y="8126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314640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21480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290760" y="8126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336708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70080" y="8202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314640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321480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3290760" y="8202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336708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262584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2701800" y="8126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277020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284652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2922480" y="8126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262584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701800" y="8202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277020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284652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2922480" y="8202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219384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27016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233856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241452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249084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219384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227016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233856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241452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249084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393228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400860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407664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415296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4229280" y="8126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393228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400860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407664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415296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4229280" y="8202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3960720" y="829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436840" y="829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2894040" y="829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3427560" y="8290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500280" y="855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3576600" y="855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645000" y="855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3720960" y="855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3797280" y="855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3500280" y="863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3576600" y="863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3645000" y="863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3720960" y="863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3797280" y="863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30686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314496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3213000" y="85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328932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33656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30686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314496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3213000" y="8636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328932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33656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26258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2701800" y="85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277020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84652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2922480" y="85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26258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2701800" y="8636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277020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284652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2922480" y="8636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21938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227016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233856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241452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4908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21938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27016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233856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241452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24908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393228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400860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407664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15296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4229280" y="85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393228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400860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407664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415296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422928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3960720" y="8721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436840" y="8721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894040" y="8721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3427560" y="8721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1989000" y="80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168880" y="89726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57720" y="9764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300640" y="897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1990080" y="8939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4296240" y="2600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1989000" y="8505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1989000" y="2313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839880" y="296640"/>
            <a:ext cx="582912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MUTATORE TELEFONICO  1   LATO RE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3500280" y="7194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3576600" y="7194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3645000" y="7194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3720960" y="7194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3797280" y="7194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3500280" y="72709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3576600" y="7270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3645000" y="7270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3720960" y="72709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3797280" y="72709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070080" y="719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14640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21480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3290760" y="719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36708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3070080" y="727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314640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321480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3290760" y="727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336708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262584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2701800" y="719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277020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284652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2922480" y="719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262584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2701800" y="727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277020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284652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2922480" y="727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219384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227016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233856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241452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249084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219384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27016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233856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41452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49084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393228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400860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407664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415296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4229280" y="719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393228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400860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407664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15296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4229280" y="727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3960720" y="7353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2436840" y="7353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2894040" y="7353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427560" y="7353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3500280" y="761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3576600" y="761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645000" y="761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720960" y="761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3797280" y="761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3500280" y="76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3576600" y="76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3645000" y="76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3720960" y="76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3797280" y="76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30686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314496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3213000" y="762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328932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33656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30686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314496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3213000" y="769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328932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33656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26258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2701800" y="762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277020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284652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2922480" y="762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26258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2701800" y="769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277020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284652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2922480" y="769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21938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227016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233856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241452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>
            <a:off x="24908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21938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227016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233856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241452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24908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393228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400860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407664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415296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4229280" y="762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>
            <a:off x="393228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400860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407664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415296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>
            <a:off x="4229280" y="769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>
            <a:off x="1990080" y="5335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500280" y="6273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576600" y="6273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3645000" y="6273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720960" y="6273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797280" y="6273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3500280" y="6350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3576600" y="6350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3645000" y="6350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3720960" y="6350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3797280" y="6350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3070080" y="6278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314640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321480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3290760" y="6278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336708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070080" y="6354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314640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321480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3290760" y="6354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336708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262584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2701800" y="6278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277020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284652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2922480" y="6278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262584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2701800" y="6354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277020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284652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2922480" y="6354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219384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227016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233856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241452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249084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219384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227016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233856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41452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49084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393228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400860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407664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415296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4229280" y="6278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393228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400860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407664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415296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4229280" y="6354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3960720" y="6426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2436840" y="6426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2894040" y="6426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3427560" y="6426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3500280" y="6691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3576600" y="6691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3645000" y="6691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3720960" y="6691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3797280" y="6691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3500280" y="67676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3576600" y="6767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3645000" y="6767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3720960" y="67676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3797280" y="6767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30686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314496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3213000" y="6696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328932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33656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30686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314496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3213000" y="6772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28932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33656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26258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2701800" y="6696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77020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284652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922480" y="6696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6258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2701800" y="6772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277020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284652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2922480" y="6772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21938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227016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233856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241452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24908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21938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227016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233856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241452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24908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393228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400860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407664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415296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4229280" y="669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393228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400860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07664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15296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4229280" y="6772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3511440" y="5396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587760" y="5396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3656160" y="5396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3732120" y="5396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>
            <a:off x="3808440" y="5396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3511440" y="547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3587760" y="547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3656160" y="547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3732120" y="547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3808440" y="547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3081240" y="540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315756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322596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330192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>
            <a:off x="337824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3081240" y="547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315756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322596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330192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337824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263700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271296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>
            <a:off x="278136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285768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>
            <a:off x="293364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263700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271296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278136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285768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293364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220500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228132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2349360" y="540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242568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250200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220500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228132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2349360" y="547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242568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250200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94344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4019400" y="540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408780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4164120" y="540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4240080" y="540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394344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4019400" y="547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408780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4164120" y="547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4240080" y="547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3971880" y="5562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2448000" y="5562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2905200" y="5562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3438360" y="5562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511440" y="5827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3587760" y="582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656160" y="582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3732120" y="5827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3808440" y="582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3511440" y="5904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3587760" y="5904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3656160" y="5904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3732120" y="5904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3808440" y="5904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307980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>
            <a:off x="315612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322416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330048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3376440" y="5832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307980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315612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322416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330048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3376440" y="5908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>
            <a:off x="263700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271296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278136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285768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293364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263700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271296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278136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285768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293364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220500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228132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2349360" y="5832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242568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250200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220500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228132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2349360" y="5908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242568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250200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394344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4019400" y="5832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408780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4164120" y="5832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4240080" y="5832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394344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4019400" y="5908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408780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4164120" y="5908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4240080" y="5908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3944880" y="5985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421000" y="5985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2878200" y="5985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3411360" y="5985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3944880" y="685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421000" y="6850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2878200" y="6850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3411360" y="685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5301000" y="7066080"/>
            <a:ext cx="152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armadio O.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5168880" y="66326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5157720" y="7424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5300640" y="663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5300640" y="4330800"/>
            <a:ext cx="15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armadio O.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 flipH="1">
            <a:off x="5373720" y="4259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5157720" y="497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5300640" y="38257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4000680" y="5049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2476440" y="504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2933640" y="504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3467160" y="504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4245120" y="71391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4293360" y="7570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4293360" y="6634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1916640" y="713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916280" y="620064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990080" y="75614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4293360" y="893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4221000" y="8074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1916640" y="8074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3489480" y="9009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3565440" y="9009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3633840" y="9009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3710160" y="9009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3786120" y="9009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3489480" y="9085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3565440" y="9085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633840" y="9085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3710160" y="9085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3786120" y="9085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305748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313380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320184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327816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335448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305748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313380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320184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327816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335448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261468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69064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5904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283536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291132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261468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269064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75904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283536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291132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18268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225900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232740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240336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247968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218268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225900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232740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240336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247968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392112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399744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4065480" y="9013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414180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4218120" y="9013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392112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99744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4065480" y="9090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414180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4218120" y="9090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3949560" y="917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2425680" y="917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2882880" y="917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3416400" y="9175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916640" y="937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4221000" y="93711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5300640" y="811692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armadio O.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H="1">
            <a:off x="5373720" y="804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5168880" y="75312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5157720" y="8721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5300640" y="7531200"/>
            <a:ext cx="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5157720" y="3825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5300640" y="3033720"/>
            <a:ext cx="15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armadio O.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 flipH="1">
            <a:off x="5373720" y="2962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157720" y="3681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5300640" y="25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5157720" y="25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3962520" y="41511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2438280" y="41511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2895480" y="41511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3429000" y="41511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3500280" y="4435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3576600" y="4435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3645000" y="4435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3720960" y="4435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3797280" y="4435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3500280" y="45115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3576600" y="45115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3645000" y="45115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720960" y="45115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3797280" y="45115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3070080" y="44402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314640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321480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3290760" y="44402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336708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3070080" y="4516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314640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321480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3290760" y="4516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336708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262584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2701800" y="44402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277020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284652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922480" y="44402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62584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2701800" y="4516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277020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284652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922480" y="45165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219384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227016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33856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41452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49084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>
            <a:off x="219384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227016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233856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241452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249084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393228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400860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>
            <a:off x="407664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415296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0" name=""/>
          <p:cNvSpPr/>
          <p:nvPr/>
        </p:nvSpPr>
        <p:spPr>
          <a:xfrm>
            <a:off x="4229280" y="44402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393228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400860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407664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415296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4229280" y="45165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3960720" y="461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2436840" y="461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2894040" y="461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3427560" y="4618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500280" y="4883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3576600" y="488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3645000" y="488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3720960" y="4883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3797280" y="488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3500280" y="495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3576600" y="495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3645000" y="495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3720960" y="495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3797280" y="495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30686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314496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3213000" y="488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328932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33656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30686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314496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3213000" y="496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328932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33656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26258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2701800" y="488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277020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284652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2922480" y="488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26258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2701800" y="496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277020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284652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2922480" y="496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21938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227016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33856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41452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4908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1938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227016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233856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241452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4908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393228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400860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407664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415296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4229280" y="488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393228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400860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407664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415296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4229280" y="496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1916280" y="48355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3500280" y="3537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3576600" y="3537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3645000" y="3537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3720960" y="3537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3797280" y="3537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500280" y="3613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3576600" y="3613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3645000" y="3613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3720960" y="3613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3797280" y="3613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3070080" y="3541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314640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321480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3290760" y="3541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336708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3070080" y="3618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14640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321480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3290760" y="3618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336708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262584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2701800" y="3541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277020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284652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2922480" y="3541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262584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2701800" y="3618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277020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284652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2922480" y="3618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219384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227016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233856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241452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249084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219384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227016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233856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241452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249084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393228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400860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07664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415296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4229280" y="3541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393228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400860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407664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415296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4229280" y="3618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3960720" y="3689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2436840" y="3689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2894040" y="3689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3427560" y="3689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3500280" y="3954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3576600" y="3954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3645000" y="3954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3720960" y="3954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>
            <a:off x="3797280" y="3954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3500280" y="40305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3576600" y="40305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3645000" y="40305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3720960" y="40305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>
            <a:off x="3797280" y="40305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30686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314496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3213000" y="395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328932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33656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30686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314496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3213000" y="40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>
            <a:off x="328932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3656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6258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2701800" y="395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277020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284652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>
            <a:off x="2922480" y="3959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26258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2701800" y="40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>
            <a:off x="277020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4652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922480" y="40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21938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227016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233856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41452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4908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21938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227016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233856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41452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>
            <a:off x="24908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393228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400860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407664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415296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4229280" y="3959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93228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00860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407664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415296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4229280" y="40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1990080" y="1663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500280" y="2614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3576600" y="2614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3645000" y="2614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3720960" y="2614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797280" y="2614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>
            <a:off x="3500280" y="2690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3576600" y="2690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3645000" y="2690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3720960" y="2690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3797280" y="2690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3070080" y="261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314640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321480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>
            <a:off x="3290760" y="261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0" name=""/>
          <p:cNvSpPr/>
          <p:nvPr/>
        </p:nvSpPr>
        <p:spPr>
          <a:xfrm>
            <a:off x="336708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1" name=""/>
          <p:cNvSpPr/>
          <p:nvPr/>
        </p:nvSpPr>
        <p:spPr>
          <a:xfrm>
            <a:off x="3070080" y="2695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2" name=""/>
          <p:cNvSpPr/>
          <p:nvPr/>
        </p:nvSpPr>
        <p:spPr>
          <a:xfrm>
            <a:off x="314640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3" name=""/>
          <p:cNvSpPr/>
          <p:nvPr/>
        </p:nvSpPr>
        <p:spPr>
          <a:xfrm>
            <a:off x="321480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>
            <a:off x="3290760" y="2695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336708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62584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2701800" y="261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277020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284652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2922480" y="261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262584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2701800" y="2695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277020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284652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922480" y="26956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219384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227016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233856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241452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249084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>
            <a:off x="219384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227016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233856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241452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249084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393228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400860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407664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15296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4229280" y="261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393228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400860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407664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415296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4229280" y="26956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3960720" y="28274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2436840" y="28274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2894040" y="28274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3427560" y="28274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>
            <a:off x="3500280" y="3092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3576600" y="3092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3645000" y="3092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3720960" y="3092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3797280" y="3092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3500280" y="3168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3576600" y="3168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3645000" y="3168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3720960" y="3168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3797280" y="3168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30686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314496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3213000" y="3097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28932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3656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30686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314496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3213000" y="317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328932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33656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26258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2701800" y="3097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277020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284652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2922480" y="3097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26258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2701800" y="317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277020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284652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2922480" y="317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21938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227016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>
            <a:off x="233856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241452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24908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21938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>
            <a:off x="227016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233856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241452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24908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393228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400860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407664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415296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4229280" y="3097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393228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400860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407664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415296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4229280" y="317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>
            <a:off x="3511440" y="1725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>
            <a:off x="3587760" y="172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3656160" y="172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3732120" y="1725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3808440" y="172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3511440" y="1800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3587760" y="1800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3656160" y="1800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3732120" y="1800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808440" y="1800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081240" y="17305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315756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22596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30192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337824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081240" y="180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15756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322596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330192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37824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263700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71296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278136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285768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293364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63700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71296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278136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285768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293364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220500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228132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2349360" y="17305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242568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250200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220500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228132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2349360" y="180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242568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250200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94344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4019400" y="17305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408780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4164120" y="17305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4240080" y="17305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394344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4019400" y="180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>
            <a:off x="408780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>
            <a:off x="4164120" y="1805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4240080" y="1805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3971880" y="1881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2448000" y="1881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2905200" y="1881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438360" y="1881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3511440" y="215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3587760" y="215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3656160" y="215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3732120" y="215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3808440" y="215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3511440" y="223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3587760" y="223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3656160" y="223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3732120" y="223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3808440" y="223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307980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315612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>
            <a:off x="322416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330048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3376440" y="2160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307980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315612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322416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330048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3376440" y="2236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263700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271296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278136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285768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>
            <a:off x="293364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263700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>
            <a:off x="271296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278136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>
            <a:off x="285768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293364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220500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228132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349360" y="2160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>
            <a:off x="242568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250200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220500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228132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2349360" y="2236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242568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250200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394344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4019400" y="2160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408780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4164120" y="2160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4240080" y="2160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394344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4019400" y="2236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408780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4164120" y="2236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4240080" y="2236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3944880" y="23256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2421000" y="23256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2878200" y="23256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11360" y="23256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3944880" y="324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2421000" y="3249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2878200" y="3249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3411360" y="324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>
            <a:off x="4000680" y="1449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2476440" y="1449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2933640" y="1449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467160" y="1449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1990080" y="2600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1990080" y="3897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1989000" y="576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1989000" y="5553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>
            <a:off x="1989000" y="526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1989000" y="504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1989000" y="48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1989000" y="3897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>
            <a:off x="1989000" y="440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1989000" y="4616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>
            <a:off x="1989000" y="418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>
            <a:off x="1989000" y="3465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989000" y="324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989000" y="3033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989000" y="2817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>
            <a:off x="1989000" y="25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>
            <a:off x="1989000" y="2097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1989000" y="18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1989000" y="1665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1917720" y="1449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5300640" y="2025720"/>
            <a:ext cx="15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armadio O.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 flipH="1">
            <a:off x="5373720" y="195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>
            <a:off x="5168880" y="15922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5157720" y="238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5300640" y="1592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4293360" y="1665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1916640" y="2097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>
            <a:off x="4245120" y="20970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4221000" y="30351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4221000" y="44038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1916640" y="3035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1916640" y="44038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916280" y="3465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4221000" y="34671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221000" y="48355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4221000" y="62038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1916640" y="5770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4293360" y="39686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4293360" y="5267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5300640" y="5770440"/>
            <a:ext cx="15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armadio O.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H="1">
            <a:off x="5373720" y="5699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5157720" y="641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5300640" y="52657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5157720" y="5265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4221000" y="577044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 flipH="1">
            <a:off x="5391000" y="699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990080" y="6635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1917360" y="6200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3511440" y="9406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3587760" y="9406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3656160" y="9406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3732120" y="9406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3808440" y="9406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3511440" y="948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3587760" y="948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3656160" y="948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3732120" y="948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3808440" y="948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307980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315612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322416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30048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3376440" y="9410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307980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>
            <a:off x="315612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322416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330048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3376440" y="9487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263700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271296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278136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285768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293364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263700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271296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278136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285768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293364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220500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228132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2349360" y="9410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242568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250200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220500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228132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2349360" y="9487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>
            <a:off x="242568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250200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4344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4019400" y="9410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408780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4164120" y="9410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4240080" y="9410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94344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4019400" y="9487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408780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4164120" y="9487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4240080" y="9487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3971880" y="957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2448000" y="957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2905200" y="957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3438360" y="957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1989000" y="9585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1989000" y="9801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265720" y="984564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50 coppie arm. O. ced s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 flipH="1">
            <a:off x="5300640" y="1009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3511440" y="9839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3587760" y="9839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3656160" y="9839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3732120" y="9839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808440" y="9839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3511440" y="9915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3587760" y="991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656160" y="991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3732120" y="9915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>
            <a:off x="3808440" y="9915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07980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3" name=""/>
          <p:cNvSpPr/>
          <p:nvPr/>
        </p:nvSpPr>
        <p:spPr>
          <a:xfrm>
            <a:off x="315612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4" name=""/>
          <p:cNvSpPr/>
          <p:nvPr/>
        </p:nvSpPr>
        <p:spPr>
          <a:xfrm>
            <a:off x="322416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>
            <a:off x="330048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>
            <a:off x="3376440" y="98442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>
            <a:off x="307980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8" name=""/>
          <p:cNvSpPr/>
          <p:nvPr/>
        </p:nvSpPr>
        <p:spPr>
          <a:xfrm>
            <a:off x="315612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9" name=""/>
          <p:cNvSpPr/>
          <p:nvPr/>
        </p:nvSpPr>
        <p:spPr>
          <a:xfrm>
            <a:off x="322416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0" name=""/>
          <p:cNvSpPr/>
          <p:nvPr/>
        </p:nvSpPr>
        <p:spPr>
          <a:xfrm>
            <a:off x="330048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3376440" y="9920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>
            <a:off x="263700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>
            <a:off x="271296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278136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285768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>
            <a:off x="293364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263700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>
            <a:off x="271296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278136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285768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293364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220500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>
            <a:off x="228132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2349360" y="98442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242568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250200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20500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>
            <a:off x="228132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2349360" y="9920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242568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250200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394344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4019400" y="98442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408780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4164120" y="98442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4240080" y="98442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394344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4019400" y="9920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408780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4164120" y="9920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4240080" y="9920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971880" y="1007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2448000" y="1007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2905200" y="1007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3438360" y="1007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916280" y="85075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4221000" y="85075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1916280" y="10090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1989000" y="10306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750960" y="1325520"/>
            <a:ext cx="333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1" name="NC01GBCO" descr=""/>
          <p:cNvPicPr/>
          <p:nvPr/>
        </p:nvPicPr>
        <p:blipFill>
          <a:blip r:embed="rId2"/>
          <a:stretch/>
        </p:blipFill>
        <p:spPr>
          <a:xfrm>
            <a:off x="6237360" y="2700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2" name="" descr=""/>
          <p:cNvPicPr/>
          <p:nvPr/>
        </p:nvPicPr>
        <p:blipFill>
          <a:blip r:embed="rId1"/>
          <a:stretch/>
        </p:blipFill>
        <p:spPr>
          <a:xfrm>
            <a:off x="76320" y="-11160"/>
            <a:ext cx="1623960" cy="469800"/>
          </a:xfrm>
          <a:prstGeom prst="rect">
            <a:avLst/>
          </a:prstGeom>
          <a:ln w="0">
            <a:noFill/>
          </a:ln>
        </p:spPr>
      </p:pic>
      <p:sp>
        <p:nvSpPr>
          <p:cNvPr id="6963" name=""/>
          <p:cNvSpPr/>
          <p:nvPr/>
        </p:nvSpPr>
        <p:spPr>
          <a:xfrm>
            <a:off x="1673280" y="1376280"/>
            <a:ext cx="3124080" cy="993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1847880" y="2062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1847880" y="3433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>
            <a:off x="1847880" y="2519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>
            <a:off x="1847880" y="3205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1847880" y="2290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 flipV="1">
            <a:off x="1676520" y="79992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 flipV="1">
            <a:off x="4800600" y="79992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2209680" y="800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 flipV="1">
            <a:off x="4797360" y="1102500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>
            <a:off x="2743200" y="110484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>
            <a:off x="3581280" y="110484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1847880" y="366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1847880" y="1833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1847880" y="1604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>
            <a:off x="1847880" y="1376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1847880" y="2976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1847880" y="686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1847880" y="7788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847880" y="731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1847880" y="8016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1847880" y="709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>
            <a:off x="1847880" y="824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>
            <a:off x="1847880" y="663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1847880" y="640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1847880" y="617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847880" y="754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4533840" y="4576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4533840" y="571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4533840" y="5033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4533840" y="549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4533840" y="4805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4533840" y="594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4533840" y="4348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>
            <a:off x="4533840" y="4119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>
            <a:off x="4533840" y="3890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4533840" y="526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1847880" y="4576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1847880" y="571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1847880" y="503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1847880" y="549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1847880" y="4805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847880" y="594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847880" y="4348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847880" y="4119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1847880" y="3890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1847880" y="526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4533840" y="2062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4533840" y="3433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4533840" y="2519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4533840" y="3205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4533840" y="2290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533840" y="3662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4533840" y="1833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4533840" y="1604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4533840" y="1376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4533840" y="2976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4533840" y="686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4533840" y="847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4533840" y="731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4533840" y="777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4533840" y="709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4533840" y="824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>
            <a:off x="4533840" y="663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4533840" y="640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>
            <a:off x="4533840" y="617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4533840" y="754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>
            <a:off x="4533840" y="686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>
            <a:off x="4533840" y="731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"/>
          <p:cNvSpPr/>
          <p:nvPr/>
        </p:nvSpPr>
        <p:spPr>
          <a:xfrm>
            <a:off x="4533840" y="777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3" name=""/>
          <p:cNvSpPr/>
          <p:nvPr/>
        </p:nvSpPr>
        <p:spPr>
          <a:xfrm>
            <a:off x="4533840" y="709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4" name=""/>
          <p:cNvSpPr/>
          <p:nvPr/>
        </p:nvSpPr>
        <p:spPr>
          <a:xfrm>
            <a:off x="4533840" y="663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4533840" y="640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4533840" y="617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4533840" y="754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4533840" y="686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4533840" y="8016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4533840" y="731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4533840" y="777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4533840" y="709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4533840" y="663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>
            <a:off x="4533840" y="640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>
            <a:off x="4533840" y="617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>
            <a:off x="4533840" y="754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1847880" y="847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886040" y="8931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809720" y="8931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 flipV="1">
            <a:off x="4797360" y="10809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>
            <a:off x="1753200" y="2301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1753200" y="2530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1753200" y="3224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1847880" y="6416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1753200" y="7102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1753200" y="75740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 flipH="1">
            <a:off x="5084640" y="800280"/>
            <a:ext cx="20880" cy="1029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1847880" y="870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1847880" y="8931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1847880" y="9388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847880" y="9159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4533840" y="870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4533840" y="893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4533840" y="915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4533840" y="938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847880" y="9617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1847880" y="9845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1847880" y="10074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1847880" y="10302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4533840" y="984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4533840" y="10074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4533840" y="1030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4533840" y="961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847880" y="2759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1753200" y="27702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4533840" y="2759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1847880" y="10531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1847880" y="10760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4533840" y="1053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0" name=""/>
          <p:cNvSpPr/>
          <p:nvPr/>
        </p:nvSpPr>
        <p:spPr>
          <a:xfrm>
            <a:off x="4533840" y="10760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1" name=""/>
          <p:cNvSpPr/>
          <p:nvPr/>
        </p:nvSpPr>
        <p:spPr>
          <a:xfrm>
            <a:off x="154440" y="1070136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1981080" y="938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5091840" y="1082844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1700280" y="11098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1990080" y="18795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6" name=""/>
          <p:cNvSpPr/>
          <p:nvPr/>
        </p:nvSpPr>
        <p:spPr>
          <a:xfrm>
            <a:off x="3511440" y="194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7" name=""/>
          <p:cNvSpPr/>
          <p:nvPr/>
        </p:nvSpPr>
        <p:spPr>
          <a:xfrm>
            <a:off x="3587760" y="194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8" name=""/>
          <p:cNvSpPr/>
          <p:nvPr/>
        </p:nvSpPr>
        <p:spPr>
          <a:xfrm>
            <a:off x="3656160" y="194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9" name=""/>
          <p:cNvSpPr/>
          <p:nvPr/>
        </p:nvSpPr>
        <p:spPr>
          <a:xfrm>
            <a:off x="3732120" y="194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0" name=""/>
          <p:cNvSpPr/>
          <p:nvPr/>
        </p:nvSpPr>
        <p:spPr>
          <a:xfrm>
            <a:off x="3808440" y="194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1" name=""/>
          <p:cNvSpPr/>
          <p:nvPr/>
        </p:nvSpPr>
        <p:spPr>
          <a:xfrm>
            <a:off x="3511440" y="2016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2" name=""/>
          <p:cNvSpPr/>
          <p:nvPr/>
        </p:nvSpPr>
        <p:spPr>
          <a:xfrm>
            <a:off x="3587760" y="201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3656160" y="201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3732120" y="2016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3808440" y="2016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3081240" y="1946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315756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>
            <a:off x="322596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330192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337824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081240" y="2021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315756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322596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330192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7824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263700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271296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78136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285768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293364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263700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271296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278136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285768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293364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220500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228132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2349360" y="1946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242568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250200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220500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228132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2349360" y="2021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242568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250200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394344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4019400" y="1946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408780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>
            <a:off x="4164120" y="1946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4240080" y="1946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394344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4019400" y="2021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408780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4164120" y="2021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4240080" y="2021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3971880" y="2097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2448000" y="2097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2905200" y="2097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3438360" y="2097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4000680" y="1665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2476440" y="1665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2933640" y="1665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3467160" y="1665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1989000" y="504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989000" y="2313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1989000" y="20970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>
            <a:off x="1989000" y="18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1917720" y="1665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5235480" y="1521000"/>
            <a:ext cx="146232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coppie armadio O.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pliamento Ludote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 flipH="1">
            <a:off x="5229000" y="2025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4293360" y="1881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2079720" y="7929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2079720" y="77770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V="1">
            <a:off x="4289400" y="78534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2079720" y="770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2079720" y="5049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 flipV="1">
            <a:off x="2079720" y="4897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4289400" y="497340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2079720" y="482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2133720" y="9369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 flipV="1">
            <a:off x="2133720" y="921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 flipV="1">
            <a:off x="4343400" y="929304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2133720" y="9140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4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7165" name=""/>
          <p:cNvSpPr/>
          <p:nvPr/>
        </p:nvSpPr>
        <p:spPr>
          <a:xfrm>
            <a:off x="750960" y="1127160"/>
            <a:ext cx="333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PlaceHolder 1"/>
          <p:cNvSpPr>
            <a:spLocks noGrp="1"/>
          </p:cNvSpPr>
          <p:nvPr>
            <p:ph type="title"/>
          </p:nvPr>
        </p:nvSpPr>
        <p:spPr>
          <a:xfrm>
            <a:off x="1773000" y="314280"/>
            <a:ext cx="4319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MUTATORE TELEFONICO  2   LATO RE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847160" y="-4608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OSPEDAL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"/>
          <p:cNvSpPr/>
          <p:nvPr/>
        </p:nvSpPr>
        <p:spPr>
          <a:xfrm>
            <a:off x="1673280" y="961920"/>
            <a:ext cx="3124080" cy="993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7" name=""/>
          <p:cNvSpPr/>
          <p:nvPr/>
        </p:nvSpPr>
        <p:spPr>
          <a:xfrm flipV="1">
            <a:off x="4797360" y="1056924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8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>
            <a:off x="4533840" y="370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4533840" y="347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4533840" y="3019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4533840" y="3247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8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9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1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2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0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V="1">
            <a:off x="4797360" y="10394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 flipH="1">
            <a:off x="5084640" y="385920"/>
            <a:ext cx="20880" cy="1022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1981080" y="895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1981080" y="9387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7288" name=""/>
          <p:cNvSpPr/>
          <p:nvPr/>
        </p:nvSpPr>
        <p:spPr>
          <a:xfrm>
            <a:off x="3962520" y="81025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>
            <a:off x="2438280" y="8102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2895480" y="8102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>
            <a:off x="3429000" y="8102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>
            <a:off x="1989000" y="3051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3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4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5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6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5157720" y="5210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3962520" y="87073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2438280" y="8707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>
            <a:off x="2895480" y="8707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3429000" y="8707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5157720" y="78040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5157720" y="8451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54800" y="10287000"/>
            <a:ext cx="147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1989000" y="8091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1989000" y="78026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5373720" y="787572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21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5367960" y="456264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5304240" y="931536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 flipH="1">
            <a:off x="5462640" y="931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5300640" y="4491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1700280" y="10683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5300640" y="485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3500280" y="8991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576600" y="8991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3645000" y="8991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3720960" y="8991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3797280" y="8991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3" name=""/>
          <p:cNvSpPr/>
          <p:nvPr/>
        </p:nvSpPr>
        <p:spPr>
          <a:xfrm>
            <a:off x="3500280" y="9067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4" name=""/>
          <p:cNvSpPr/>
          <p:nvPr/>
        </p:nvSpPr>
        <p:spPr>
          <a:xfrm>
            <a:off x="3576600" y="906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645000" y="906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6" name=""/>
          <p:cNvSpPr/>
          <p:nvPr/>
        </p:nvSpPr>
        <p:spPr>
          <a:xfrm>
            <a:off x="3720960" y="9067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7" name=""/>
          <p:cNvSpPr/>
          <p:nvPr/>
        </p:nvSpPr>
        <p:spPr>
          <a:xfrm>
            <a:off x="3797280" y="9067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8" name=""/>
          <p:cNvSpPr/>
          <p:nvPr/>
        </p:nvSpPr>
        <p:spPr>
          <a:xfrm>
            <a:off x="3070080" y="8996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9" name=""/>
          <p:cNvSpPr/>
          <p:nvPr/>
        </p:nvSpPr>
        <p:spPr>
          <a:xfrm>
            <a:off x="314640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0" name=""/>
          <p:cNvSpPr/>
          <p:nvPr/>
        </p:nvSpPr>
        <p:spPr>
          <a:xfrm>
            <a:off x="321480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1" name=""/>
          <p:cNvSpPr/>
          <p:nvPr/>
        </p:nvSpPr>
        <p:spPr>
          <a:xfrm>
            <a:off x="3290760" y="8996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2" name=""/>
          <p:cNvSpPr/>
          <p:nvPr/>
        </p:nvSpPr>
        <p:spPr>
          <a:xfrm>
            <a:off x="336708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3" name=""/>
          <p:cNvSpPr/>
          <p:nvPr/>
        </p:nvSpPr>
        <p:spPr>
          <a:xfrm>
            <a:off x="3070080" y="9072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4" name=""/>
          <p:cNvSpPr/>
          <p:nvPr/>
        </p:nvSpPr>
        <p:spPr>
          <a:xfrm>
            <a:off x="314640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5" name=""/>
          <p:cNvSpPr/>
          <p:nvPr/>
        </p:nvSpPr>
        <p:spPr>
          <a:xfrm>
            <a:off x="321480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3290760" y="9072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336708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262584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>
            <a:off x="2701800" y="8996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>
            <a:off x="277020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284652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2922480" y="8996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262584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2701800" y="9072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277020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284652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>
            <a:off x="2922480" y="9072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219384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>
            <a:off x="227016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233856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241452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249084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219384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>
            <a:off x="227016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233856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241452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249084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393228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400860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407664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415296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4229280" y="8996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>
            <a:off x="393228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>
            <a:off x="400860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07664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415296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4229280" y="9072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5300640" y="7804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>
            <a:off x="3960720" y="917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436840" y="917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2894040" y="917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3427560" y="9171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>
            <a:off x="5168880" y="89568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>
            <a:off x="5157720" y="9675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5300640" y="89568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90080" y="8993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4223520" y="8955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5300640" y="816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1917360" y="7875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429624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289548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>
            <a:off x="297180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>
            <a:off x="30481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312408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335268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342900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>
            <a:off x="35053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>
            <a:off x="327816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365904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373536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381168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388764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411624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419256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426888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40417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21337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4" name=""/>
          <p:cNvSpPr/>
          <p:nvPr/>
        </p:nvSpPr>
        <p:spPr>
          <a:xfrm>
            <a:off x="220968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5" name=""/>
          <p:cNvSpPr/>
          <p:nvPr/>
        </p:nvSpPr>
        <p:spPr>
          <a:xfrm>
            <a:off x="228600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23623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7" name=""/>
          <p:cNvSpPr/>
          <p:nvPr/>
        </p:nvSpPr>
        <p:spPr>
          <a:xfrm>
            <a:off x="259092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8" name=""/>
          <p:cNvSpPr/>
          <p:nvPr/>
        </p:nvSpPr>
        <p:spPr>
          <a:xfrm>
            <a:off x="266688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9" name=""/>
          <p:cNvSpPr/>
          <p:nvPr/>
        </p:nvSpPr>
        <p:spPr>
          <a:xfrm>
            <a:off x="2743200" y="79581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0" name=""/>
          <p:cNvSpPr/>
          <p:nvPr/>
        </p:nvSpPr>
        <p:spPr>
          <a:xfrm>
            <a:off x="2516040" y="79581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1" name=""/>
          <p:cNvSpPr/>
          <p:nvPr/>
        </p:nvSpPr>
        <p:spPr>
          <a:xfrm>
            <a:off x="2079720" y="781524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2" name=""/>
          <p:cNvSpPr/>
          <p:nvPr/>
        </p:nvSpPr>
        <p:spPr>
          <a:xfrm flipV="1">
            <a:off x="2079720" y="7662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 flipV="1">
            <a:off x="4289400" y="773892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2079720" y="7586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 flipH="1">
            <a:off x="5229000" y="7659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5292360" y="73706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5378400" y="2662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5278320" y="49230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5229360" y="146700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U. 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U.  3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 flipH="1">
            <a:off x="5229360" y="290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944880" y="305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2421000" y="3051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2878200" y="3051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3411360" y="305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1989000" y="3267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2049480" y="252576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21258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22017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22780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23544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5066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5830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6589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27352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28875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29638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30402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31161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32688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33447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34210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34974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36496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37260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38019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38782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40305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410688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4183200" y="26020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4259160" y="26020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21258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22017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22780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23544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25066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25830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26589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27352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28875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29638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30402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31161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32688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33447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34210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34974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36496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37260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38019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38782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40305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410688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4183200" y="2754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4259160" y="2754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4487760" y="275436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4487760" y="26240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2049480" y="2225520"/>
            <a:ext cx="267480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2201760" y="22255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2152800" y="1752480"/>
            <a:ext cx="2317680" cy="895320"/>
          </a:xfrm>
          <a:custGeom>
            <a:avLst/>
            <a:gdLst/>
            <a:ahLst/>
            <a:rect l="l" t="t" r="r" b="b"/>
            <a:pathLst>
              <a:path w="1460" h="564">
                <a:moveTo>
                  <a:pt x="0" y="0"/>
                </a:moveTo>
                <a:cubicBezTo>
                  <a:pt x="2" y="22"/>
                  <a:pt x="0" y="45"/>
                  <a:pt x="6" y="66"/>
                </a:cubicBezTo>
                <a:cubicBezTo>
                  <a:pt x="12" y="86"/>
                  <a:pt x="28" y="83"/>
                  <a:pt x="42" y="90"/>
                </a:cubicBezTo>
                <a:cubicBezTo>
                  <a:pt x="123" y="130"/>
                  <a:pt x="125" y="119"/>
                  <a:pt x="246" y="126"/>
                </a:cubicBezTo>
                <a:cubicBezTo>
                  <a:pt x="274" y="128"/>
                  <a:pt x="302" y="130"/>
                  <a:pt x="330" y="132"/>
                </a:cubicBezTo>
                <a:cubicBezTo>
                  <a:pt x="562" y="178"/>
                  <a:pt x="843" y="154"/>
                  <a:pt x="1080" y="162"/>
                </a:cubicBezTo>
                <a:cubicBezTo>
                  <a:pt x="1144" y="169"/>
                  <a:pt x="1203" y="180"/>
                  <a:pt x="1266" y="186"/>
                </a:cubicBezTo>
                <a:cubicBezTo>
                  <a:pt x="1291" y="192"/>
                  <a:pt x="1310" y="201"/>
                  <a:pt x="1332" y="216"/>
                </a:cubicBezTo>
                <a:cubicBezTo>
                  <a:pt x="1358" y="255"/>
                  <a:pt x="1375" y="301"/>
                  <a:pt x="1398" y="342"/>
                </a:cubicBezTo>
                <a:cubicBezTo>
                  <a:pt x="1429" y="399"/>
                  <a:pt x="1406" y="379"/>
                  <a:pt x="1440" y="402"/>
                </a:cubicBezTo>
                <a:cubicBezTo>
                  <a:pt x="1460" y="462"/>
                  <a:pt x="1458" y="491"/>
                  <a:pt x="1458" y="56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1924200" y="2617920"/>
            <a:ext cx="492120" cy="1915920"/>
          </a:xfrm>
          <a:custGeom>
            <a:avLst/>
            <a:gdLst/>
            <a:ahLst/>
            <a:rect l="l" t="t" r="r" b="b"/>
            <a:pathLst>
              <a:path w="310" h="1207">
                <a:moveTo>
                  <a:pt x="66" y="7"/>
                </a:moveTo>
                <a:cubicBezTo>
                  <a:pt x="38" y="0"/>
                  <a:pt x="28" y="6"/>
                  <a:pt x="0" y="13"/>
                </a:cubicBezTo>
                <a:cubicBezTo>
                  <a:pt x="2" y="31"/>
                  <a:pt x="1" y="50"/>
                  <a:pt x="6" y="67"/>
                </a:cubicBezTo>
                <a:cubicBezTo>
                  <a:pt x="22" y="121"/>
                  <a:pt x="23" y="103"/>
                  <a:pt x="48" y="133"/>
                </a:cubicBezTo>
                <a:cubicBezTo>
                  <a:pt x="94" y="189"/>
                  <a:pt x="132" y="229"/>
                  <a:pt x="204" y="247"/>
                </a:cubicBezTo>
                <a:cubicBezTo>
                  <a:pt x="217" y="256"/>
                  <a:pt x="233" y="262"/>
                  <a:pt x="246" y="271"/>
                </a:cubicBezTo>
                <a:cubicBezTo>
                  <a:pt x="266" y="285"/>
                  <a:pt x="273" y="305"/>
                  <a:pt x="294" y="319"/>
                </a:cubicBezTo>
                <a:cubicBezTo>
                  <a:pt x="310" y="385"/>
                  <a:pt x="285" y="454"/>
                  <a:pt x="264" y="517"/>
                </a:cubicBezTo>
                <a:cubicBezTo>
                  <a:pt x="259" y="532"/>
                  <a:pt x="246" y="544"/>
                  <a:pt x="240" y="559"/>
                </a:cubicBezTo>
                <a:cubicBezTo>
                  <a:pt x="226" y="594"/>
                  <a:pt x="215" y="634"/>
                  <a:pt x="198" y="667"/>
                </a:cubicBezTo>
                <a:cubicBezTo>
                  <a:pt x="184" y="696"/>
                  <a:pt x="161" y="713"/>
                  <a:pt x="144" y="739"/>
                </a:cubicBezTo>
                <a:cubicBezTo>
                  <a:pt x="138" y="762"/>
                  <a:pt x="127" y="777"/>
                  <a:pt x="120" y="799"/>
                </a:cubicBezTo>
                <a:cubicBezTo>
                  <a:pt x="115" y="859"/>
                  <a:pt x="113" y="919"/>
                  <a:pt x="108" y="979"/>
                </a:cubicBezTo>
                <a:cubicBezTo>
                  <a:pt x="105" y="1008"/>
                  <a:pt x="87" y="1041"/>
                  <a:pt x="78" y="1069"/>
                </a:cubicBezTo>
                <a:cubicBezTo>
                  <a:pt x="82" y="1099"/>
                  <a:pt x="81" y="1130"/>
                  <a:pt x="90" y="1159"/>
                </a:cubicBezTo>
                <a:cubicBezTo>
                  <a:pt x="92" y="1165"/>
                  <a:pt x="102" y="1162"/>
                  <a:pt x="108" y="1165"/>
                </a:cubicBezTo>
                <a:cubicBezTo>
                  <a:pt x="135" y="1178"/>
                  <a:pt x="158" y="1198"/>
                  <a:pt x="186" y="1207"/>
                </a:cubicBezTo>
                <a:cubicBezTo>
                  <a:pt x="179" y="1185"/>
                  <a:pt x="173" y="1183"/>
                  <a:pt x="150" y="1183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2060640" y="8010360"/>
            <a:ext cx="149040" cy="1009800"/>
          </a:xfrm>
          <a:custGeom>
            <a:avLst/>
            <a:gdLst/>
            <a:ahLst/>
            <a:rect l="l" t="t" r="r" b="b"/>
            <a:pathLst>
              <a:path w="94" h="636">
                <a:moveTo>
                  <a:pt x="58" y="0"/>
                </a:moveTo>
                <a:cubicBezTo>
                  <a:pt x="0" y="39"/>
                  <a:pt x="37" y="127"/>
                  <a:pt x="52" y="186"/>
                </a:cubicBezTo>
                <a:cubicBezTo>
                  <a:pt x="46" y="319"/>
                  <a:pt x="32" y="386"/>
                  <a:pt x="28" y="528"/>
                </a:cubicBezTo>
                <a:cubicBezTo>
                  <a:pt x="30" y="554"/>
                  <a:pt x="23" y="582"/>
                  <a:pt x="34" y="606"/>
                </a:cubicBezTo>
                <a:cubicBezTo>
                  <a:pt x="43" y="626"/>
                  <a:pt x="82" y="612"/>
                  <a:pt x="94" y="63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5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6" name=""/>
          <p:cNvSpPr/>
          <p:nvPr/>
        </p:nvSpPr>
        <p:spPr>
          <a:xfrm>
            <a:off x="1673280" y="961920"/>
            <a:ext cx="3124080" cy="993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 flipV="1">
            <a:off x="4797360" y="1061064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4533840" y="370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>
            <a:off x="4533840" y="347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2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3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5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6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9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0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1886040" y="716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1981080" y="3483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V="1">
            <a:off x="4797360" y="10394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 flipH="1">
            <a:off x="5084640" y="385920"/>
            <a:ext cx="20880" cy="1029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4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5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6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1989000" y="75866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7705" name=""/>
          <p:cNvSpPr/>
          <p:nvPr/>
        </p:nvSpPr>
        <p:spPr>
          <a:xfrm>
            <a:off x="3962520" y="78613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2438280" y="7861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2895480" y="7861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429000" y="78613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1981080" y="3770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5157720" y="542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62520" y="849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438280" y="84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2895480" y="84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3429000" y="84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157720" y="73008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>
            <a:off x="5148360" y="830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154800" y="10287000"/>
            <a:ext cx="147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1989000" y="9460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1989000" y="92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289548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97180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30481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12408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335268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342900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35053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327816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365904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373536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381168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388764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411624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19256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426888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40417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1337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220968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228600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23623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259092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266688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2" name=""/>
          <p:cNvSpPr/>
          <p:nvPr/>
        </p:nvSpPr>
        <p:spPr>
          <a:xfrm>
            <a:off x="2743200" y="8158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2516040" y="8158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4" name=""/>
          <p:cNvSpPr/>
          <p:nvPr/>
        </p:nvSpPr>
        <p:spPr>
          <a:xfrm>
            <a:off x="289548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5" name=""/>
          <p:cNvSpPr/>
          <p:nvPr/>
        </p:nvSpPr>
        <p:spPr>
          <a:xfrm>
            <a:off x="297180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6" name=""/>
          <p:cNvSpPr/>
          <p:nvPr/>
        </p:nvSpPr>
        <p:spPr>
          <a:xfrm>
            <a:off x="30481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7" name=""/>
          <p:cNvSpPr/>
          <p:nvPr/>
        </p:nvSpPr>
        <p:spPr>
          <a:xfrm>
            <a:off x="312408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8" name=""/>
          <p:cNvSpPr/>
          <p:nvPr/>
        </p:nvSpPr>
        <p:spPr>
          <a:xfrm>
            <a:off x="335268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9" name=""/>
          <p:cNvSpPr/>
          <p:nvPr/>
        </p:nvSpPr>
        <p:spPr>
          <a:xfrm>
            <a:off x="342900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0" name=""/>
          <p:cNvSpPr/>
          <p:nvPr/>
        </p:nvSpPr>
        <p:spPr>
          <a:xfrm>
            <a:off x="35053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1" name=""/>
          <p:cNvSpPr/>
          <p:nvPr/>
        </p:nvSpPr>
        <p:spPr>
          <a:xfrm>
            <a:off x="327816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2" name=""/>
          <p:cNvSpPr/>
          <p:nvPr/>
        </p:nvSpPr>
        <p:spPr>
          <a:xfrm>
            <a:off x="365904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3" name=""/>
          <p:cNvSpPr/>
          <p:nvPr/>
        </p:nvSpPr>
        <p:spPr>
          <a:xfrm>
            <a:off x="373536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381168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388764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411624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>
            <a:off x="419256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>
            <a:off x="426888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40417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>
            <a:off x="21337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>
            <a:off x="220968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228600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>
            <a:off x="23623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259092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>
            <a:off x="266688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>
            <a:off x="2743200" y="7726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2516040" y="7726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1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2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4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5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6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7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8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9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0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1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2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3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373720" y="755964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67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367960" y="47070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7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>
            <a:off x="3962520" y="354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>
            <a:off x="2438280" y="354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895480" y="354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3429000" y="354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5304240" y="910116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5" name=""/>
          <p:cNvSpPr/>
          <p:nvPr/>
        </p:nvSpPr>
        <p:spPr>
          <a:xfrm flipH="1">
            <a:off x="5462640" y="902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6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8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9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0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1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2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3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4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5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6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7" name=""/>
          <p:cNvSpPr/>
          <p:nvPr/>
        </p:nvSpPr>
        <p:spPr>
          <a:xfrm>
            <a:off x="5300640" y="449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>
            <a:off x="1913040" y="945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>
            <a:off x="1700280" y="10683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>
            <a:off x="5300640" y="4938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>
            <a:off x="3500280" y="87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3576600" y="87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3645000" y="87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3720960" y="87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>
            <a:off x="3797280" y="87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>
            <a:off x="3500280" y="8852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576600" y="885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645000" y="885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>
            <a:off x="3720960" y="8852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797280" y="885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070080" y="87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314640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321480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3290760" y="87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>
            <a:off x="336708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3070080" y="88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314640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321480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3290760" y="88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36708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>
            <a:off x="262584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2701800" y="87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277020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>
            <a:off x="284652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2922480" y="87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262584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2701800" y="88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277020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284652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2922480" y="88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219384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227016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233856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241452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249084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219384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>
            <a:off x="227016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233856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241452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>
            <a:off x="249084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393228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400860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407664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415296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4229280" y="87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393228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400860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407664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415296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>
            <a:off x="4229280" y="88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>
            <a:off x="5300640" y="73008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960720" y="90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>
            <a:off x="2436840" y="90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>
            <a:off x="2894040" y="90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>
            <a:off x="3427560" y="90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>
            <a:off x="3500280" y="9280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>
            <a:off x="3576600" y="928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3645000" y="928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>
            <a:off x="3720960" y="9280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3797280" y="928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>
            <a:off x="3500280" y="93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>
            <a:off x="3576600" y="93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>
            <a:off x="3645000" y="93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>
            <a:off x="3720960" y="93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3797280" y="93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0686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314496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3213000" y="928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328932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33656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30686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314496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3213000" y="93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328932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33656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6258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701800" y="928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77020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84652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922480" y="928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6258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701800" y="93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77020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84652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922480" y="93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938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27016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33856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41452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4908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938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227016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233856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241452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24908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393228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400860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407664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415296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229280" y="928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393228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400860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407664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15296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4229280" y="93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3960720" y="944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2436840" y="944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2894040" y="944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3427560" y="9447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>
            <a:off x="1989000" y="73706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>
            <a:off x="5168880" y="84535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7" name=""/>
          <p:cNvSpPr/>
          <p:nvPr/>
        </p:nvSpPr>
        <p:spPr>
          <a:xfrm>
            <a:off x="5157720" y="9677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5300640" y="84535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9" name=""/>
          <p:cNvSpPr/>
          <p:nvPr/>
        </p:nvSpPr>
        <p:spPr>
          <a:xfrm>
            <a:off x="1917360" y="7370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1916640" y="9245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4221000" y="9244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4223520" y="8740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5300640" y="7877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1917360" y="8740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5" name=""/>
          <p:cNvSpPr/>
          <p:nvPr/>
        </p:nvSpPr>
        <p:spPr>
          <a:xfrm>
            <a:off x="19166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6" name=""/>
          <p:cNvSpPr/>
          <p:nvPr/>
        </p:nvSpPr>
        <p:spPr>
          <a:xfrm>
            <a:off x="1916640" y="8093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7" name=""/>
          <p:cNvSpPr/>
          <p:nvPr/>
        </p:nvSpPr>
        <p:spPr>
          <a:xfrm>
            <a:off x="4296240" y="73706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4293360" y="765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989000" y="8091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289548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>
            <a:off x="297180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>
            <a:off x="30481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312408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>
            <a:off x="335268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342900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35053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>
            <a:off x="327816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>
            <a:off x="365904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373536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381168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388764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>
            <a:off x="411624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>
            <a:off x="419256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426888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40417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>
            <a:off x="21337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>
            <a:off x="220968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228600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23623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259092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266688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2743200" y="74422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2516040" y="74422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>
            <a:off x="4293360" y="8091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2079720" y="7299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V="1">
            <a:off x="2079720" y="714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 flipV="1">
            <a:off x="4289400" y="722304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2079720" y="7070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 flipH="1">
            <a:off x="5229000" y="7156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5292360" y="686736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5167440" y="247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5157720" y="3770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5378400" y="2878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 flipH="1">
            <a:off x="5300280" y="2475000"/>
            <a:ext cx="9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5229360" y="5931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5230800" y="568656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5229720" y="146700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U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289548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297180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30481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312408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335268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342900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35053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327816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365904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373536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81168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388764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411624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>
            <a:off x="419256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426888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>
            <a:off x="40417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21337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220968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>
            <a:off x="228600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>
            <a:off x="23623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259092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266688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743200" y="5854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2516040" y="5854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>
            <a:off x="1989000" y="598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>
            <a:off x="1922400" y="621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4000680" y="5991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>
            <a:off x="247644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>
            <a:off x="293364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346716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191664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>
            <a:off x="429336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U.  2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 flipH="1">
            <a:off x="5373360" y="312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204948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2125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2201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2278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354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506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83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658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>
            <a:off x="2735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2887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2963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3040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>
            <a:off x="3116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3268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3344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3421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3497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>
            <a:off x="3649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3726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801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3878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>
            <a:off x="4030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>
            <a:off x="4106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>
            <a:off x="4183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4259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2125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2201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>
            <a:off x="2278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>
            <a:off x="2354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2506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2583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658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2735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>
            <a:off x="2887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2963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3040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3116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3268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3344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3421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3497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649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3726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3801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878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4030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4106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4183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4259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4487760" y="256716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4487760" y="27194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204948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220176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273528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4000680" y="289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4764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29336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346716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2049480" y="31226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>
            <a:off x="2125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>
            <a:off x="2201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>
            <a:off x="2278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2354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2506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>
            <a:off x="2583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>
            <a:off x="2658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2735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2887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2963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040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3116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3268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3344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3421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3497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3649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3726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3801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3878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>
            <a:off x="4030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4106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4183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4259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4424400" y="322092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4437000" y="3373560"/>
            <a:ext cx="15264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2162160" y="1743120"/>
            <a:ext cx="2352600" cy="1041480"/>
          </a:xfrm>
          <a:custGeom>
            <a:avLst/>
            <a:gdLst/>
            <a:ahLst/>
            <a:rect l="l" t="t" r="r" b="b"/>
            <a:pathLst>
              <a:path w="1482" h="656">
                <a:moveTo>
                  <a:pt x="0" y="0"/>
                </a:moveTo>
                <a:cubicBezTo>
                  <a:pt x="4" y="30"/>
                  <a:pt x="5" y="80"/>
                  <a:pt x="36" y="96"/>
                </a:cubicBezTo>
                <a:cubicBezTo>
                  <a:pt x="74" y="115"/>
                  <a:pt x="162" y="114"/>
                  <a:pt x="162" y="114"/>
                </a:cubicBezTo>
                <a:cubicBezTo>
                  <a:pt x="186" y="122"/>
                  <a:pt x="230" y="129"/>
                  <a:pt x="252" y="144"/>
                </a:cubicBezTo>
                <a:cubicBezTo>
                  <a:pt x="265" y="153"/>
                  <a:pt x="274" y="166"/>
                  <a:pt x="288" y="174"/>
                </a:cubicBezTo>
                <a:cubicBezTo>
                  <a:pt x="322" y="193"/>
                  <a:pt x="365" y="194"/>
                  <a:pt x="402" y="198"/>
                </a:cubicBezTo>
                <a:cubicBezTo>
                  <a:pt x="481" y="197"/>
                  <a:pt x="745" y="230"/>
                  <a:pt x="894" y="180"/>
                </a:cubicBezTo>
                <a:cubicBezTo>
                  <a:pt x="1067" y="184"/>
                  <a:pt x="1255" y="153"/>
                  <a:pt x="1404" y="252"/>
                </a:cubicBezTo>
                <a:cubicBezTo>
                  <a:pt x="1408" y="342"/>
                  <a:pt x="1413" y="418"/>
                  <a:pt x="1434" y="504"/>
                </a:cubicBezTo>
                <a:cubicBezTo>
                  <a:pt x="1441" y="656"/>
                  <a:pt x="1394" y="642"/>
                  <a:pt x="1482" y="64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2352600" y="1809720"/>
            <a:ext cx="2589120" cy="1571760"/>
          </a:xfrm>
          <a:custGeom>
            <a:avLst/>
            <a:gdLst/>
            <a:ahLst/>
            <a:rect l="l" t="t" r="r" b="b"/>
            <a:pathLst>
              <a:path w="1631" h="990">
                <a:moveTo>
                  <a:pt x="0" y="0"/>
                </a:moveTo>
                <a:cubicBezTo>
                  <a:pt x="24" y="8"/>
                  <a:pt x="39" y="39"/>
                  <a:pt x="66" y="42"/>
                </a:cubicBezTo>
                <a:cubicBezTo>
                  <a:pt x="108" y="47"/>
                  <a:pt x="150" y="46"/>
                  <a:pt x="192" y="48"/>
                </a:cubicBezTo>
                <a:cubicBezTo>
                  <a:pt x="284" y="79"/>
                  <a:pt x="384" y="71"/>
                  <a:pt x="480" y="78"/>
                </a:cubicBezTo>
                <a:cubicBezTo>
                  <a:pt x="551" y="102"/>
                  <a:pt x="639" y="86"/>
                  <a:pt x="708" y="84"/>
                </a:cubicBezTo>
                <a:cubicBezTo>
                  <a:pt x="820" y="81"/>
                  <a:pt x="932" y="80"/>
                  <a:pt x="1044" y="78"/>
                </a:cubicBezTo>
                <a:cubicBezTo>
                  <a:pt x="1080" y="66"/>
                  <a:pt x="1126" y="80"/>
                  <a:pt x="1164" y="84"/>
                </a:cubicBezTo>
                <a:cubicBezTo>
                  <a:pt x="1176" y="88"/>
                  <a:pt x="1188" y="92"/>
                  <a:pt x="1200" y="96"/>
                </a:cubicBezTo>
                <a:cubicBezTo>
                  <a:pt x="1206" y="98"/>
                  <a:pt x="1218" y="102"/>
                  <a:pt x="1218" y="102"/>
                </a:cubicBezTo>
                <a:cubicBezTo>
                  <a:pt x="1233" y="117"/>
                  <a:pt x="1270" y="153"/>
                  <a:pt x="1290" y="156"/>
                </a:cubicBezTo>
                <a:cubicBezTo>
                  <a:pt x="1324" y="162"/>
                  <a:pt x="1351" y="170"/>
                  <a:pt x="1380" y="186"/>
                </a:cubicBezTo>
                <a:cubicBezTo>
                  <a:pt x="1406" y="200"/>
                  <a:pt x="1425" y="225"/>
                  <a:pt x="1452" y="234"/>
                </a:cubicBezTo>
                <a:cubicBezTo>
                  <a:pt x="1474" y="256"/>
                  <a:pt x="1489" y="281"/>
                  <a:pt x="1506" y="306"/>
                </a:cubicBezTo>
                <a:cubicBezTo>
                  <a:pt x="1510" y="311"/>
                  <a:pt x="1518" y="309"/>
                  <a:pt x="1524" y="312"/>
                </a:cubicBezTo>
                <a:cubicBezTo>
                  <a:pt x="1530" y="315"/>
                  <a:pt x="1536" y="320"/>
                  <a:pt x="1542" y="324"/>
                </a:cubicBezTo>
                <a:cubicBezTo>
                  <a:pt x="1565" y="359"/>
                  <a:pt x="1576" y="385"/>
                  <a:pt x="1584" y="426"/>
                </a:cubicBezTo>
                <a:cubicBezTo>
                  <a:pt x="1591" y="536"/>
                  <a:pt x="1631" y="677"/>
                  <a:pt x="1566" y="774"/>
                </a:cubicBezTo>
                <a:cubicBezTo>
                  <a:pt x="1518" y="846"/>
                  <a:pt x="1398" y="890"/>
                  <a:pt x="1398" y="99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1932120" y="2619360"/>
            <a:ext cx="230040" cy="1914480"/>
          </a:xfrm>
          <a:custGeom>
            <a:avLst/>
            <a:gdLst/>
            <a:ahLst/>
            <a:rect l="l" t="t" r="r" b="b"/>
            <a:pathLst>
              <a:path w="145" h="1206">
                <a:moveTo>
                  <a:pt x="133" y="0"/>
                </a:moveTo>
                <a:cubicBezTo>
                  <a:pt x="122" y="11"/>
                  <a:pt x="110" y="21"/>
                  <a:pt x="103" y="36"/>
                </a:cubicBezTo>
                <a:cubicBezTo>
                  <a:pt x="98" y="48"/>
                  <a:pt x="91" y="72"/>
                  <a:pt x="91" y="72"/>
                </a:cubicBezTo>
                <a:cubicBezTo>
                  <a:pt x="88" y="152"/>
                  <a:pt x="103" y="218"/>
                  <a:pt x="61" y="282"/>
                </a:cubicBezTo>
                <a:cubicBezTo>
                  <a:pt x="0" y="525"/>
                  <a:pt x="61" y="775"/>
                  <a:pt x="109" y="1014"/>
                </a:cubicBezTo>
                <a:cubicBezTo>
                  <a:pt x="113" y="1077"/>
                  <a:pt x="116" y="1148"/>
                  <a:pt x="145" y="120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1752480" y="7515360"/>
            <a:ext cx="466920" cy="1276200"/>
          </a:xfrm>
          <a:custGeom>
            <a:avLst/>
            <a:gdLst/>
            <a:ahLst/>
            <a:rect l="l" t="t" r="r" b="b"/>
            <a:pathLst>
              <a:path w="294" h="804">
                <a:moveTo>
                  <a:pt x="276" y="0"/>
                </a:moveTo>
                <a:cubicBezTo>
                  <a:pt x="228" y="48"/>
                  <a:pt x="226" y="39"/>
                  <a:pt x="162" y="60"/>
                </a:cubicBezTo>
                <a:cubicBezTo>
                  <a:pt x="155" y="62"/>
                  <a:pt x="151" y="69"/>
                  <a:pt x="144" y="72"/>
                </a:cubicBezTo>
                <a:cubicBezTo>
                  <a:pt x="136" y="75"/>
                  <a:pt x="128" y="76"/>
                  <a:pt x="120" y="78"/>
                </a:cubicBezTo>
                <a:cubicBezTo>
                  <a:pt x="99" y="92"/>
                  <a:pt x="84" y="96"/>
                  <a:pt x="66" y="114"/>
                </a:cubicBezTo>
                <a:cubicBezTo>
                  <a:pt x="64" y="120"/>
                  <a:pt x="64" y="127"/>
                  <a:pt x="60" y="132"/>
                </a:cubicBezTo>
                <a:cubicBezTo>
                  <a:pt x="55" y="138"/>
                  <a:pt x="46" y="138"/>
                  <a:pt x="42" y="144"/>
                </a:cubicBezTo>
                <a:cubicBezTo>
                  <a:pt x="32" y="160"/>
                  <a:pt x="35" y="182"/>
                  <a:pt x="24" y="198"/>
                </a:cubicBezTo>
                <a:cubicBezTo>
                  <a:pt x="13" y="214"/>
                  <a:pt x="0" y="252"/>
                  <a:pt x="0" y="252"/>
                </a:cubicBezTo>
                <a:cubicBezTo>
                  <a:pt x="4" y="315"/>
                  <a:pt x="12" y="351"/>
                  <a:pt x="18" y="408"/>
                </a:cubicBezTo>
                <a:cubicBezTo>
                  <a:pt x="21" y="438"/>
                  <a:pt x="22" y="488"/>
                  <a:pt x="30" y="522"/>
                </a:cubicBezTo>
                <a:cubicBezTo>
                  <a:pt x="38" y="556"/>
                  <a:pt x="57" y="580"/>
                  <a:pt x="66" y="612"/>
                </a:cubicBezTo>
                <a:cubicBezTo>
                  <a:pt x="72" y="633"/>
                  <a:pt x="105" y="712"/>
                  <a:pt x="126" y="726"/>
                </a:cubicBezTo>
                <a:cubicBezTo>
                  <a:pt x="154" y="744"/>
                  <a:pt x="190" y="754"/>
                  <a:pt x="222" y="762"/>
                </a:cubicBezTo>
                <a:cubicBezTo>
                  <a:pt x="228" y="766"/>
                  <a:pt x="234" y="771"/>
                  <a:pt x="240" y="774"/>
                </a:cubicBezTo>
                <a:cubicBezTo>
                  <a:pt x="246" y="777"/>
                  <a:pt x="252" y="777"/>
                  <a:pt x="258" y="780"/>
                </a:cubicBezTo>
                <a:cubicBezTo>
                  <a:pt x="271" y="787"/>
                  <a:pt x="294" y="804"/>
                  <a:pt x="294" y="80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6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1673280" y="961920"/>
            <a:ext cx="3124080" cy="993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 flipV="1">
            <a:off x="4797360" y="1061064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4533840" y="370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4533840" y="347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981080" y="355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 flipV="1">
            <a:off x="4797360" y="10394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 flipH="1">
            <a:off x="5084640" y="385920"/>
            <a:ext cx="20880" cy="1029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1989000" y="75866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1989000" y="8091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8335" name=""/>
          <p:cNvSpPr/>
          <p:nvPr/>
        </p:nvSpPr>
        <p:spPr>
          <a:xfrm>
            <a:off x="3962520" y="78739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243828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289548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>
            <a:off x="342900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>
            <a:off x="1981080" y="3770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5157720" y="564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>
            <a:off x="3962520" y="8504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243828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289548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342900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157720" y="7372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148360" y="838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154440" y="10287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5 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1989000" y="9460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989000" y="92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289548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297180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>
            <a:off x="30481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312408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335268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342900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>
            <a:off x="35053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>
            <a:off x="327816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>
            <a:off x="365904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>
            <a:off x="373536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>
            <a:off x="381168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>
            <a:off x="388764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>
            <a:off x="411624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>
            <a:off x="419256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426888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>
            <a:off x="40417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21337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220968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228600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23623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259092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266688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2743200" y="8170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2516040" y="8170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>
            <a:off x="28954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29718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30481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31240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33526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34290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35053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32781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36590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37353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381168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38876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41162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41925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426888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>
            <a:off x="40417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>
            <a:off x="21337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>
            <a:off x="22096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22860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23623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25909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>
            <a:off x="26668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>
            <a:off x="27432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25160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5373720" y="763128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50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5367960" y="47070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3962520" y="3554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243828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89548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42900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5304240" y="917244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 flipH="1">
            <a:off x="5462640" y="9101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6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8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9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0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1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2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3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4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5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>
            <a:off x="5300640" y="449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700280" y="10683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5300640" y="4938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>
            <a:off x="3500280" y="878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57660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364500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>
            <a:off x="3720960" y="878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379728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3500280" y="886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>
            <a:off x="357660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364500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3720960" y="886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>
            <a:off x="379728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307008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31464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32148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329076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3670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307008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31464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2148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329076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33670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2625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70180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27702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284652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292248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2625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270180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27702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284652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292248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193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9" name=""/>
          <p:cNvSpPr/>
          <p:nvPr/>
        </p:nvSpPr>
        <p:spPr>
          <a:xfrm>
            <a:off x="22701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0" name=""/>
          <p:cNvSpPr/>
          <p:nvPr/>
        </p:nvSpPr>
        <p:spPr>
          <a:xfrm>
            <a:off x="23385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241452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>
            <a:off x="2490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2193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22701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23385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241452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2490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39322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40086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40766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>
            <a:off x="41529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42292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>
            <a:off x="39322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40086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40766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>
            <a:off x="41529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>
            <a:off x="42292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5300640" y="7372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>
            <a:off x="3960720" y="902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>
            <a:off x="2436840" y="902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2894040" y="902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3427560" y="9028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3500280" y="9293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>
            <a:off x="3576600" y="9293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>
            <a:off x="3645000" y="9293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3720960" y="9293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3797280" y="9293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3500280" y="936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3576600" y="936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>
            <a:off x="3645000" y="936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1" name=""/>
          <p:cNvSpPr/>
          <p:nvPr/>
        </p:nvSpPr>
        <p:spPr>
          <a:xfrm>
            <a:off x="3720960" y="936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2" name=""/>
          <p:cNvSpPr/>
          <p:nvPr/>
        </p:nvSpPr>
        <p:spPr>
          <a:xfrm>
            <a:off x="3797280" y="936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3" name=""/>
          <p:cNvSpPr/>
          <p:nvPr/>
        </p:nvSpPr>
        <p:spPr>
          <a:xfrm>
            <a:off x="30686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4" name=""/>
          <p:cNvSpPr/>
          <p:nvPr/>
        </p:nvSpPr>
        <p:spPr>
          <a:xfrm>
            <a:off x="314496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5" name=""/>
          <p:cNvSpPr/>
          <p:nvPr/>
        </p:nvSpPr>
        <p:spPr>
          <a:xfrm>
            <a:off x="3213000" y="929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6" name=""/>
          <p:cNvSpPr/>
          <p:nvPr/>
        </p:nvSpPr>
        <p:spPr>
          <a:xfrm>
            <a:off x="328932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7" name=""/>
          <p:cNvSpPr/>
          <p:nvPr/>
        </p:nvSpPr>
        <p:spPr>
          <a:xfrm>
            <a:off x="33656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8" name=""/>
          <p:cNvSpPr/>
          <p:nvPr/>
        </p:nvSpPr>
        <p:spPr>
          <a:xfrm>
            <a:off x="30686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9" name=""/>
          <p:cNvSpPr/>
          <p:nvPr/>
        </p:nvSpPr>
        <p:spPr>
          <a:xfrm>
            <a:off x="314496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0" name=""/>
          <p:cNvSpPr/>
          <p:nvPr/>
        </p:nvSpPr>
        <p:spPr>
          <a:xfrm>
            <a:off x="3213000" y="937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328932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33656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26258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2701800" y="929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5" name=""/>
          <p:cNvSpPr/>
          <p:nvPr/>
        </p:nvSpPr>
        <p:spPr>
          <a:xfrm>
            <a:off x="277020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6" name=""/>
          <p:cNvSpPr/>
          <p:nvPr/>
        </p:nvSpPr>
        <p:spPr>
          <a:xfrm>
            <a:off x="284652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2922480" y="92980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8" name=""/>
          <p:cNvSpPr/>
          <p:nvPr/>
        </p:nvSpPr>
        <p:spPr>
          <a:xfrm>
            <a:off x="26258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9" name=""/>
          <p:cNvSpPr/>
          <p:nvPr/>
        </p:nvSpPr>
        <p:spPr>
          <a:xfrm>
            <a:off x="2701800" y="937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0" name=""/>
          <p:cNvSpPr/>
          <p:nvPr/>
        </p:nvSpPr>
        <p:spPr>
          <a:xfrm>
            <a:off x="277020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1" name=""/>
          <p:cNvSpPr/>
          <p:nvPr/>
        </p:nvSpPr>
        <p:spPr>
          <a:xfrm>
            <a:off x="284652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2" name=""/>
          <p:cNvSpPr/>
          <p:nvPr/>
        </p:nvSpPr>
        <p:spPr>
          <a:xfrm>
            <a:off x="2922480" y="937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3" name=""/>
          <p:cNvSpPr/>
          <p:nvPr/>
        </p:nvSpPr>
        <p:spPr>
          <a:xfrm>
            <a:off x="21938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4" name=""/>
          <p:cNvSpPr/>
          <p:nvPr/>
        </p:nvSpPr>
        <p:spPr>
          <a:xfrm>
            <a:off x="227016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5" name=""/>
          <p:cNvSpPr/>
          <p:nvPr/>
        </p:nvSpPr>
        <p:spPr>
          <a:xfrm>
            <a:off x="233856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>
            <a:off x="241452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24908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21938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227016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233856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>
            <a:off x="241452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>
            <a:off x="24908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393228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>
            <a:off x="400860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>
            <a:off x="407664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>
            <a:off x="415296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4229280" y="92980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>
            <a:off x="393228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>
            <a:off x="400860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407664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415296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4229280" y="937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60720" y="946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36840" y="946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894040" y="9460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3427560" y="9460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5168880" y="85248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5157720" y="974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5300640" y="85248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1990080" y="8739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1916640" y="9244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4222800" y="92566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4221720" y="87519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5300640" y="79484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1917360" y="7370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19166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16640" y="8091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4296240" y="73706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4293360" y="765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989000" y="9675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28954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29718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30481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31240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33526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34290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35053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32781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6590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8" name=""/>
          <p:cNvSpPr/>
          <p:nvPr/>
        </p:nvSpPr>
        <p:spPr>
          <a:xfrm>
            <a:off x="37353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9" name=""/>
          <p:cNvSpPr/>
          <p:nvPr/>
        </p:nvSpPr>
        <p:spPr>
          <a:xfrm>
            <a:off x="381168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0" name=""/>
          <p:cNvSpPr/>
          <p:nvPr/>
        </p:nvSpPr>
        <p:spPr>
          <a:xfrm>
            <a:off x="38876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1" name=""/>
          <p:cNvSpPr/>
          <p:nvPr/>
        </p:nvSpPr>
        <p:spPr>
          <a:xfrm>
            <a:off x="41162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2" name=""/>
          <p:cNvSpPr/>
          <p:nvPr/>
        </p:nvSpPr>
        <p:spPr>
          <a:xfrm>
            <a:off x="41925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3" name=""/>
          <p:cNvSpPr/>
          <p:nvPr/>
        </p:nvSpPr>
        <p:spPr>
          <a:xfrm>
            <a:off x="426888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4" name=""/>
          <p:cNvSpPr/>
          <p:nvPr/>
        </p:nvSpPr>
        <p:spPr>
          <a:xfrm>
            <a:off x="40417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5" name=""/>
          <p:cNvSpPr/>
          <p:nvPr/>
        </p:nvSpPr>
        <p:spPr>
          <a:xfrm>
            <a:off x="21337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6" name=""/>
          <p:cNvSpPr/>
          <p:nvPr/>
        </p:nvSpPr>
        <p:spPr>
          <a:xfrm>
            <a:off x="22096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7" name=""/>
          <p:cNvSpPr/>
          <p:nvPr/>
        </p:nvSpPr>
        <p:spPr>
          <a:xfrm>
            <a:off x="22860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23623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>
            <a:off x="25909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>
            <a:off x="26668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>
            <a:off x="27432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25160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4293360" y="8091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2079720" y="73119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 flipV="1">
            <a:off x="2079720" y="71593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 flipV="1">
            <a:off x="4289400" y="723564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2079720" y="7083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H="1">
            <a:off x="5229000" y="722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5292360" y="6939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5167440" y="25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5157720" y="3770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5378400" y="280656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5300640" y="2546280"/>
            <a:ext cx="9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5315760" y="525456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m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5229360" y="146700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U. 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U.  1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373360" y="305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981080" y="3483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204948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2125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2201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2278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2354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2506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2583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2658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2735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2887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2963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3040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3116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3268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3344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3421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3497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3649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3726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3801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3878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>
            <a:off x="4030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106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4183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4259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2125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201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278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2354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2506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2583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2658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2735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2887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963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3040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3116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3268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344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3421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3497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3649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3726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3801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3878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4030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>
            <a:off x="4106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>
            <a:off x="4183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4259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4487760" y="256716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4487760" y="27194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204948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220176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273528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4000680" y="289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24764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29336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346716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>
            <a:off x="2049480" y="31226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2125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>
            <a:off x="2201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>
            <a:off x="2278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354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2506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2583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2658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2735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2887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2963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>
            <a:off x="3040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3116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3268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344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3421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3497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3649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3726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3801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878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4030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4106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4183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4259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424400" y="322092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437000" y="3373560"/>
            <a:ext cx="15264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2162160" y="1743120"/>
            <a:ext cx="2352600" cy="1041480"/>
          </a:xfrm>
          <a:custGeom>
            <a:avLst/>
            <a:gdLst/>
            <a:ahLst/>
            <a:rect l="l" t="t" r="r" b="b"/>
            <a:pathLst>
              <a:path w="1482" h="656">
                <a:moveTo>
                  <a:pt x="0" y="0"/>
                </a:moveTo>
                <a:cubicBezTo>
                  <a:pt x="4" y="30"/>
                  <a:pt x="5" y="80"/>
                  <a:pt x="36" y="96"/>
                </a:cubicBezTo>
                <a:cubicBezTo>
                  <a:pt x="74" y="115"/>
                  <a:pt x="162" y="114"/>
                  <a:pt x="162" y="114"/>
                </a:cubicBezTo>
                <a:cubicBezTo>
                  <a:pt x="186" y="122"/>
                  <a:pt x="230" y="129"/>
                  <a:pt x="252" y="144"/>
                </a:cubicBezTo>
                <a:cubicBezTo>
                  <a:pt x="265" y="153"/>
                  <a:pt x="274" y="166"/>
                  <a:pt x="288" y="174"/>
                </a:cubicBezTo>
                <a:cubicBezTo>
                  <a:pt x="322" y="193"/>
                  <a:pt x="365" y="194"/>
                  <a:pt x="402" y="198"/>
                </a:cubicBezTo>
                <a:cubicBezTo>
                  <a:pt x="481" y="197"/>
                  <a:pt x="745" y="230"/>
                  <a:pt x="894" y="180"/>
                </a:cubicBezTo>
                <a:cubicBezTo>
                  <a:pt x="1067" y="184"/>
                  <a:pt x="1255" y="153"/>
                  <a:pt x="1404" y="252"/>
                </a:cubicBezTo>
                <a:cubicBezTo>
                  <a:pt x="1408" y="342"/>
                  <a:pt x="1413" y="418"/>
                  <a:pt x="1434" y="504"/>
                </a:cubicBezTo>
                <a:cubicBezTo>
                  <a:pt x="1441" y="656"/>
                  <a:pt x="1394" y="642"/>
                  <a:pt x="1482" y="64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2352600" y="1809720"/>
            <a:ext cx="2589120" cy="1571760"/>
          </a:xfrm>
          <a:custGeom>
            <a:avLst/>
            <a:gdLst/>
            <a:ahLst/>
            <a:rect l="l" t="t" r="r" b="b"/>
            <a:pathLst>
              <a:path w="1631" h="990">
                <a:moveTo>
                  <a:pt x="0" y="0"/>
                </a:moveTo>
                <a:cubicBezTo>
                  <a:pt x="24" y="8"/>
                  <a:pt x="39" y="39"/>
                  <a:pt x="66" y="42"/>
                </a:cubicBezTo>
                <a:cubicBezTo>
                  <a:pt x="108" y="47"/>
                  <a:pt x="150" y="46"/>
                  <a:pt x="192" y="48"/>
                </a:cubicBezTo>
                <a:cubicBezTo>
                  <a:pt x="284" y="79"/>
                  <a:pt x="384" y="71"/>
                  <a:pt x="480" y="78"/>
                </a:cubicBezTo>
                <a:cubicBezTo>
                  <a:pt x="551" y="102"/>
                  <a:pt x="639" y="86"/>
                  <a:pt x="708" y="84"/>
                </a:cubicBezTo>
                <a:cubicBezTo>
                  <a:pt x="820" y="81"/>
                  <a:pt x="932" y="80"/>
                  <a:pt x="1044" y="78"/>
                </a:cubicBezTo>
                <a:cubicBezTo>
                  <a:pt x="1080" y="66"/>
                  <a:pt x="1126" y="80"/>
                  <a:pt x="1164" y="84"/>
                </a:cubicBezTo>
                <a:cubicBezTo>
                  <a:pt x="1176" y="88"/>
                  <a:pt x="1188" y="92"/>
                  <a:pt x="1200" y="96"/>
                </a:cubicBezTo>
                <a:cubicBezTo>
                  <a:pt x="1206" y="98"/>
                  <a:pt x="1218" y="102"/>
                  <a:pt x="1218" y="102"/>
                </a:cubicBezTo>
                <a:cubicBezTo>
                  <a:pt x="1233" y="117"/>
                  <a:pt x="1270" y="153"/>
                  <a:pt x="1290" y="156"/>
                </a:cubicBezTo>
                <a:cubicBezTo>
                  <a:pt x="1324" y="162"/>
                  <a:pt x="1351" y="170"/>
                  <a:pt x="1380" y="186"/>
                </a:cubicBezTo>
                <a:cubicBezTo>
                  <a:pt x="1406" y="200"/>
                  <a:pt x="1425" y="225"/>
                  <a:pt x="1452" y="234"/>
                </a:cubicBezTo>
                <a:cubicBezTo>
                  <a:pt x="1474" y="256"/>
                  <a:pt x="1489" y="281"/>
                  <a:pt x="1506" y="306"/>
                </a:cubicBezTo>
                <a:cubicBezTo>
                  <a:pt x="1510" y="311"/>
                  <a:pt x="1518" y="309"/>
                  <a:pt x="1524" y="312"/>
                </a:cubicBezTo>
                <a:cubicBezTo>
                  <a:pt x="1530" y="315"/>
                  <a:pt x="1536" y="320"/>
                  <a:pt x="1542" y="324"/>
                </a:cubicBezTo>
                <a:cubicBezTo>
                  <a:pt x="1565" y="359"/>
                  <a:pt x="1576" y="385"/>
                  <a:pt x="1584" y="426"/>
                </a:cubicBezTo>
                <a:cubicBezTo>
                  <a:pt x="1591" y="536"/>
                  <a:pt x="1631" y="677"/>
                  <a:pt x="1566" y="774"/>
                </a:cubicBezTo>
                <a:cubicBezTo>
                  <a:pt x="1518" y="846"/>
                  <a:pt x="1398" y="890"/>
                  <a:pt x="1398" y="99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1932120" y="2619360"/>
            <a:ext cx="230040" cy="1914480"/>
          </a:xfrm>
          <a:custGeom>
            <a:avLst/>
            <a:gdLst/>
            <a:ahLst/>
            <a:rect l="l" t="t" r="r" b="b"/>
            <a:pathLst>
              <a:path w="145" h="1206">
                <a:moveTo>
                  <a:pt x="133" y="0"/>
                </a:moveTo>
                <a:cubicBezTo>
                  <a:pt x="122" y="11"/>
                  <a:pt x="110" y="21"/>
                  <a:pt x="103" y="36"/>
                </a:cubicBezTo>
                <a:cubicBezTo>
                  <a:pt x="98" y="48"/>
                  <a:pt x="91" y="72"/>
                  <a:pt x="91" y="72"/>
                </a:cubicBezTo>
                <a:cubicBezTo>
                  <a:pt x="88" y="152"/>
                  <a:pt x="103" y="218"/>
                  <a:pt x="61" y="282"/>
                </a:cubicBezTo>
                <a:cubicBezTo>
                  <a:pt x="0" y="525"/>
                  <a:pt x="61" y="775"/>
                  <a:pt x="109" y="1014"/>
                </a:cubicBezTo>
                <a:cubicBezTo>
                  <a:pt x="113" y="1077"/>
                  <a:pt x="116" y="1148"/>
                  <a:pt x="145" y="120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1752480" y="7515360"/>
            <a:ext cx="466920" cy="1276200"/>
          </a:xfrm>
          <a:custGeom>
            <a:avLst/>
            <a:gdLst/>
            <a:ahLst/>
            <a:rect l="l" t="t" r="r" b="b"/>
            <a:pathLst>
              <a:path w="294" h="804">
                <a:moveTo>
                  <a:pt x="276" y="0"/>
                </a:moveTo>
                <a:cubicBezTo>
                  <a:pt x="228" y="48"/>
                  <a:pt x="226" y="39"/>
                  <a:pt x="162" y="60"/>
                </a:cubicBezTo>
                <a:cubicBezTo>
                  <a:pt x="155" y="62"/>
                  <a:pt x="151" y="69"/>
                  <a:pt x="144" y="72"/>
                </a:cubicBezTo>
                <a:cubicBezTo>
                  <a:pt x="136" y="75"/>
                  <a:pt x="128" y="76"/>
                  <a:pt x="120" y="78"/>
                </a:cubicBezTo>
                <a:cubicBezTo>
                  <a:pt x="99" y="92"/>
                  <a:pt x="84" y="96"/>
                  <a:pt x="66" y="114"/>
                </a:cubicBezTo>
                <a:cubicBezTo>
                  <a:pt x="64" y="120"/>
                  <a:pt x="64" y="127"/>
                  <a:pt x="60" y="132"/>
                </a:cubicBezTo>
                <a:cubicBezTo>
                  <a:pt x="55" y="138"/>
                  <a:pt x="46" y="138"/>
                  <a:pt x="42" y="144"/>
                </a:cubicBezTo>
                <a:cubicBezTo>
                  <a:pt x="32" y="160"/>
                  <a:pt x="35" y="182"/>
                  <a:pt x="24" y="198"/>
                </a:cubicBezTo>
                <a:cubicBezTo>
                  <a:pt x="13" y="214"/>
                  <a:pt x="0" y="252"/>
                  <a:pt x="0" y="252"/>
                </a:cubicBezTo>
                <a:cubicBezTo>
                  <a:pt x="4" y="315"/>
                  <a:pt x="12" y="351"/>
                  <a:pt x="18" y="408"/>
                </a:cubicBezTo>
                <a:cubicBezTo>
                  <a:pt x="21" y="438"/>
                  <a:pt x="22" y="488"/>
                  <a:pt x="30" y="522"/>
                </a:cubicBezTo>
                <a:cubicBezTo>
                  <a:pt x="38" y="556"/>
                  <a:pt x="57" y="580"/>
                  <a:pt x="66" y="612"/>
                </a:cubicBezTo>
                <a:cubicBezTo>
                  <a:pt x="72" y="633"/>
                  <a:pt x="105" y="712"/>
                  <a:pt x="126" y="726"/>
                </a:cubicBezTo>
                <a:cubicBezTo>
                  <a:pt x="154" y="744"/>
                  <a:pt x="190" y="754"/>
                  <a:pt x="222" y="762"/>
                </a:cubicBezTo>
                <a:cubicBezTo>
                  <a:pt x="228" y="766"/>
                  <a:pt x="234" y="771"/>
                  <a:pt x="240" y="774"/>
                </a:cubicBezTo>
                <a:cubicBezTo>
                  <a:pt x="246" y="777"/>
                  <a:pt x="252" y="777"/>
                  <a:pt x="258" y="780"/>
                </a:cubicBezTo>
                <a:cubicBezTo>
                  <a:pt x="271" y="787"/>
                  <a:pt x="294" y="804"/>
                  <a:pt x="294" y="80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3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4" name=""/>
          <p:cNvSpPr/>
          <p:nvPr/>
        </p:nvSpPr>
        <p:spPr>
          <a:xfrm>
            <a:off x="1673280" y="961920"/>
            <a:ext cx="3124080" cy="1000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 flipV="1">
            <a:off x="4797360" y="1061064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6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9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0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1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2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3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4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5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6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7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8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9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4533840" y="3019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533840" y="2104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4533840" y="2790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4533840" y="2562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 flipV="1">
            <a:off x="4797360" y="103791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 flipH="1">
            <a:off x="5084640" y="385920"/>
            <a:ext cx="20880" cy="1029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4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5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7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8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9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0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2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3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4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6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4533840" y="2344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8925" name=""/>
          <p:cNvSpPr/>
          <p:nvPr/>
        </p:nvSpPr>
        <p:spPr>
          <a:xfrm>
            <a:off x="154800" y="10287000"/>
            <a:ext cx="15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5 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>
            <a:off x="1700280" y="10683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5229000" y="7156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5292360" y="686736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5378400" y="45338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5229360" y="1638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5227920" y="139392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ai rack   1, 2 , 3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256536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256536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2990880" y="161136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990880" y="1687680"/>
            <a:ext cx="76320" cy="759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3133800" y="1682640"/>
            <a:ext cx="7596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>
            <a:off x="3133800" y="1758960"/>
            <a:ext cx="7596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3279600" y="161136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3279600" y="1687680"/>
            <a:ext cx="76320" cy="759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3424320" y="1687680"/>
            <a:ext cx="75960" cy="759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3424320" y="1763640"/>
            <a:ext cx="7596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3857760" y="161136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8" name=""/>
          <p:cNvSpPr/>
          <p:nvPr/>
        </p:nvSpPr>
        <p:spPr>
          <a:xfrm>
            <a:off x="3857760" y="1687680"/>
            <a:ext cx="7596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9" name=""/>
          <p:cNvSpPr/>
          <p:nvPr/>
        </p:nvSpPr>
        <p:spPr>
          <a:xfrm>
            <a:off x="4002120" y="168768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4002120" y="176364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1" name=""/>
          <p:cNvSpPr/>
          <p:nvPr/>
        </p:nvSpPr>
        <p:spPr>
          <a:xfrm>
            <a:off x="4145040" y="161136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2" name=""/>
          <p:cNvSpPr/>
          <p:nvPr/>
        </p:nvSpPr>
        <p:spPr>
          <a:xfrm>
            <a:off x="4145040" y="1687680"/>
            <a:ext cx="7596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3" name=""/>
          <p:cNvSpPr/>
          <p:nvPr/>
        </p:nvSpPr>
        <p:spPr>
          <a:xfrm>
            <a:off x="4289400" y="168768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4" name=""/>
          <p:cNvSpPr/>
          <p:nvPr/>
        </p:nvSpPr>
        <p:spPr>
          <a:xfrm>
            <a:off x="4289400" y="176364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5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ARMADIO “ U.  T. C.S.  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6" name=""/>
          <p:cNvSpPr/>
          <p:nvPr/>
        </p:nvSpPr>
        <p:spPr>
          <a:xfrm>
            <a:off x="3141720" y="1969920"/>
            <a:ext cx="30337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7" name=""/>
          <p:cNvSpPr/>
          <p:nvPr/>
        </p:nvSpPr>
        <p:spPr>
          <a:xfrm>
            <a:off x="5167440" y="196992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2x8 F. O. a rack O. CED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8" name=""/>
          <p:cNvSpPr/>
          <p:nvPr/>
        </p:nvSpPr>
        <p:spPr>
          <a:xfrm>
            <a:off x="2846520" y="161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9" name=""/>
          <p:cNvSpPr/>
          <p:nvPr/>
        </p:nvSpPr>
        <p:spPr>
          <a:xfrm>
            <a:off x="3716280" y="161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0" name=""/>
          <p:cNvSpPr/>
          <p:nvPr/>
        </p:nvSpPr>
        <p:spPr>
          <a:xfrm>
            <a:off x="407520" y="19080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476280" y="218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1989000" y="204300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917000" y="1611360"/>
            <a:ext cx="25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2775960" y="1611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3646080" y="1611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>
            <a:off x="2997000" y="1969920"/>
            <a:ext cx="144360" cy="144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H="1">
            <a:off x="4292280" y="1969920"/>
            <a:ext cx="144360" cy="144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4000680" y="239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>
            <a:off x="2476440" y="239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2933640" y="239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3467160" y="239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H="1">
            <a:off x="5229360" y="47498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>
            <a:off x="5157720" y="2906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5210280" y="269064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INK RAME B/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5230800" y="330984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entro Stella F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 flipH="1">
            <a:off x="5229360" y="35258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1989000" y="32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>
            <a:off x="284940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>
            <a:off x="297180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304812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>
            <a:off x="312408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>
            <a:off x="335268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342900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357012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>
            <a:off x="327816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364500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371628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385920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393048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>
            <a:off x="411624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419256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>
            <a:off x="426888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400536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213372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220968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228600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41776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56716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70684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778120" y="27162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>
            <a:off x="2492280" y="27162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989000" y="266220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2134800" y="2790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2422080" y="2790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5" name=""/>
          <p:cNvSpPr/>
          <p:nvPr/>
        </p:nvSpPr>
        <p:spPr>
          <a:xfrm>
            <a:off x="2709360" y="2789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6" name=""/>
          <p:cNvSpPr/>
          <p:nvPr/>
        </p:nvSpPr>
        <p:spPr>
          <a:xfrm>
            <a:off x="4006440" y="278928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U.p.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1989000" y="2619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8" name=""/>
          <p:cNvSpPr/>
          <p:nvPr/>
        </p:nvSpPr>
        <p:spPr>
          <a:xfrm>
            <a:off x="4000680" y="2967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9" name=""/>
          <p:cNvSpPr/>
          <p:nvPr/>
        </p:nvSpPr>
        <p:spPr>
          <a:xfrm>
            <a:off x="2476440" y="296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0" name=""/>
          <p:cNvSpPr/>
          <p:nvPr/>
        </p:nvSpPr>
        <p:spPr>
          <a:xfrm>
            <a:off x="2933640" y="296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1" name=""/>
          <p:cNvSpPr/>
          <p:nvPr/>
        </p:nvSpPr>
        <p:spPr>
          <a:xfrm>
            <a:off x="3467160" y="2967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2" name=""/>
          <p:cNvSpPr/>
          <p:nvPr/>
        </p:nvSpPr>
        <p:spPr>
          <a:xfrm>
            <a:off x="5231160" y="4173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3" name=""/>
          <p:cNvSpPr/>
          <p:nvPr/>
        </p:nvSpPr>
        <p:spPr>
          <a:xfrm flipH="1">
            <a:off x="5229360" y="43894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4" name=""/>
          <p:cNvSpPr/>
          <p:nvPr/>
        </p:nvSpPr>
        <p:spPr>
          <a:xfrm>
            <a:off x="2133720" y="20890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5" name=""/>
          <p:cNvSpPr/>
          <p:nvPr/>
        </p:nvSpPr>
        <p:spPr>
          <a:xfrm>
            <a:off x="2133720" y="2165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6" name=""/>
          <p:cNvSpPr/>
          <p:nvPr/>
        </p:nvSpPr>
        <p:spPr>
          <a:xfrm>
            <a:off x="2273400" y="2165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7" name=""/>
          <p:cNvSpPr/>
          <p:nvPr/>
        </p:nvSpPr>
        <p:spPr>
          <a:xfrm>
            <a:off x="2273400" y="22417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2416320" y="20890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2416320" y="2165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2565360" y="2165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>
            <a:off x="2565360" y="225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>
            <a:off x="2990880" y="210168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2990880" y="217800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>
            <a:off x="3133800" y="2173320"/>
            <a:ext cx="7596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>
            <a:off x="3133800" y="2249640"/>
            <a:ext cx="75960" cy="759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>
            <a:off x="3279600" y="210168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3279600" y="2178000"/>
            <a:ext cx="7632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>
            <a:off x="3424320" y="2178000"/>
            <a:ext cx="75960" cy="76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>
            <a:off x="3424320" y="2254320"/>
            <a:ext cx="75960" cy="759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3857760" y="210168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3857760" y="21780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4002120" y="21780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>
            <a:off x="4002120" y="22543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>
            <a:off x="4145040" y="210168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4145040" y="21780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4289400" y="21780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4289400" y="22543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2846520" y="21016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716280" y="21016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3944880" y="5054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>
            <a:off x="2421000" y="5054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2878200" y="5054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3411360" y="5054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962520" y="5991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243828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289548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3429000" y="59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289548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>
            <a:off x="297180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0481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312408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335268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342900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35053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327816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365904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373536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381168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388764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411624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419256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426888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40417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4" name=""/>
          <p:cNvSpPr/>
          <p:nvPr/>
        </p:nvSpPr>
        <p:spPr>
          <a:xfrm>
            <a:off x="21337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5" name=""/>
          <p:cNvSpPr/>
          <p:nvPr/>
        </p:nvSpPr>
        <p:spPr>
          <a:xfrm>
            <a:off x="220968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228600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7" name=""/>
          <p:cNvSpPr/>
          <p:nvPr/>
        </p:nvSpPr>
        <p:spPr>
          <a:xfrm>
            <a:off x="23623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8" name=""/>
          <p:cNvSpPr/>
          <p:nvPr/>
        </p:nvSpPr>
        <p:spPr>
          <a:xfrm>
            <a:off x="259092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9" name=""/>
          <p:cNvSpPr/>
          <p:nvPr/>
        </p:nvSpPr>
        <p:spPr>
          <a:xfrm>
            <a:off x="266688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0" name=""/>
          <p:cNvSpPr/>
          <p:nvPr/>
        </p:nvSpPr>
        <p:spPr>
          <a:xfrm>
            <a:off x="2743200" y="583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1" name=""/>
          <p:cNvSpPr/>
          <p:nvPr/>
        </p:nvSpPr>
        <p:spPr>
          <a:xfrm>
            <a:off x="2516040" y="583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2" name=""/>
          <p:cNvSpPr/>
          <p:nvPr/>
        </p:nvSpPr>
        <p:spPr>
          <a:xfrm>
            <a:off x="3962520" y="55339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3" name=""/>
          <p:cNvSpPr/>
          <p:nvPr/>
        </p:nvSpPr>
        <p:spPr>
          <a:xfrm>
            <a:off x="2438280" y="553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4" name=""/>
          <p:cNvSpPr/>
          <p:nvPr/>
        </p:nvSpPr>
        <p:spPr>
          <a:xfrm>
            <a:off x="2895480" y="553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5" name=""/>
          <p:cNvSpPr/>
          <p:nvPr/>
        </p:nvSpPr>
        <p:spPr>
          <a:xfrm>
            <a:off x="3429000" y="553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6" name=""/>
          <p:cNvSpPr/>
          <p:nvPr/>
        </p:nvSpPr>
        <p:spPr>
          <a:xfrm>
            <a:off x="289548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297180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30481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312408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335268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342900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35053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>
            <a:off x="327816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365904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373536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>
            <a:off x="381168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>
            <a:off x="388764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411624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419256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426888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40417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21337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220968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>
            <a:off x="228600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>
            <a:off x="23623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259092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266688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>
            <a:off x="2743200" y="5381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2516040" y="5381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5157720" y="5283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5157720" y="6002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>
            <a:off x="5367960" y="528336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>
            <a:off x="5300640" y="5283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5300640" y="557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989000" y="5075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1989000" y="5283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1989000" y="549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1989000" y="5786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1989000" y="600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62520" y="78739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43828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289548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429000" y="78739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962520" y="8504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243828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289548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429000" y="850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28954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29718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30481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31240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>
            <a:off x="33526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34290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35053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32781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36590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37353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8" name=""/>
          <p:cNvSpPr/>
          <p:nvPr/>
        </p:nvSpPr>
        <p:spPr>
          <a:xfrm>
            <a:off x="381168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9" name=""/>
          <p:cNvSpPr/>
          <p:nvPr/>
        </p:nvSpPr>
        <p:spPr>
          <a:xfrm>
            <a:off x="38876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41162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1" name=""/>
          <p:cNvSpPr/>
          <p:nvPr/>
        </p:nvSpPr>
        <p:spPr>
          <a:xfrm>
            <a:off x="419256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2" name=""/>
          <p:cNvSpPr/>
          <p:nvPr/>
        </p:nvSpPr>
        <p:spPr>
          <a:xfrm>
            <a:off x="426888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3" name=""/>
          <p:cNvSpPr/>
          <p:nvPr/>
        </p:nvSpPr>
        <p:spPr>
          <a:xfrm>
            <a:off x="40417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4" name=""/>
          <p:cNvSpPr/>
          <p:nvPr/>
        </p:nvSpPr>
        <p:spPr>
          <a:xfrm>
            <a:off x="21337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5" name=""/>
          <p:cNvSpPr/>
          <p:nvPr/>
        </p:nvSpPr>
        <p:spPr>
          <a:xfrm>
            <a:off x="22096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6" name=""/>
          <p:cNvSpPr/>
          <p:nvPr/>
        </p:nvSpPr>
        <p:spPr>
          <a:xfrm>
            <a:off x="22860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7" name=""/>
          <p:cNvSpPr/>
          <p:nvPr/>
        </p:nvSpPr>
        <p:spPr>
          <a:xfrm>
            <a:off x="23623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8" name=""/>
          <p:cNvSpPr/>
          <p:nvPr/>
        </p:nvSpPr>
        <p:spPr>
          <a:xfrm>
            <a:off x="259092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9" name=""/>
          <p:cNvSpPr/>
          <p:nvPr/>
        </p:nvSpPr>
        <p:spPr>
          <a:xfrm>
            <a:off x="266688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0" name=""/>
          <p:cNvSpPr/>
          <p:nvPr/>
        </p:nvSpPr>
        <p:spPr>
          <a:xfrm>
            <a:off x="2743200" y="7738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>
            <a:off x="2516040" y="7738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3500280" y="878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57660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364500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3720960" y="878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3797280" y="878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3500280" y="886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357660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364500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3720960" y="886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3797280" y="886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307008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31464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32148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>
            <a:off x="329076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33670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>
            <a:off x="307008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31464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32148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329076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33670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>
            <a:off x="2625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270180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27702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284652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2922480" y="879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2625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270180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27702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84652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2922480" y="8869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193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2701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23385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241452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24908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2193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22701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23385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241452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4908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39322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400860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407664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415296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4229280" y="879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39322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400860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407664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>
            <a:off x="415296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>
            <a:off x="4229280" y="8869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960720" y="8955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2436840" y="8955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2894040" y="8955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3427560" y="8955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1917360" y="7370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>
            <a:off x="28954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29718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30481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31240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33526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34290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35053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32781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36590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37353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381168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38876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41162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419256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426888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40417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21337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22096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22860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23623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259092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266688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2743200" y="74548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2516040" y="74548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2079720" y="73119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 flipV="1">
            <a:off x="2079720" y="71593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 flipV="1">
            <a:off x="4289400" y="723564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3500280" y="920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>
            <a:off x="3576600" y="920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3645000" y="920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3720960" y="920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797280" y="920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500280" y="92822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3576600" y="92822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3645000" y="92822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3720960" y="92822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3797280" y="92822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070080" y="9210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314640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321480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3290760" y="9210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336708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3070080" y="9286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314640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321480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3290760" y="9286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336708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262584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701800" y="9210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277020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84652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2922480" y="92106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9" name=""/>
          <p:cNvSpPr/>
          <p:nvPr/>
        </p:nvSpPr>
        <p:spPr>
          <a:xfrm>
            <a:off x="262584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0" name=""/>
          <p:cNvSpPr/>
          <p:nvPr/>
        </p:nvSpPr>
        <p:spPr>
          <a:xfrm>
            <a:off x="2701800" y="9286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277020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284652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2922480" y="9286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219384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227016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>
            <a:off x="233856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>
            <a:off x="241452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249084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219384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227016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233856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241452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>
            <a:off x="249084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393228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400860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>
            <a:off x="407664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415296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4229280" y="92106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393228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0" name=""/>
          <p:cNvSpPr/>
          <p:nvPr/>
        </p:nvSpPr>
        <p:spPr>
          <a:xfrm>
            <a:off x="400860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>
            <a:off x="407664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415296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3" name=""/>
          <p:cNvSpPr/>
          <p:nvPr/>
        </p:nvSpPr>
        <p:spPr>
          <a:xfrm>
            <a:off x="4229280" y="9286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>
            <a:off x="3960720" y="944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5" name=""/>
          <p:cNvSpPr/>
          <p:nvPr/>
        </p:nvSpPr>
        <p:spPr>
          <a:xfrm>
            <a:off x="2436840" y="944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2894040" y="9445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3427560" y="9445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9166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4296240" y="73706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429336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1989000" y="737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989000" y="7586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989000" y="80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1989000" y="895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>
            <a:off x="1989000" y="9387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1916280" y="96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5157720" y="7372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5157720" y="802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5300640" y="73724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5300640" y="773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5300640" y="737064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1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4 ascens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>
            <a:off x="5304240" y="891864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 flipH="1">
            <a:off x="5373720" y="888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8" name=""/>
          <p:cNvSpPr/>
          <p:nvPr/>
        </p:nvSpPr>
        <p:spPr>
          <a:xfrm>
            <a:off x="5168880" y="85248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>
            <a:off x="5157720" y="9531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5300640" y="8524800"/>
            <a:ext cx="0" cy="10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2039760" y="3317760"/>
            <a:ext cx="2598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2" name=""/>
          <p:cNvSpPr/>
          <p:nvPr/>
        </p:nvSpPr>
        <p:spPr>
          <a:xfrm>
            <a:off x="3639960" y="362268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3" name=""/>
          <p:cNvSpPr/>
          <p:nvPr/>
        </p:nvSpPr>
        <p:spPr>
          <a:xfrm>
            <a:off x="3868560" y="362268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4" name=""/>
          <p:cNvSpPr/>
          <p:nvPr/>
        </p:nvSpPr>
        <p:spPr>
          <a:xfrm>
            <a:off x="2268360" y="35463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2496960" y="35463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>
            <a:off x="2725560" y="35463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2954160" y="354636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2268360" y="36990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2496960" y="36990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2725560" y="36990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2954160" y="36990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182760" y="3699000"/>
            <a:ext cx="152640" cy="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2268360" y="38512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2496960" y="385128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2725560" y="385128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3182760" y="385128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2112840" y="4541760"/>
            <a:ext cx="254016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21891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2654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23414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>
            <a:off x="24177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25700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26463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>
            <a:off x="27226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>
            <a:off x="27986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29512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30272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31035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>
            <a:off x="31798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>
            <a:off x="33321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34084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34844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5607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7130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>
            <a:off x="37893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8656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9416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40942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417024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4246560" y="461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4322880" y="461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1891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2654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23414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4177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25700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26463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27226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7986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9512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0272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1035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31798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33321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>
            <a:off x="34084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34844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35607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>
            <a:off x="37130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>
            <a:off x="37893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38656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39416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40942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417024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4246560" y="4770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4322880" y="4770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4459320" y="4618080"/>
            <a:ext cx="122040" cy="128520"/>
          </a:xfrm>
          <a:custGeom>
            <a:avLst/>
            <a:gdLst>
              <a:gd name="textAreaLeft" fmla="*/ 26640 w 122040"/>
              <a:gd name="textAreaRight" fmla="*/ 95400 w 122040"/>
              <a:gd name="textAreaTop" fmla="*/ 28080 h 128520"/>
              <a:gd name="textAreaBottom" fmla="*/ 10044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2039760" y="4241880"/>
            <a:ext cx="2540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2192400" y="4241880"/>
            <a:ext cx="30456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4278240" y="3368520"/>
            <a:ext cx="152640" cy="2286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4278240" y="3673440"/>
            <a:ext cx="15264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>
            <a:off x="2268360" y="33559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2" name=""/>
          <p:cNvSpPr/>
          <p:nvPr/>
        </p:nvSpPr>
        <p:spPr>
          <a:xfrm>
            <a:off x="2496960" y="33559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3" name=""/>
          <p:cNvSpPr/>
          <p:nvPr/>
        </p:nvSpPr>
        <p:spPr>
          <a:xfrm>
            <a:off x="2725560" y="33559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4" name=""/>
          <p:cNvSpPr/>
          <p:nvPr/>
        </p:nvSpPr>
        <p:spPr>
          <a:xfrm>
            <a:off x="2954160" y="33559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3182760" y="33559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3411360" y="33559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3639960" y="33559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>
            <a:off x="3868560" y="3355920"/>
            <a:ext cx="15264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>
            <a:off x="2039760" y="335592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3979800" y="4038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2455920" y="4038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2913120" y="4038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>
            <a:off x="3446640" y="4038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3932280" y="3776760"/>
            <a:ext cx="561960" cy="847800"/>
          </a:xfrm>
          <a:custGeom>
            <a:avLst/>
            <a:gdLst/>
            <a:ahLst/>
            <a:rect l="l" t="t" r="r" b="b"/>
            <a:pathLst>
              <a:path w="354" h="534">
                <a:moveTo>
                  <a:pt x="6" y="0"/>
                </a:moveTo>
                <a:cubicBezTo>
                  <a:pt x="13" y="121"/>
                  <a:pt x="0" y="76"/>
                  <a:pt x="42" y="138"/>
                </a:cubicBezTo>
                <a:cubicBezTo>
                  <a:pt x="52" y="177"/>
                  <a:pt x="67" y="187"/>
                  <a:pt x="102" y="204"/>
                </a:cubicBezTo>
                <a:cubicBezTo>
                  <a:pt x="119" y="230"/>
                  <a:pt x="128" y="224"/>
                  <a:pt x="156" y="234"/>
                </a:cubicBezTo>
                <a:cubicBezTo>
                  <a:pt x="184" y="245"/>
                  <a:pt x="210" y="257"/>
                  <a:pt x="240" y="264"/>
                </a:cubicBezTo>
                <a:cubicBezTo>
                  <a:pt x="269" y="283"/>
                  <a:pt x="251" y="274"/>
                  <a:pt x="294" y="288"/>
                </a:cubicBezTo>
                <a:cubicBezTo>
                  <a:pt x="300" y="290"/>
                  <a:pt x="312" y="294"/>
                  <a:pt x="312" y="294"/>
                </a:cubicBezTo>
                <a:cubicBezTo>
                  <a:pt x="314" y="302"/>
                  <a:pt x="316" y="310"/>
                  <a:pt x="318" y="318"/>
                </a:cubicBezTo>
                <a:cubicBezTo>
                  <a:pt x="322" y="330"/>
                  <a:pt x="330" y="354"/>
                  <a:pt x="330" y="354"/>
                </a:cubicBezTo>
                <a:cubicBezTo>
                  <a:pt x="333" y="409"/>
                  <a:pt x="328" y="482"/>
                  <a:pt x="354" y="53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 flipV="1">
            <a:off x="2112840" y="317448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 flipV="1">
            <a:off x="2328840" y="317448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2544840" y="317448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 flipV="1">
            <a:off x="2760840" y="317448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3048120" y="317448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1463760" y="2266920"/>
            <a:ext cx="1546200" cy="1857240"/>
          </a:xfrm>
          <a:custGeom>
            <a:avLst/>
            <a:gdLst/>
            <a:ahLst/>
            <a:rect l="l" t="t" r="r" b="b"/>
            <a:pathLst>
              <a:path w="974" h="1170">
                <a:moveTo>
                  <a:pt x="974" y="0"/>
                </a:moveTo>
                <a:cubicBezTo>
                  <a:pt x="962" y="72"/>
                  <a:pt x="956" y="78"/>
                  <a:pt x="902" y="132"/>
                </a:cubicBezTo>
                <a:cubicBezTo>
                  <a:pt x="872" y="162"/>
                  <a:pt x="818" y="136"/>
                  <a:pt x="776" y="138"/>
                </a:cubicBezTo>
                <a:cubicBezTo>
                  <a:pt x="645" y="171"/>
                  <a:pt x="441" y="154"/>
                  <a:pt x="344" y="156"/>
                </a:cubicBezTo>
                <a:cubicBezTo>
                  <a:pt x="294" y="166"/>
                  <a:pt x="249" y="190"/>
                  <a:pt x="200" y="198"/>
                </a:cubicBezTo>
                <a:cubicBezTo>
                  <a:pt x="178" y="212"/>
                  <a:pt x="152" y="238"/>
                  <a:pt x="128" y="246"/>
                </a:cubicBezTo>
                <a:cubicBezTo>
                  <a:pt x="112" y="271"/>
                  <a:pt x="98" y="288"/>
                  <a:pt x="74" y="306"/>
                </a:cubicBezTo>
                <a:cubicBezTo>
                  <a:pt x="63" y="350"/>
                  <a:pt x="52" y="395"/>
                  <a:pt x="38" y="438"/>
                </a:cubicBezTo>
                <a:cubicBezTo>
                  <a:pt x="36" y="452"/>
                  <a:pt x="35" y="466"/>
                  <a:pt x="32" y="480"/>
                </a:cubicBezTo>
                <a:cubicBezTo>
                  <a:pt x="29" y="492"/>
                  <a:pt x="20" y="516"/>
                  <a:pt x="20" y="516"/>
                </a:cubicBezTo>
                <a:cubicBezTo>
                  <a:pt x="5" y="668"/>
                  <a:pt x="0" y="621"/>
                  <a:pt x="14" y="876"/>
                </a:cubicBezTo>
                <a:cubicBezTo>
                  <a:pt x="15" y="889"/>
                  <a:pt x="26" y="912"/>
                  <a:pt x="26" y="912"/>
                </a:cubicBezTo>
                <a:cubicBezTo>
                  <a:pt x="33" y="961"/>
                  <a:pt x="38" y="989"/>
                  <a:pt x="86" y="1008"/>
                </a:cubicBezTo>
                <a:cubicBezTo>
                  <a:pt x="97" y="1019"/>
                  <a:pt x="111" y="1027"/>
                  <a:pt x="122" y="1038"/>
                </a:cubicBezTo>
                <a:cubicBezTo>
                  <a:pt x="127" y="1043"/>
                  <a:pt x="129" y="1051"/>
                  <a:pt x="134" y="1056"/>
                </a:cubicBezTo>
                <a:cubicBezTo>
                  <a:pt x="145" y="1065"/>
                  <a:pt x="170" y="1080"/>
                  <a:pt x="170" y="1080"/>
                </a:cubicBezTo>
                <a:cubicBezTo>
                  <a:pt x="196" y="1119"/>
                  <a:pt x="251" y="1135"/>
                  <a:pt x="296" y="1146"/>
                </a:cubicBezTo>
                <a:cubicBezTo>
                  <a:pt x="324" y="1164"/>
                  <a:pt x="347" y="1165"/>
                  <a:pt x="380" y="1170"/>
                </a:cubicBezTo>
                <a:cubicBezTo>
                  <a:pt x="404" y="1168"/>
                  <a:pt x="429" y="1170"/>
                  <a:pt x="452" y="1164"/>
                </a:cubicBezTo>
                <a:cubicBezTo>
                  <a:pt x="466" y="1160"/>
                  <a:pt x="488" y="1140"/>
                  <a:pt x="488" y="1140"/>
                </a:cubicBezTo>
                <a:cubicBezTo>
                  <a:pt x="500" y="1122"/>
                  <a:pt x="506" y="1104"/>
                  <a:pt x="518" y="1086"/>
                </a:cubicBezTo>
                <a:cubicBezTo>
                  <a:pt x="524" y="1047"/>
                  <a:pt x="515" y="1059"/>
                  <a:pt x="530" y="104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2571840" y="2333520"/>
            <a:ext cx="2314440" cy="1857600"/>
          </a:xfrm>
          <a:custGeom>
            <a:avLst/>
            <a:gdLst/>
            <a:ahLst/>
            <a:rect l="l" t="t" r="r" b="b"/>
            <a:pathLst>
              <a:path w="1458" h="1170">
                <a:moveTo>
                  <a:pt x="372" y="0"/>
                </a:moveTo>
                <a:cubicBezTo>
                  <a:pt x="397" y="38"/>
                  <a:pt x="420" y="69"/>
                  <a:pt x="462" y="90"/>
                </a:cubicBezTo>
                <a:cubicBezTo>
                  <a:pt x="698" y="76"/>
                  <a:pt x="614" y="78"/>
                  <a:pt x="1008" y="84"/>
                </a:cubicBezTo>
                <a:cubicBezTo>
                  <a:pt x="1116" y="99"/>
                  <a:pt x="964" y="79"/>
                  <a:pt x="1176" y="96"/>
                </a:cubicBezTo>
                <a:cubicBezTo>
                  <a:pt x="1246" y="102"/>
                  <a:pt x="1313" y="149"/>
                  <a:pt x="1368" y="186"/>
                </a:cubicBezTo>
                <a:cubicBezTo>
                  <a:pt x="1408" y="246"/>
                  <a:pt x="1382" y="195"/>
                  <a:pt x="1398" y="270"/>
                </a:cubicBezTo>
                <a:cubicBezTo>
                  <a:pt x="1407" y="311"/>
                  <a:pt x="1427" y="346"/>
                  <a:pt x="1440" y="384"/>
                </a:cubicBezTo>
                <a:cubicBezTo>
                  <a:pt x="1442" y="414"/>
                  <a:pt x="1446" y="444"/>
                  <a:pt x="1446" y="474"/>
                </a:cubicBezTo>
                <a:cubicBezTo>
                  <a:pt x="1446" y="609"/>
                  <a:pt x="1458" y="828"/>
                  <a:pt x="1344" y="942"/>
                </a:cubicBezTo>
                <a:cubicBezTo>
                  <a:pt x="1322" y="1008"/>
                  <a:pt x="1286" y="1066"/>
                  <a:pt x="1236" y="1116"/>
                </a:cubicBezTo>
                <a:cubicBezTo>
                  <a:pt x="1222" y="1130"/>
                  <a:pt x="1200" y="1134"/>
                  <a:pt x="1182" y="1140"/>
                </a:cubicBezTo>
                <a:cubicBezTo>
                  <a:pt x="1175" y="1142"/>
                  <a:pt x="1171" y="1150"/>
                  <a:pt x="1164" y="1152"/>
                </a:cubicBezTo>
                <a:cubicBezTo>
                  <a:pt x="1139" y="1161"/>
                  <a:pt x="1107" y="1166"/>
                  <a:pt x="1080" y="1170"/>
                </a:cubicBezTo>
                <a:cubicBezTo>
                  <a:pt x="935" y="1164"/>
                  <a:pt x="793" y="1137"/>
                  <a:pt x="648" y="1134"/>
                </a:cubicBezTo>
                <a:cubicBezTo>
                  <a:pt x="502" y="1131"/>
                  <a:pt x="356" y="1130"/>
                  <a:pt x="210" y="1128"/>
                </a:cubicBezTo>
                <a:cubicBezTo>
                  <a:pt x="150" y="1108"/>
                  <a:pt x="90" y="1094"/>
                  <a:pt x="30" y="1074"/>
                </a:cubicBezTo>
                <a:cubicBezTo>
                  <a:pt x="19" y="1053"/>
                  <a:pt x="17" y="1031"/>
                  <a:pt x="0" y="101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2027160" y="4667400"/>
            <a:ext cx="182520" cy="723600"/>
          </a:xfrm>
          <a:custGeom>
            <a:avLst/>
            <a:gdLst/>
            <a:ahLst/>
            <a:rect l="l" t="t" r="r" b="b"/>
            <a:pathLst>
              <a:path w="115" h="456">
                <a:moveTo>
                  <a:pt x="115" y="0"/>
                </a:moveTo>
                <a:cubicBezTo>
                  <a:pt x="101" y="21"/>
                  <a:pt x="88" y="34"/>
                  <a:pt x="67" y="48"/>
                </a:cubicBezTo>
                <a:cubicBezTo>
                  <a:pt x="54" y="67"/>
                  <a:pt x="35" y="81"/>
                  <a:pt x="25" y="102"/>
                </a:cubicBezTo>
                <a:cubicBezTo>
                  <a:pt x="0" y="152"/>
                  <a:pt x="41" y="86"/>
                  <a:pt x="7" y="138"/>
                </a:cubicBezTo>
                <a:cubicBezTo>
                  <a:pt x="9" y="226"/>
                  <a:pt x="7" y="314"/>
                  <a:pt x="13" y="402"/>
                </a:cubicBezTo>
                <a:cubicBezTo>
                  <a:pt x="14" y="421"/>
                  <a:pt x="35" y="438"/>
                  <a:pt x="49" y="444"/>
                </a:cubicBezTo>
                <a:cubicBezTo>
                  <a:pt x="57" y="448"/>
                  <a:pt x="73" y="456"/>
                  <a:pt x="73" y="45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>
            <a:off x="1733400" y="7496280"/>
            <a:ext cx="486000" cy="1342800"/>
          </a:xfrm>
          <a:custGeom>
            <a:avLst/>
            <a:gdLst/>
            <a:ahLst/>
            <a:rect l="l" t="t" r="r" b="b"/>
            <a:pathLst>
              <a:path w="306" h="846">
                <a:moveTo>
                  <a:pt x="270" y="0"/>
                </a:moveTo>
                <a:cubicBezTo>
                  <a:pt x="245" y="8"/>
                  <a:pt x="217" y="10"/>
                  <a:pt x="192" y="18"/>
                </a:cubicBezTo>
                <a:cubicBezTo>
                  <a:pt x="166" y="27"/>
                  <a:pt x="146" y="39"/>
                  <a:pt x="120" y="48"/>
                </a:cubicBezTo>
                <a:cubicBezTo>
                  <a:pt x="109" y="59"/>
                  <a:pt x="94" y="66"/>
                  <a:pt x="84" y="78"/>
                </a:cubicBezTo>
                <a:cubicBezTo>
                  <a:pt x="80" y="83"/>
                  <a:pt x="82" y="91"/>
                  <a:pt x="78" y="96"/>
                </a:cubicBezTo>
                <a:cubicBezTo>
                  <a:pt x="64" y="117"/>
                  <a:pt x="52" y="126"/>
                  <a:pt x="42" y="150"/>
                </a:cubicBezTo>
                <a:cubicBezTo>
                  <a:pt x="38" y="158"/>
                  <a:pt x="33" y="166"/>
                  <a:pt x="30" y="174"/>
                </a:cubicBezTo>
                <a:cubicBezTo>
                  <a:pt x="25" y="186"/>
                  <a:pt x="18" y="210"/>
                  <a:pt x="18" y="210"/>
                </a:cubicBezTo>
                <a:cubicBezTo>
                  <a:pt x="14" y="288"/>
                  <a:pt x="20" y="323"/>
                  <a:pt x="0" y="384"/>
                </a:cubicBezTo>
                <a:cubicBezTo>
                  <a:pt x="4" y="443"/>
                  <a:pt x="4" y="506"/>
                  <a:pt x="18" y="564"/>
                </a:cubicBezTo>
                <a:cubicBezTo>
                  <a:pt x="20" y="592"/>
                  <a:pt x="15" y="622"/>
                  <a:pt x="24" y="648"/>
                </a:cubicBezTo>
                <a:cubicBezTo>
                  <a:pt x="37" y="686"/>
                  <a:pt x="100" y="702"/>
                  <a:pt x="126" y="726"/>
                </a:cubicBezTo>
                <a:cubicBezTo>
                  <a:pt x="174" y="769"/>
                  <a:pt x="143" y="756"/>
                  <a:pt x="180" y="768"/>
                </a:cubicBezTo>
                <a:cubicBezTo>
                  <a:pt x="203" y="791"/>
                  <a:pt x="237" y="823"/>
                  <a:pt x="270" y="834"/>
                </a:cubicBezTo>
                <a:cubicBezTo>
                  <a:pt x="282" y="838"/>
                  <a:pt x="306" y="846"/>
                  <a:pt x="306" y="84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4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5" name=""/>
          <p:cNvSpPr/>
          <p:nvPr/>
        </p:nvSpPr>
        <p:spPr>
          <a:xfrm>
            <a:off x="1673280" y="1231920"/>
            <a:ext cx="3124080" cy="993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1847880" y="191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1847880" y="328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1847880" y="237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1847880" y="306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1847880" y="214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 flipV="1">
            <a:off x="1676520" y="655560"/>
            <a:ext cx="53316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4800600" y="655560"/>
            <a:ext cx="3049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2209680" y="65556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 flipV="1">
            <a:off x="4797360" y="1088028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2743200" y="96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3581280" y="96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847880" y="351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1847880" y="168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1847880" y="146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1847880" y="123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1847880" y="283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>
            <a:off x="1847880" y="671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1847880" y="764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847880" y="717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1847880" y="787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1847880" y="694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1847880" y="810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1847880" y="648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>
            <a:off x="1847880" y="626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>
            <a:off x="1847880" y="603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847880" y="740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4533840" y="443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4533840" y="557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>
            <a:off x="4533840" y="488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>
            <a:off x="4533840" y="534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4533840" y="466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7" name=""/>
          <p:cNvSpPr/>
          <p:nvPr/>
        </p:nvSpPr>
        <p:spPr>
          <a:xfrm>
            <a:off x="4533840" y="580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8" name=""/>
          <p:cNvSpPr/>
          <p:nvPr/>
        </p:nvSpPr>
        <p:spPr>
          <a:xfrm>
            <a:off x="4533840" y="420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4533840" y="397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0" name=""/>
          <p:cNvSpPr/>
          <p:nvPr/>
        </p:nvSpPr>
        <p:spPr>
          <a:xfrm>
            <a:off x="4533840" y="374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1" name=""/>
          <p:cNvSpPr/>
          <p:nvPr/>
        </p:nvSpPr>
        <p:spPr>
          <a:xfrm>
            <a:off x="4533840" y="511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2" name=""/>
          <p:cNvSpPr/>
          <p:nvPr/>
        </p:nvSpPr>
        <p:spPr>
          <a:xfrm>
            <a:off x="1847880" y="443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3" name=""/>
          <p:cNvSpPr/>
          <p:nvPr/>
        </p:nvSpPr>
        <p:spPr>
          <a:xfrm>
            <a:off x="1847880" y="557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4" name=""/>
          <p:cNvSpPr/>
          <p:nvPr/>
        </p:nvSpPr>
        <p:spPr>
          <a:xfrm>
            <a:off x="1847880" y="488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5" name=""/>
          <p:cNvSpPr/>
          <p:nvPr/>
        </p:nvSpPr>
        <p:spPr>
          <a:xfrm>
            <a:off x="1847880" y="534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6" name=""/>
          <p:cNvSpPr/>
          <p:nvPr/>
        </p:nvSpPr>
        <p:spPr>
          <a:xfrm>
            <a:off x="1847880" y="466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7" name=""/>
          <p:cNvSpPr/>
          <p:nvPr/>
        </p:nvSpPr>
        <p:spPr>
          <a:xfrm>
            <a:off x="1847880" y="580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8" name=""/>
          <p:cNvSpPr/>
          <p:nvPr/>
        </p:nvSpPr>
        <p:spPr>
          <a:xfrm>
            <a:off x="1847880" y="420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9" name=""/>
          <p:cNvSpPr/>
          <p:nvPr/>
        </p:nvSpPr>
        <p:spPr>
          <a:xfrm>
            <a:off x="1847880" y="397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>
            <a:off x="1847880" y="374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847880" y="511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4533840" y="191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>
            <a:off x="4533840" y="3289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4533840" y="2374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>
            <a:off x="4533840" y="3060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4533840" y="214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4533840" y="3517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4533840" y="168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>
            <a:off x="4533840" y="146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>
            <a:off x="4533840" y="123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4533840" y="2832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>
            <a:off x="4533840" y="671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4533840" y="832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4533840" y="717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>
            <a:off x="4533840" y="763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4533840" y="694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4533840" y="810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>
            <a:off x="4533840" y="648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4533840" y="626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4533840" y="603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>
            <a:off x="4533840" y="740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4533840" y="671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4533840" y="717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4533840" y="763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4533840" y="694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4533840" y="648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4533840" y="626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4533840" y="603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4533840" y="740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>
            <a:off x="4533840" y="671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4533840" y="787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4533840" y="717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>
            <a:off x="4533840" y="763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4533840" y="694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4533840" y="648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4533840" y="626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4533840" y="603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4533840" y="740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1847880" y="832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1886040" y="878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1809720" y="878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1981080" y="38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060640" y="742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 flipV="1">
            <a:off x="4797360" y="1066500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1753200" y="215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1753200" y="238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7" name=""/>
          <p:cNvSpPr/>
          <p:nvPr/>
        </p:nvSpPr>
        <p:spPr>
          <a:xfrm>
            <a:off x="1753200" y="307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8" name=""/>
          <p:cNvSpPr/>
          <p:nvPr/>
        </p:nvSpPr>
        <p:spPr>
          <a:xfrm>
            <a:off x="1847880" y="627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1753200" y="695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0" name=""/>
          <p:cNvSpPr/>
          <p:nvPr/>
        </p:nvSpPr>
        <p:spPr>
          <a:xfrm>
            <a:off x="1753200" y="742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1" name=""/>
          <p:cNvSpPr/>
          <p:nvPr/>
        </p:nvSpPr>
        <p:spPr>
          <a:xfrm flipH="1">
            <a:off x="5084640" y="655560"/>
            <a:ext cx="20880" cy="1029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2" name=""/>
          <p:cNvSpPr/>
          <p:nvPr/>
        </p:nvSpPr>
        <p:spPr>
          <a:xfrm>
            <a:off x="1847880" y="855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3" name=""/>
          <p:cNvSpPr/>
          <p:nvPr/>
        </p:nvSpPr>
        <p:spPr>
          <a:xfrm>
            <a:off x="1847880" y="878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4" name=""/>
          <p:cNvSpPr/>
          <p:nvPr/>
        </p:nvSpPr>
        <p:spPr>
          <a:xfrm>
            <a:off x="1847880" y="924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5" name=""/>
          <p:cNvSpPr/>
          <p:nvPr/>
        </p:nvSpPr>
        <p:spPr>
          <a:xfrm>
            <a:off x="1847880" y="901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6" name=""/>
          <p:cNvSpPr/>
          <p:nvPr/>
        </p:nvSpPr>
        <p:spPr>
          <a:xfrm>
            <a:off x="4533840" y="855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7" name=""/>
          <p:cNvSpPr/>
          <p:nvPr/>
        </p:nvSpPr>
        <p:spPr>
          <a:xfrm>
            <a:off x="4533840" y="878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8" name=""/>
          <p:cNvSpPr/>
          <p:nvPr/>
        </p:nvSpPr>
        <p:spPr>
          <a:xfrm>
            <a:off x="4533840" y="901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9" name=""/>
          <p:cNvSpPr/>
          <p:nvPr/>
        </p:nvSpPr>
        <p:spPr>
          <a:xfrm>
            <a:off x="4533840" y="924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1847880" y="947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>
            <a:off x="1847880" y="970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>
            <a:off x="1847880" y="992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1847880" y="1015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4533840" y="970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533840" y="992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4533840" y="1015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533840" y="947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1847880" y="261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1753200" y="262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4533840" y="2614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1847880" y="1038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1847880" y="1061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4533840" y="1038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4533840" y="1061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1989000" y="78566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>
            <a:off x="1989000" y="8361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7" name="" descr=""/>
          <p:cNvPicPr/>
          <p:nvPr/>
        </p:nvPicPr>
        <p:blipFill>
          <a:blip r:embed="rId1"/>
          <a:stretch/>
        </p:blipFill>
        <p:spPr>
          <a:xfrm>
            <a:off x="76320" y="2700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9538" name=""/>
          <p:cNvSpPr/>
          <p:nvPr/>
        </p:nvSpPr>
        <p:spPr>
          <a:xfrm>
            <a:off x="1989000" y="692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>
            <a:off x="2060640" y="764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3962520" y="8774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>
            <a:off x="2438280" y="877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2895480" y="877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3429000" y="877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54440" y="1055700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>
            <a:off x="1981080" y="92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1989000" y="9729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1989000" y="9513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989000" y="9009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1989000" y="8793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5091840" y="110440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>
            <a:off x="1989000" y="7137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1700280" y="10953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500280" y="905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3576600" y="905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645000" y="905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720960" y="9058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3797280" y="9058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3500280" y="91346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3576600" y="9134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>
            <a:off x="3645000" y="9134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3720960" y="91346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3797280" y="91346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3070080" y="906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314640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321480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3290760" y="906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36708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070080" y="9139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314640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321480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3290760" y="9139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336708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3" name=""/>
          <p:cNvSpPr/>
          <p:nvPr/>
        </p:nvSpPr>
        <p:spPr>
          <a:xfrm>
            <a:off x="262584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4" name=""/>
          <p:cNvSpPr/>
          <p:nvPr/>
        </p:nvSpPr>
        <p:spPr>
          <a:xfrm>
            <a:off x="2701800" y="906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277020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6" name=""/>
          <p:cNvSpPr/>
          <p:nvPr/>
        </p:nvSpPr>
        <p:spPr>
          <a:xfrm>
            <a:off x="284652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7" name=""/>
          <p:cNvSpPr/>
          <p:nvPr/>
        </p:nvSpPr>
        <p:spPr>
          <a:xfrm>
            <a:off x="2922480" y="9063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8" name=""/>
          <p:cNvSpPr/>
          <p:nvPr/>
        </p:nvSpPr>
        <p:spPr>
          <a:xfrm>
            <a:off x="262584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9" name=""/>
          <p:cNvSpPr/>
          <p:nvPr/>
        </p:nvSpPr>
        <p:spPr>
          <a:xfrm>
            <a:off x="2701800" y="9139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0" name=""/>
          <p:cNvSpPr/>
          <p:nvPr/>
        </p:nvSpPr>
        <p:spPr>
          <a:xfrm>
            <a:off x="277020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1" name=""/>
          <p:cNvSpPr/>
          <p:nvPr/>
        </p:nvSpPr>
        <p:spPr>
          <a:xfrm>
            <a:off x="284652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2" name=""/>
          <p:cNvSpPr/>
          <p:nvPr/>
        </p:nvSpPr>
        <p:spPr>
          <a:xfrm>
            <a:off x="2922480" y="9139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3" name=""/>
          <p:cNvSpPr/>
          <p:nvPr/>
        </p:nvSpPr>
        <p:spPr>
          <a:xfrm>
            <a:off x="219384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4" name=""/>
          <p:cNvSpPr/>
          <p:nvPr/>
        </p:nvSpPr>
        <p:spPr>
          <a:xfrm>
            <a:off x="227016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5" name=""/>
          <p:cNvSpPr/>
          <p:nvPr/>
        </p:nvSpPr>
        <p:spPr>
          <a:xfrm>
            <a:off x="233856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241452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>
            <a:off x="249084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>
            <a:off x="219384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227016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233856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241452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249084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393228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400860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407664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415296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4229280" y="9063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393228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>
            <a:off x="400860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407664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415296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>
            <a:off x="4229280" y="9139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>
            <a:off x="3960720" y="929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2436840" y="929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2894040" y="929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3427560" y="9298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>
            <a:off x="3500280" y="9563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>
            <a:off x="3576600" y="956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3645000" y="956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3720960" y="9563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797280" y="9563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500280" y="963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>
            <a:off x="3576600" y="963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645000" y="963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720960" y="96393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3797280" y="9639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0686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14496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3213000" y="9567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328932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33656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>
            <a:off x="30686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314496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3213000" y="964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328932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33656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6258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701800" y="9567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277020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284652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2922480" y="9567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26258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>
            <a:off x="2701800" y="964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277020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284652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>
            <a:off x="2922480" y="9644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>
            <a:off x="21938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227016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233856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0" name=""/>
          <p:cNvSpPr/>
          <p:nvPr/>
        </p:nvSpPr>
        <p:spPr>
          <a:xfrm>
            <a:off x="241452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1" name=""/>
          <p:cNvSpPr/>
          <p:nvPr/>
        </p:nvSpPr>
        <p:spPr>
          <a:xfrm>
            <a:off x="24908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21938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3" name=""/>
          <p:cNvSpPr/>
          <p:nvPr/>
        </p:nvSpPr>
        <p:spPr>
          <a:xfrm>
            <a:off x="227016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4" name=""/>
          <p:cNvSpPr/>
          <p:nvPr/>
        </p:nvSpPr>
        <p:spPr>
          <a:xfrm>
            <a:off x="233856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5" name=""/>
          <p:cNvSpPr/>
          <p:nvPr/>
        </p:nvSpPr>
        <p:spPr>
          <a:xfrm>
            <a:off x="241452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6" name=""/>
          <p:cNvSpPr/>
          <p:nvPr/>
        </p:nvSpPr>
        <p:spPr>
          <a:xfrm>
            <a:off x="24908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7" name=""/>
          <p:cNvSpPr/>
          <p:nvPr/>
        </p:nvSpPr>
        <p:spPr>
          <a:xfrm>
            <a:off x="393228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8" name=""/>
          <p:cNvSpPr/>
          <p:nvPr/>
        </p:nvSpPr>
        <p:spPr>
          <a:xfrm>
            <a:off x="400860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9" name=""/>
          <p:cNvSpPr/>
          <p:nvPr/>
        </p:nvSpPr>
        <p:spPr>
          <a:xfrm>
            <a:off x="407664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0" name=""/>
          <p:cNvSpPr/>
          <p:nvPr/>
        </p:nvSpPr>
        <p:spPr>
          <a:xfrm>
            <a:off x="415296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1" name=""/>
          <p:cNvSpPr/>
          <p:nvPr/>
        </p:nvSpPr>
        <p:spPr>
          <a:xfrm>
            <a:off x="4229280" y="9567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2" name=""/>
          <p:cNvSpPr/>
          <p:nvPr/>
        </p:nvSpPr>
        <p:spPr>
          <a:xfrm>
            <a:off x="393228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>
            <a:off x="400860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>
            <a:off x="407664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>
            <a:off x="415296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4229280" y="9644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>
            <a:off x="3960720" y="972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2436840" y="972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9" name=""/>
          <p:cNvSpPr/>
          <p:nvPr/>
        </p:nvSpPr>
        <p:spPr>
          <a:xfrm>
            <a:off x="2894040" y="9729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0" name=""/>
          <p:cNvSpPr/>
          <p:nvPr/>
        </p:nvSpPr>
        <p:spPr>
          <a:xfrm>
            <a:off x="3427560" y="9729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1" name=""/>
          <p:cNvSpPr/>
          <p:nvPr/>
        </p:nvSpPr>
        <p:spPr>
          <a:xfrm>
            <a:off x="1989000" y="8145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2" name=""/>
          <p:cNvSpPr/>
          <p:nvPr/>
        </p:nvSpPr>
        <p:spPr>
          <a:xfrm>
            <a:off x="1990080" y="9515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3" name=""/>
          <p:cNvSpPr/>
          <p:nvPr/>
        </p:nvSpPr>
        <p:spPr>
          <a:xfrm>
            <a:off x="1916640" y="9947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4" name=""/>
          <p:cNvSpPr/>
          <p:nvPr/>
        </p:nvSpPr>
        <p:spPr>
          <a:xfrm>
            <a:off x="4222800" y="99471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5" name=""/>
          <p:cNvSpPr/>
          <p:nvPr/>
        </p:nvSpPr>
        <p:spPr>
          <a:xfrm>
            <a:off x="1989000" y="9945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6" name=""/>
          <p:cNvSpPr/>
          <p:nvPr/>
        </p:nvSpPr>
        <p:spPr>
          <a:xfrm>
            <a:off x="1989000" y="857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7" name=""/>
          <p:cNvSpPr/>
          <p:nvPr/>
        </p:nvSpPr>
        <p:spPr>
          <a:xfrm>
            <a:off x="1989000" y="238428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8" name="PlaceHolder 1"/>
          <p:cNvSpPr>
            <a:spLocks noGrp="1"/>
          </p:cNvSpPr>
          <p:nvPr>
            <p:ph type="title"/>
          </p:nvPr>
        </p:nvSpPr>
        <p:spPr>
          <a:xfrm>
            <a:off x="623520" y="314280"/>
            <a:ext cx="58294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MUTATORE TELEFONICO LATO 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3500280" y="8131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3576600" y="8131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3645000" y="8131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>
            <a:off x="3720960" y="8131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3797280" y="8131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3500280" y="8207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3576600" y="8207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>
            <a:off x="3645000" y="8207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>
            <a:off x="3720960" y="82072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3797280" y="82072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3070080" y="8136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314640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>
            <a:off x="321480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>
            <a:off x="3290760" y="8136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336708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3070080" y="8211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314640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>
            <a:off x="321480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90760" y="8211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36708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262584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2701800" y="8136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277020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84652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2922480" y="8136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>
            <a:off x="262584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2701800" y="8211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277020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284652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2922480" y="8211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219384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227016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233856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241452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249084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19384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227016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233856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>
            <a:off x="241452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>
            <a:off x="249084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393228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400860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407664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>
            <a:off x="415296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4229280" y="8136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393228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>
            <a:off x="400860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407664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7" name=""/>
          <p:cNvSpPr/>
          <p:nvPr/>
        </p:nvSpPr>
        <p:spPr>
          <a:xfrm>
            <a:off x="415296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8" name=""/>
          <p:cNvSpPr/>
          <p:nvPr/>
        </p:nvSpPr>
        <p:spPr>
          <a:xfrm>
            <a:off x="4229280" y="8211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960720" y="8370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0" name=""/>
          <p:cNvSpPr/>
          <p:nvPr/>
        </p:nvSpPr>
        <p:spPr>
          <a:xfrm>
            <a:off x="2436840" y="8370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1" name=""/>
          <p:cNvSpPr/>
          <p:nvPr/>
        </p:nvSpPr>
        <p:spPr>
          <a:xfrm>
            <a:off x="2894040" y="8370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2" name=""/>
          <p:cNvSpPr/>
          <p:nvPr/>
        </p:nvSpPr>
        <p:spPr>
          <a:xfrm>
            <a:off x="3427560" y="8370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3" name=""/>
          <p:cNvSpPr/>
          <p:nvPr/>
        </p:nvSpPr>
        <p:spPr>
          <a:xfrm>
            <a:off x="3500280" y="8636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4" name=""/>
          <p:cNvSpPr/>
          <p:nvPr/>
        </p:nvSpPr>
        <p:spPr>
          <a:xfrm>
            <a:off x="357660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5" name=""/>
          <p:cNvSpPr/>
          <p:nvPr/>
        </p:nvSpPr>
        <p:spPr>
          <a:xfrm>
            <a:off x="364500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6" name=""/>
          <p:cNvSpPr/>
          <p:nvPr/>
        </p:nvSpPr>
        <p:spPr>
          <a:xfrm>
            <a:off x="3720960" y="8636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7" name=""/>
          <p:cNvSpPr/>
          <p:nvPr/>
        </p:nvSpPr>
        <p:spPr>
          <a:xfrm>
            <a:off x="3797280" y="8636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8" name=""/>
          <p:cNvSpPr/>
          <p:nvPr/>
        </p:nvSpPr>
        <p:spPr>
          <a:xfrm>
            <a:off x="3500280" y="8712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9" name=""/>
          <p:cNvSpPr/>
          <p:nvPr/>
        </p:nvSpPr>
        <p:spPr>
          <a:xfrm>
            <a:off x="3576600" y="8712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>
            <a:off x="3645000" y="8712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3720960" y="8712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3797280" y="8712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>
            <a:off x="30686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314496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>
            <a:off x="3213000" y="864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328932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33656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30686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>
            <a:off x="314496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>
            <a:off x="3213000" y="871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328932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>
            <a:off x="33656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26258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701800" y="864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>
            <a:off x="277020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284652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2922480" y="8640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>
            <a:off x="26258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2701800" y="871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277020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>
            <a:off x="284652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922480" y="8717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1938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227016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233856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241452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4908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1938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227016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>
            <a:off x="233856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241452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4908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>
            <a:off x="393228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400860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407664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415296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4229280" y="8640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93228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00860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407664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415296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4229280" y="8717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3500280" y="7210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3576600" y="721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3645000" y="721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3720960" y="7210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7" name=""/>
          <p:cNvSpPr/>
          <p:nvPr/>
        </p:nvSpPr>
        <p:spPr>
          <a:xfrm>
            <a:off x="3797280" y="7210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8" name=""/>
          <p:cNvSpPr/>
          <p:nvPr/>
        </p:nvSpPr>
        <p:spPr>
          <a:xfrm>
            <a:off x="3500280" y="7286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576600" y="7286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0" name=""/>
          <p:cNvSpPr/>
          <p:nvPr/>
        </p:nvSpPr>
        <p:spPr>
          <a:xfrm>
            <a:off x="3645000" y="7286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1" name=""/>
          <p:cNvSpPr/>
          <p:nvPr/>
        </p:nvSpPr>
        <p:spPr>
          <a:xfrm>
            <a:off x="3720960" y="7286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2" name=""/>
          <p:cNvSpPr/>
          <p:nvPr/>
        </p:nvSpPr>
        <p:spPr>
          <a:xfrm>
            <a:off x="3797280" y="7286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3" name=""/>
          <p:cNvSpPr/>
          <p:nvPr/>
        </p:nvSpPr>
        <p:spPr>
          <a:xfrm>
            <a:off x="3070080" y="721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4" name=""/>
          <p:cNvSpPr/>
          <p:nvPr/>
        </p:nvSpPr>
        <p:spPr>
          <a:xfrm>
            <a:off x="314640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5" name=""/>
          <p:cNvSpPr/>
          <p:nvPr/>
        </p:nvSpPr>
        <p:spPr>
          <a:xfrm>
            <a:off x="321480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6" name=""/>
          <p:cNvSpPr/>
          <p:nvPr/>
        </p:nvSpPr>
        <p:spPr>
          <a:xfrm>
            <a:off x="3290760" y="721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7" name=""/>
          <p:cNvSpPr/>
          <p:nvPr/>
        </p:nvSpPr>
        <p:spPr>
          <a:xfrm>
            <a:off x="336708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8" name=""/>
          <p:cNvSpPr/>
          <p:nvPr/>
        </p:nvSpPr>
        <p:spPr>
          <a:xfrm>
            <a:off x="3070080" y="729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9" name=""/>
          <p:cNvSpPr/>
          <p:nvPr/>
        </p:nvSpPr>
        <p:spPr>
          <a:xfrm>
            <a:off x="314640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321480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3290760" y="729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336708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262584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2701800" y="721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>
            <a:off x="277020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>
            <a:off x="284652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2922480" y="7215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>
            <a:off x="262584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2701800" y="729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277020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>
            <a:off x="284652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>
            <a:off x="2922480" y="729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219384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227016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33856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241452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>
            <a:off x="249084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>
            <a:off x="219384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227016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>
            <a:off x="233856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>
            <a:off x="241452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249084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393228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>
            <a:off x="400860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407664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415296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4229280" y="7215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393228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>
            <a:off x="400860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407664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>
            <a:off x="415296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4229280" y="729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3960720" y="7362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2436840" y="7362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2894040" y="7362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3427560" y="7362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3500280" y="7628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3576600" y="7628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3645000" y="7628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>
            <a:off x="3720960" y="7628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3797280" y="7628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3500280" y="7704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3576600" y="7704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4" name=""/>
          <p:cNvSpPr/>
          <p:nvPr/>
        </p:nvSpPr>
        <p:spPr>
          <a:xfrm>
            <a:off x="3645000" y="7704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5" name=""/>
          <p:cNvSpPr/>
          <p:nvPr/>
        </p:nvSpPr>
        <p:spPr>
          <a:xfrm>
            <a:off x="3720960" y="7704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797280" y="7704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7" name=""/>
          <p:cNvSpPr/>
          <p:nvPr/>
        </p:nvSpPr>
        <p:spPr>
          <a:xfrm>
            <a:off x="30686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8" name=""/>
          <p:cNvSpPr/>
          <p:nvPr/>
        </p:nvSpPr>
        <p:spPr>
          <a:xfrm>
            <a:off x="314496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9" name=""/>
          <p:cNvSpPr/>
          <p:nvPr/>
        </p:nvSpPr>
        <p:spPr>
          <a:xfrm>
            <a:off x="3213000" y="7632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0" name=""/>
          <p:cNvSpPr/>
          <p:nvPr/>
        </p:nvSpPr>
        <p:spPr>
          <a:xfrm>
            <a:off x="328932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1" name=""/>
          <p:cNvSpPr/>
          <p:nvPr/>
        </p:nvSpPr>
        <p:spPr>
          <a:xfrm>
            <a:off x="33656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2" name=""/>
          <p:cNvSpPr/>
          <p:nvPr/>
        </p:nvSpPr>
        <p:spPr>
          <a:xfrm>
            <a:off x="30686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3" name=""/>
          <p:cNvSpPr/>
          <p:nvPr/>
        </p:nvSpPr>
        <p:spPr>
          <a:xfrm>
            <a:off x="314496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4" name=""/>
          <p:cNvSpPr/>
          <p:nvPr/>
        </p:nvSpPr>
        <p:spPr>
          <a:xfrm>
            <a:off x="3213000" y="770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5" name=""/>
          <p:cNvSpPr/>
          <p:nvPr/>
        </p:nvSpPr>
        <p:spPr>
          <a:xfrm>
            <a:off x="328932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6" name=""/>
          <p:cNvSpPr/>
          <p:nvPr/>
        </p:nvSpPr>
        <p:spPr>
          <a:xfrm>
            <a:off x="33656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26258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>
            <a:off x="2701800" y="7632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>
            <a:off x="277020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284652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2922480" y="7632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26258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2701800" y="770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277020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284652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2922480" y="770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21938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27016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233856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>
            <a:off x="241452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24908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21938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>
            <a:off x="227016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>
            <a:off x="233856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241452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24908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393228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>
            <a:off x="400860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>
            <a:off x="407664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415296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4229280" y="7632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93228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400860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>
            <a:off x="407664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415296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4229280" y="770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3944880" y="6921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2421000" y="6921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2878200" y="69213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3411360" y="69213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3944880" y="784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421000" y="7843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>
            <a:off x="2878200" y="7843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3411360" y="784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4221000" y="72090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4293360" y="9515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916640" y="7209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1990080" y="8578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4293360" y="857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4221000" y="8145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4296240" y="6272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1916640" y="8145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1917360" y="6272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>
            <a:off x="3489480" y="994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3565440" y="994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3633840" y="994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>
            <a:off x="3710160" y="994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>
            <a:off x="3786120" y="994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3489480" y="1002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3565440" y="1002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1" name=""/>
          <p:cNvSpPr/>
          <p:nvPr/>
        </p:nvSpPr>
        <p:spPr>
          <a:xfrm>
            <a:off x="3633840" y="1002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710160" y="1002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"/>
          <p:cNvSpPr/>
          <p:nvPr/>
        </p:nvSpPr>
        <p:spPr>
          <a:xfrm>
            <a:off x="3786120" y="10022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4" name=""/>
          <p:cNvSpPr/>
          <p:nvPr/>
        </p:nvSpPr>
        <p:spPr>
          <a:xfrm>
            <a:off x="305748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5" name=""/>
          <p:cNvSpPr/>
          <p:nvPr/>
        </p:nvSpPr>
        <p:spPr>
          <a:xfrm>
            <a:off x="313380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6" name=""/>
          <p:cNvSpPr/>
          <p:nvPr/>
        </p:nvSpPr>
        <p:spPr>
          <a:xfrm>
            <a:off x="320184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7" name=""/>
          <p:cNvSpPr/>
          <p:nvPr/>
        </p:nvSpPr>
        <p:spPr>
          <a:xfrm>
            <a:off x="327816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8" name=""/>
          <p:cNvSpPr/>
          <p:nvPr/>
        </p:nvSpPr>
        <p:spPr>
          <a:xfrm>
            <a:off x="335448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9" name=""/>
          <p:cNvSpPr/>
          <p:nvPr/>
        </p:nvSpPr>
        <p:spPr>
          <a:xfrm>
            <a:off x="305748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0" name=""/>
          <p:cNvSpPr/>
          <p:nvPr/>
        </p:nvSpPr>
        <p:spPr>
          <a:xfrm>
            <a:off x="313380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1" name=""/>
          <p:cNvSpPr/>
          <p:nvPr/>
        </p:nvSpPr>
        <p:spPr>
          <a:xfrm>
            <a:off x="320184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2" name=""/>
          <p:cNvSpPr/>
          <p:nvPr/>
        </p:nvSpPr>
        <p:spPr>
          <a:xfrm>
            <a:off x="327816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3" name=""/>
          <p:cNvSpPr/>
          <p:nvPr/>
        </p:nvSpPr>
        <p:spPr>
          <a:xfrm>
            <a:off x="335448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4" name=""/>
          <p:cNvSpPr/>
          <p:nvPr/>
        </p:nvSpPr>
        <p:spPr>
          <a:xfrm>
            <a:off x="261468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269064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275904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283536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291132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261468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69064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275904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283536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291132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18268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225900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232740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240336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247968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>
            <a:off x="218268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>
            <a:off x="225900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232740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>
            <a:off x="240336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47968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4" name=""/>
          <p:cNvSpPr/>
          <p:nvPr/>
        </p:nvSpPr>
        <p:spPr>
          <a:xfrm>
            <a:off x="392112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5" name=""/>
          <p:cNvSpPr/>
          <p:nvPr/>
        </p:nvSpPr>
        <p:spPr>
          <a:xfrm>
            <a:off x="399744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4065480" y="995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7" name=""/>
          <p:cNvSpPr/>
          <p:nvPr/>
        </p:nvSpPr>
        <p:spPr>
          <a:xfrm>
            <a:off x="414180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8" name=""/>
          <p:cNvSpPr/>
          <p:nvPr/>
        </p:nvSpPr>
        <p:spPr>
          <a:xfrm>
            <a:off x="4218120" y="995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9" name=""/>
          <p:cNvSpPr/>
          <p:nvPr/>
        </p:nvSpPr>
        <p:spPr>
          <a:xfrm>
            <a:off x="392112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0" name=""/>
          <p:cNvSpPr/>
          <p:nvPr/>
        </p:nvSpPr>
        <p:spPr>
          <a:xfrm>
            <a:off x="399744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1" name=""/>
          <p:cNvSpPr/>
          <p:nvPr/>
        </p:nvSpPr>
        <p:spPr>
          <a:xfrm>
            <a:off x="4065480" y="100267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2" name=""/>
          <p:cNvSpPr/>
          <p:nvPr/>
        </p:nvSpPr>
        <p:spPr>
          <a:xfrm>
            <a:off x="414180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3" name=""/>
          <p:cNvSpPr/>
          <p:nvPr/>
        </p:nvSpPr>
        <p:spPr>
          <a:xfrm>
            <a:off x="4218120" y="100267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4" name=""/>
          <p:cNvSpPr/>
          <p:nvPr/>
        </p:nvSpPr>
        <p:spPr>
          <a:xfrm>
            <a:off x="3949560" y="10112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5" name=""/>
          <p:cNvSpPr/>
          <p:nvPr/>
        </p:nvSpPr>
        <p:spPr>
          <a:xfrm>
            <a:off x="2425680" y="10112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6" name=""/>
          <p:cNvSpPr/>
          <p:nvPr/>
        </p:nvSpPr>
        <p:spPr>
          <a:xfrm>
            <a:off x="2882880" y="10112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3416400" y="10112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>
            <a:off x="1989000" y="1016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>
            <a:off x="1989000" y="1037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1916640" y="9010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4221000" y="90108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3489480" y="6346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3565440" y="6346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3633840" y="6346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3710160" y="6346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3786120" y="6346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3489480" y="642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3565440" y="642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3633840" y="642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>
            <a:off x="3710160" y="642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3786120" y="642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305928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>
            <a:off x="313524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>
            <a:off x="320364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327960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335592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305928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>
            <a:off x="313524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>
            <a:off x="320364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327960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335592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261468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269064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>
            <a:off x="275904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283536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291132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61468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269064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275904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283536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91132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8268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>
            <a:off x="225900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32740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240336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247968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218268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25900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32740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240336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247968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392112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399744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>
            <a:off x="4065480" y="63514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414180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4218120" y="63514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>
            <a:off x="392112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>
            <a:off x="399744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4065480" y="64278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414180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1" name=""/>
          <p:cNvSpPr/>
          <p:nvPr/>
        </p:nvSpPr>
        <p:spPr>
          <a:xfrm>
            <a:off x="4218120" y="64278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2" name=""/>
          <p:cNvSpPr/>
          <p:nvPr/>
        </p:nvSpPr>
        <p:spPr>
          <a:xfrm>
            <a:off x="3949560" y="6499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2425680" y="6499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4" name=""/>
          <p:cNvSpPr/>
          <p:nvPr/>
        </p:nvSpPr>
        <p:spPr>
          <a:xfrm>
            <a:off x="2882880" y="6499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5" name=""/>
          <p:cNvSpPr/>
          <p:nvPr/>
        </p:nvSpPr>
        <p:spPr>
          <a:xfrm>
            <a:off x="3416400" y="6499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6" name=""/>
          <p:cNvSpPr/>
          <p:nvPr/>
        </p:nvSpPr>
        <p:spPr>
          <a:xfrm>
            <a:off x="3489480" y="6764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7" name=""/>
          <p:cNvSpPr/>
          <p:nvPr/>
        </p:nvSpPr>
        <p:spPr>
          <a:xfrm>
            <a:off x="3565440" y="6764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8" name=""/>
          <p:cNvSpPr/>
          <p:nvPr/>
        </p:nvSpPr>
        <p:spPr>
          <a:xfrm>
            <a:off x="3633840" y="6764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9" name=""/>
          <p:cNvSpPr/>
          <p:nvPr/>
        </p:nvSpPr>
        <p:spPr>
          <a:xfrm>
            <a:off x="3710160" y="6764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0" name=""/>
          <p:cNvSpPr/>
          <p:nvPr/>
        </p:nvSpPr>
        <p:spPr>
          <a:xfrm>
            <a:off x="3786120" y="6764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1" name=""/>
          <p:cNvSpPr/>
          <p:nvPr/>
        </p:nvSpPr>
        <p:spPr>
          <a:xfrm>
            <a:off x="3489480" y="6840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2" name=""/>
          <p:cNvSpPr/>
          <p:nvPr/>
        </p:nvSpPr>
        <p:spPr>
          <a:xfrm>
            <a:off x="3565440" y="6840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3" name=""/>
          <p:cNvSpPr/>
          <p:nvPr/>
        </p:nvSpPr>
        <p:spPr>
          <a:xfrm>
            <a:off x="3633840" y="6840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3710160" y="6840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3786120" y="68403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305748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>
            <a:off x="313380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>
            <a:off x="320184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327816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>
            <a:off x="335448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>
            <a:off x="305748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313380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>
            <a:off x="320184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327816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>
            <a:off x="335448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>
            <a:off x="261468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269064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275904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283536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>
            <a:off x="291132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>
            <a:off x="261468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269064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>
            <a:off x="275904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283536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291132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18268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>
            <a:off x="225900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32740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240336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47968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>
            <a:off x="218268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225900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232740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240336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247968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92112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399744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4065480" y="676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414180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4218120" y="676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392112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399744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3" name=""/>
          <p:cNvSpPr/>
          <p:nvPr/>
        </p:nvSpPr>
        <p:spPr>
          <a:xfrm>
            <a:off x="4065480" y="6845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4" name=""/>
          <p:cNvSpPr/>
          <p:nvPr/>
        </p:nvSpPr>
        <p:spPr>
          <a:xfrm>
            <a:off x="414180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4218120" y="6845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3933720" y="605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>
            <a:off x="2409840" y="605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>
            <a:off x="2867040" y="6058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>
            <a:off x="3400560" y="6058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1989000" y="670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1989000" y="648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2" name=""/>
          <p:cNvSpPr/>
          <p:nvPr/>
        </p:nvSpPr>
        <p:spPr>
          <a:xfrm>
            <a:off x="1989000" y="627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3" name=""/>
          <p:cNvSpPr/>
          <p:nvPr/>
        </p:nvSpPr>
        <p:spPr>
          <a:xfrm>
            <a:off x="1989000" y="6056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4" name=""/>
          <p:cNvSpPr/>
          <p:nvPr/>
        </p:nvSpPr>
        <p:spPr>
          <a:xfrm>
            <a:off x="4293360" y="6707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5" name=""/>
          <p:cNvSpPr/>
          <p:nvPr/>
        </p:nvSpPr>
        <p:spPr>
          <a:xfrm>
            <a:off x="1917360" y="6707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6" name=""/>
          <p:cNvSpPr/>
          <p:nvPr/>
        </p:nvSpPr>
        <p:spPr>
          <a:xfrm>
            <a:off x="5301000" y="7172280"/>
            <a:ext cx="149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armadio U.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7" name=""/>
          <p:cNvSpPr/>
          <p:nvPr/>
        </p:nvSpPr>
        <p:spPr>
          <a:xfrm>
            <a:off x="5168880" y="67388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8" name=""/>
          <p:cNvSpPr/>
          <p:nvPr/>
        </p:nvSpPr>
        <p:spPr>
          <a:xfrm>
            <a:off x="5157720" y="7531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9" name=""/>
          <p:cNvSpPr/>
          <p:nvPr/>
        </p:nvSpPr>
        <p:spPr>
          <a:xfrm>
            <a:off x="5300640" y="67388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0" name=""/>
          <p:cNvSpPr/>
          <p:nvPr/>
        </p:nvSpPr>
        <p:spPr>
          <a:xfrm flipH="1">
            <a:off x="5391000" y="709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1" name=""/>
          <p:cNvSpPr/>
          <p:nvPr/>
        </p:nvSpPr>
        <p:spPr>
          <a:xfrm>
            <a:off x="5301360" y="6200640"/>
            <a:ext cx="143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coppie armadio U.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 flipH="1">
            <a:off x="5300640" y="6418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301000" y="8109000"/>
            <a:ext cx="149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armadio U.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>
            <a:off x="5168880" y="767556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>
            <a:off x="5157720" y="84675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5300640" y="7675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 flipH="1">
            <a:off x="5391000" y="8035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5301720" y="901080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armadio U.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>
            <a:off x="5168880" y="857736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>
            <a:off x="5157720" y="9369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5300640" y="857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 flipH="1">
            <a:off x="5391000" y="8937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>
            <a:off x="5303880" y="9909000"/>
            <a:ext cx="140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Osped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5168880" y="94759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5157720" y="1026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5300640" y="94759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 flipH="1">
            <a:off x="5391000" y="9836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917360" y="76420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4293360" y="76406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>
            <a:off x="2765520" y="1663560"/>
            <a:ext cx="9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UFF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1" name="NC01GBCO" descr=""/>
          <p:cNvPicPr/>
          <p:nvPr/>
        </p:nvPicPr>
        <p:blipFill>
          <a:blip r:embed="rId2"/>
          <a:stretch/>
        </p:blipFill>
        <p:spPr>
          <a:xfrm>
            <a:off x="6237360" y="2700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10092" name=""/>
          <p:cNvSpPr/>
          <p:nvPr/>
        </p:nvSpPr>
        <p:spPr>
          <a:xfrm>
            <a:off x="1847880" y="27000"/>
            <a:ext cx="38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UFFICI 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84320" cy="574560"/>
          </a:xfrm>
          <a:prstGeom prst="rect">
            <a:avLst/>
          </a:prstGeom>
          <a:ln w="0">
            <a:noFill/>
          </a:ln>
        </p:spPr>
      </p:pic>
      <p:sp>
        <p:nvSpPr>
          <p:cNvPr id="10094" name=""/>
          <p:cNvSpPr/>
          <p:nvPr/>
        </p:nvSpPr>
        <p:spPr>
          <a:xfrm>
            <a:off x="1563480" y="3360600"/>
            <a:ext cx="43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CHEMI  ARMADI 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F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5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6" name="NC01GBCO" descr=""/>
          <p:cNvPicPr/>
          <p:nvPr/>
        </p:nvPicPr>
        <p:blipFill>
          <a:blip r:embed="rId2"/>
          <a:stretch/>
        </p:blipFill>
        <p:spPr>
          <a:xfrm>
            <a:off x="5950080" y="0"/>
            <a:ext cx="647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84320" cy="574560"/>
          </a:xfrm>
          <a:prstGeom prst="rect">
            <a:avLst/>
          </a:prstGeom>
          <a:ln w="0">
            <a:noFill/>
          </a:ln>
        </p:spPr>
      </p:pic>
      <p:sp>
        <p:nvSpPr>
          <p:cNvPr id="10098" name=""/>
          <p:cNvSpPr/>
          <p:nvPr/>
        </p:nvSpPr>
        <p:spPr>
          <a:xfrm>
            <a:off x="1563480" y="3360600"/>
            <a:ext cx="43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CHEMI  ARMADI 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SPE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9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0" name="NC01GBCO" descr=""/>
          <p:cNvPicPr/>
          <p:nvPr/>
        </p:nvPicPr>
        <p:blipFill>
          <a:blip r:embed="rId2"/>
          <a:stretch/>
        </p:blipFill>
        <p:spPr>
          <a:xfrm>
            <a:off x="5950080" y="0"/>
            <a:ext cx="647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84320" cy="574560"/>
          </a:xfrm>
          <a:prstGeom prst="rect">
            <a:avLst/>
          </a:prstGeom>
          <a:ln w="0">
            <a:noFill/>
          </a:ln>
        </p:spPr>
      </p:pic>
      <p:sp>
        <p:nvSpPr>
          <p:cNvPr id="10102" name=""/>
          <p:cNvSpPr/>
          <p:nvPr/>
        </p:nvSpPr>
        <p:spPr>
          <a:xfrm>
            <a:off x="1562400" y="3360600"/>
            <a:ext cx="34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CHEMI  ARMAD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MUT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EFO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TO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OSPE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3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4" name="NC01GBCO" descr=""/>
          <p:cNvPicPr/>
          <p:nvPr/>
        </p:nvPicPr>
        <p:blipFill>
          <a:blip r:embed="rId2"/>
          <a:stretch/>
        </p:blipFill>
        <p:spPr>
          <a:xfrm>
            <a:off x="5950080" y="0"/>
            <a:ext cx="647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6230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73720" y="2330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81080" y="7602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962520" y="8078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382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954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2900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13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62520" y="8726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954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2900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81080" y="600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650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62520" y="939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382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2900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981080" y="668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6459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94040" y="80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68880" y="7659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57720" y="917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60640" y="9387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954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81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52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9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81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659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353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116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876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62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25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88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041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362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68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16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718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81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05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781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9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353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116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76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162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25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88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41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62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909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6668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432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16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4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2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781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659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353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116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876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162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25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688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41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2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909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668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16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954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718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81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59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353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116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76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162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925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688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41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33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09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86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362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909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668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6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6002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82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2900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9718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481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52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29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05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81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59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353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116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76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162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925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688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41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33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09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62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09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432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6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00280" y="8307360"/>
            <a:ext cx="12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111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67600" y="489420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1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62520" y="4130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9548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42900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00640" y="4491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300640" y="51260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0028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766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450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2096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79728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0028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766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6450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72096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9728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700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1464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148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9076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670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700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464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148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9076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3670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625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0180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702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46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224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25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70180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7702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846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224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93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701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385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14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90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193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701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385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414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90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32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0086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0766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529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229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32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0086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766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529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29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00640" y="765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072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368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940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427560" y="99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0028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766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450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2096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9728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028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5766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450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72096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79728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68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44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130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893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65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68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44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130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893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65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625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018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702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846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92248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25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018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702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46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2248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193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701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3385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414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90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93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2701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3385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14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90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32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086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76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52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29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32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0086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076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52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29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9336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16640" y="5786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962520" y="6443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382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954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2900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8954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481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40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52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05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781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659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53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116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76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62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925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88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133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09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6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62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909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668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7432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16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16640" y="6292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245120" y="62928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6072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4368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940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427560" y="1034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0028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766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6450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2096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9728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0028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766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450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2096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9728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68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44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13000" y="10617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893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65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68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44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13000" y="10693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893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65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370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1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813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576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33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370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1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813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576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933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93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701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385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4145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490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93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701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3385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145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90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32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0086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76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5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29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32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086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76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29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990080" y="9677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16640" y="1010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916280" y="10539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222800" y="101314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45120" y="105631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221720" y="9699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14440" y="367920"/>
            <a:ext cx="58291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O.  3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00640" y="859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917360" y="765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91664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1664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16640" y="8523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16640" y="8955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962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9336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89000" y="105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4488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210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782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41136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954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9718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0481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240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352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29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05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81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59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53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8116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876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1162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925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2688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41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33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209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362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5909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6668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432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16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9336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29336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245120" y="9028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079720" y="7515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2079720" y="736272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289400" y="743904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079720" y="7286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5229000" y="744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92360" y="7155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57720" y="2546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57720" y="4059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378400" y="294948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300640" y="2546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00640" y="6291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351400" y="600228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230080" y="14670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02440" y="2114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300280" y="233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444640" y="3193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06064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1366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129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92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3652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178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5938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701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7464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87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750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510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273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796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559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4322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5082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6608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7368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131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94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17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1180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1940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703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1366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2129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2892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3652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178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938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6701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64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8987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9750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0510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73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2796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3559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22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82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6608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368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131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894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17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1180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1940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703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98920" y="2719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06064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1292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6440" y="2185920"/>
            <a:ext cx="30456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7960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060640" y="374976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366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129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92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52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5178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5938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701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7464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987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9750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0510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1273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796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559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322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082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6608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7368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131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94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0417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80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1940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703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60640" y="310212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366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2129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2892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3652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5178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938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6701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64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87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750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510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1273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796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3559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322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082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6608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68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131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894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417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80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40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2703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1366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129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92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652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5178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5938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701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464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987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9750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510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273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2796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59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322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5082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6608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7368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131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894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0417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1180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940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703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498920" y="333072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498920" y="320040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48160" y="384804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48160" y="4000680"/>
            <a:ext cx="15228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6520" y="2906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9228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4948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8300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000680" y="3483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47644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93364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46716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58920" y="1746360"/>
            <a:ext cx="2379600" cy="1054080"/>
          </a:xfrm>
          <a:custGeom>
            <a:avLst/>
            <a:gdLst/>
            <a:ahLst/>
            <a:rect l="l" t="t" r="r" b="b"/>
            <a:pathLst>
              <a:path w="1499" h="664">
                <a:moveTo>
                  <a:pt x="0" y="0"/>
                </a:moveTo>
                <a:cubicBezTo>
                  <a:pt x="1" y="24"/>
                  <a:pt x="1" y="48"/>
                  <a:pt x="4" y="72"/>
                </a:cubicBezTo>
                <a:cubicBezTo>
                  <a:pt x="6" y="89"/>
                  <a:pt x="17" y="106"/>
                  <a:pt x="20" y="124"/>
                </a:cubicBezTo>
                <a:cubicBezTo>
                  <a:pt x="22" y="137"/>
                  <a:pt x="24" y="168"/>
                  <a:pt x="36" y="180"/>
                </a:cubicBezTo>
                <a:cubicBezTo>
                  <a:pt x="63" y="207"/>
                  <a:pt x="99" y="208"/>
                  <a:pt x="128" y="228"/>
                </a:cubicBezTo>
                <a:cubicBezTo>
                  <a:pt x="214" y="226"/>
                  <a:pt x="248" y="227"/>
                  <a:pt x="316" y="216"/>
                </a:cubicBezTo>
                <a:cubicBezTo>
                  <a:pt x="472" y="218"/>
                  <a:pt x="639" y="234"/>
                  <a:pt x="796" y="224"/>
                </a:cubicBezTo>
                <a:cubicBezTo>
                  <a:pt x="815" y="219"/>
                  <a:pt x="834" y="214"/>
                  <a:pt x="852" y="208"/>
                </a:cubicBezTo>
                <a:cubicBezTo>
                  <a:pt x="994" y="212"/>
                  <a:pt x="1139" y="204"/>
                  <a:pt x="1280" y="224"/>
                </a:cubicBezTo>
                <a:cubicBezTo>
                  <a:pt x="1332" y="241"/>
                  <a:pt x="1382" y="265"/>
                  <a:pt x="1436" y="272"/>
                </a:cubicBezTo>
                <a:cubicBezTo>
                  <a:pt x="1499" y="293"/>
                  <a:pt x="1451" y="405"/>
                  <a:pt x="1448" y="472"/>
                </a:cubicBezTo>
                <a:cubicBezTo>
                  <a:pt x="1447" y="509"/>
                  <a:pt x="1422" y="547"/>
                  <a:pt x="1416" y="584"/>
                </a:cubicBezTo>
                <a:cubicBezTo>
                  <a:pt x="1420" y="664"/>
                  <a:pt x="1397" y="664"/>
                  <a:pt x="1444" y="648"/>
                </a:cubicBezTo>
                <a:cubicBezTo>
                  <a:pt x="1457" y="644"/>
                  <a:pt x="1452" y="644"/>
                  <a:pt x="1460" y="64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305080" y="1822320"/>
            <a:ext cx="2706480" cy="1546200"/>
          </a:xfrm>
          <a:custGeom>
            <a:avLst/>
            <a:gdLst/>
            <a:ahLst/>
            <a:rect l="l" t="t" r="r" b="b"/>
            <a:pathLst>
              <a:path w="1705" h="974">
                <a:moveTo>
                  <a:pt x="0" y="0"/>
                </a:moveTo>
                <a:cubicBezTo>
                  <a:pt x="3" y="10"/>
                  <a:pt x="6" y="31"/>
                  <a:pt x="16" y="40"/>
                </a:cubicBezTo>
                <a:cubicBezTo>
                  <a:pt x="50" y="70"/>
                  <a:pt x="105" y="76"/>
                  <a:pt x="148" y="80"/>
                </a:cubicBezTo>
                <a:cubicBezTo>
                  <a:pt x="160" y="116"/>
                  <a:pt x="185" y="120"/>
                  <a:pt x="220" y="124"/>
                </a:cubicBezTo>
                <a:cubicBezTo>
                  <a:pt x="345" y="121"/>
                  <a:pt x="467" y="115"/>
                  <a:pt x="592" y="112"/>
                </a:cubicBezTo>
                <a:cubicBezTo>
                  <a:pt x="643" y="99"/>
                  <a:pt x="596" y="109"/>
                  <a:pt x="712" y="112"/>
                </a:cubicBezTo>
                <a:cubicBezTo>
                  <a:pt x="901" y="116"/>
                  <a:pt x="1091" y="118"/>
                  <a:pt x="1280" y="124"/>
                </a:cubicBezTo>
                <a:cubicBezTo>
                  <a:pt x="1315" y="131"/>
                  <a:pt x="1339" y="152"/>
                  <a:pt x="1368" y="172"/>
                </a:cubicBezTo>
                <a:cubicBezTo>
                  <a:pt x="1400" y="193"/>
                  <a:pt x="1430" y="214"/>
                  <a:pt x="1460" y="236"/>
                </a:cubicBezTo>
                <a:cubicBezTo>
                  <a:pt x="1492" y="259"/>
                  <a:pt x="1522" y="291"/>
                  <a:pt x="1560" y="304"/>
                </a:cubicBezTo>
                <a:cubicBezTo>
                  <a:pt x="1566" y="321"/>
                  <a:pt x="1583" y="334"/>
                  <a:pt x="1600" y="340"/>
                </a:cubicBezTo>
                <a:cubicBezTo>
                  <a:pt x="1613" y="379"/>
                  <a:pt x="1606" y="421"/>
                  <a:pt x="1616" y="460"/>
                </a:cubicBezTo>
                <a:cubicBezTo>
                  <a:pt x="1615" y="606"/>
                  <a:pt x="1705" y="815"/>
                  <a:pt x="1584" y="896"/>
                </a:cubicBezTo>
                <a:cubicBezTo>
                  <a:pt x="1573" y="913"/>
                  <a:pt x="1555" y="925"/>
                  <a:pt x="1540" y="940"/>
                </a:cubicBezTo>
                <a:cubicBezTo>
                  <a:pt x="1531" y="949"/>
                  <a:pt x="1523" y="970"/>
                  <a:pt x="1508" y="972"/>
                </a:cubicBezTo>
                <a:cubicBezTo>
                  <a:pt x="1492" y="974"/>
                  <a:pt x="1476" y="972"/>
                  <a:pt x="1460" y="97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444760" y="1752480"/>
            <a:ext cx="2543040" cy="2216160"/>
          </a:xfrm>
          <a:custGeom>
            <a:avLst/>
            <a:gdLst/>
            <a:ahLst/>
            <a:rect l="l" t="t" r="r" b="b"/>
            <a:pathLst>
              <a:path w="1602" h="1396">
                <a:moveTo>
                  <a:pt x="0" y="0"/>
                </a:moveTo>
                <a:cubicBezTo>
                  <a:pt x="1" y="11"/>
                  <a:pt x="0" y="22"/>
                  <a:pt x="4" y="32"/>
                </a:cubicBezTo>
                <a:cubicBezTo>
                  <a:pt x="17" y="68"/>
                  <a:pt x="60" y="64"/>
                  <a:pt x="92" y="68"/>
                </a:cubicBezTo>
                <a:cubicBezTo>
                  <a:pt x="154" y="89"/>
                  <a:pt x="238" y="104"/>
                  <a:pt x="300" y="108"/>
                </a:cubicBezTo>
                <a:cubicBezTo>
                  <a:pt x="357" y="127"/>
                  <a:pt x="317" y="115"/>
                  <a:pt x="456" y="116"/>
                </a:cubicBezTo>
                <a:cubicBezTo>
                  <a:pt x="729" y="118"/>
                  <a:pt x="1003" y="119"/>
                  <a:pt x="1276" y="120"/>
                </a:cubicBezTo>
                <a:cubicBezTo>
                  <a:pt x="1305" y="123"/>
                  <a:pt x="1332" y="126"/>
                  <a:pt x="1360" y="132"/>
                </a:cubicBezTo>
                <a:cubicBezTo>
                  <a:pt x="1379" y="146"/>
                  <a:pt x="1394" y="149"/>
                  <a:pt x="1416" y="156"/>
                </a:cubicBezTo>
                <a:cubicBezTo>
                  <a:pt x="1425" y="159"/>
                  <a:pt x="1432" y="167"/>
                  <a:pt x="1440" y="172"/>
                </a:cubicBezTo>
                <a:cubicBezTo>
                  <a:pt x="1444" y="175"/>
                  <a:pt x="1452" y="180"/>
                  <a:pt x="1452" y="180"/>
                </a:cubicBezTo>
                <a:cubicBezTo>
                  <a:pt x="1460" y="193"/>
                  <a:pt x="1474" y="198"/>
                  <a:pt x="1480" y="212"/>
                </a:cubicBezTo>
                <a:cubicBezTo>
                  <a:pt x="1490" y="235"/>
                  <a:pt x="1487" y="254"/>
                  <a:pt x="1508" y="268"/>
                </a:cubicBezTo>
                <a:cubicBezTo>
                  <a:pt x="1517" y="294"/>
                  <a:pt x="1532" y="315"/>
                  <a:pt x="1540" y="340"/>
                </a:cubicBezTo>
                <a:cubicBezTo>
                  <a:pt x="1547" y="408"/>
                  <a:pt x="1534" y="487"/>
                  <a:pt x="1556" y="552"/>
                </a:cubicBezTo>
                <a:cubicBezTo>
                  <a:pt x="1568" y="663"/>
                  <a:pt x="1602" y="825"/>
                  <a:pt x="1552" y="924"/>
                </a:cubicBezTo>
                <a:cubicBezTo>
                  <a:pt x="1547" y="949"/>
                  <a:pt x="1543" y="978"/>
                  <a:pt x="1528" y="1000"/>
                </a:cubicBezTo>
                <a:cubicBezTo>
                  <a:pt x="1519" y="1037"/>
                  <a:pt x="1526" y="1023"/>
                  <a:pt x="1512" y="1044"/>
                </a:cubicBezTo>
                <a:cubicBezTo>
                  <a:pt x="1503" y="1080"/>
                  <a:pt x="1493" y="1118"/>
                  <a:pt x="1476" y="1152"/>
                </a:cubicBezTo>
                <a:cubicBezTo>
                  <a:pt x="1469" y="1166"/>
                  <a:pt x="1456" y="1174"/>
                  <a:pt x="1448" y="1188"/>
                </a:cubicBezTo>
                <a:cubicBezTo>
                  <a:pt x="1440" y="1202"/>
                  <a:pt x="1437" y="1215"/>
                  <a:pt x="1428" y="1228"/>
                </a:cubicBezTo>
                <a:cubicBezTo>
                  <a:pt x="1421" y="1256"/>
                  <a:pt x="1417" y="1277"/>
                  <a:pt x="1400" y="1300"/>
                </a:cubicBezTo>
                <a:cubicBezTo>
                  <a:pt x="1388" y="1336"/>
                  <a:pt x="1369" y="1363"/>
                  <a:pt x="1352" y="1396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974960" y="2622600"/>
            <a:ext cx="177840" cy="1892160"/>
          </a:xfrm>
          <a:custGeom>
            <a:avLst/>
            <a:gdLst/>
            <a:ahLst/>
            <a:rect l="l" t="t" r="r" b="b"/>
            <a:pathLst>
              <a:path w="112" h="1192">
                <a:moveTo>
                  <a:pt x="112" y="0"/>
                </a:moveTo>
                <a:cubicBezTo>
                  <a:pt x="92" y="13"/>
                  <a:pt x="103" y="4"/>
                  <a:pt x="84" y="32"/>
                </a:cubicBezTo>
                <a:cubicBezTo>
                  <a:pt x="79" y="40"/>
                  <a:pt x="68" y="56"/>
                  <a:pt x="68" y="56"/>
                </a:cubicBezTo>
                <a:cubicBezTo>
                  <a:pt x="51" y="124"/>
                  <a:pt x="61" y="177"/>
                  <a:pt x="56" y="256"/>
                </a:cubicBezTo>
                <a:cubicBezTo>
                  <a:pt x="55" y="270"/>
                  <a:pt x="34" y="299"/>
                  <a:pt x="28" y="308"/>
                </a:cubicBezTo>
                <a:cubicBezTo>
                  <a:pt x="23" y="316"/>
                  <a:pt x="12" y="332"/>
                  <a:pt x="12" y="332"/>
                </a:cubicBezTo>
                <a:cubicBezTo>
                  <a:pt x="0" y="401"/>
                  <a:pt x="7" y="469"/>
                  <a:pt x="24" y="536"/>
                </a:cubicBezTo>
                <a:cubicBezTo>
                  <a:pt x="31" y="673"/>
                  <a:pt x="34" y="811"/>
                  <a:pt x="40" y="948"/>
                </a:cubicBezTo>
                <a:cubicBezTo>
                  <a:pt x="42" y="986"/>
                  <a:pt x="54" y="1106"/>
                  <a:pt x="92" y="1132"/>
                </a:cubicBezTo>
                <a:cubicBezTo>
                  <a:pt x="98" y="1150"/>
                  <a:pt x="108" y="1172"/>
                  <a:pt x="108" y="119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58960" y="7701120"/>
            <a:ext cx="446040" cy="1974600"/>
          </a:xfrm>
          <a:custGeom>
            <a:avLst/>
            <a:gdLst/>
            <a:ahLst/>
            <a:rect l="l" t="t" r="r" b="b"/>
            <a:pathLst>
              <a:path w="353" h="1287">
                <a:moveTo>
                  <a:pt x="252" y="5"/>
                </a:moveTo>
                <a:cubicBezTo>
                  <a:pt x="229" y="7"/>
                  <a:pt x="203" y="0"/>
                  <a:pt x="184" y="13"/>
                </a:cubicBezTo>
                <a:cubicBezTo>
                  <a:pt x="146" y="39"/>
                  <a:pt x="171" y="28"/>
                  <a:pt x="152" y="49"/>
                </a:cubicBezTo>
                <a:cubicBezTo>
                  <a:pt x="112" y="95"/>
                  <a:pt x="88" y="118"/>
                  <a:pt x="68" y="177"/>
                </a:cubicBezTo>
                <a:cubicBezTo>
                  <a:pt x="61" y="229"/>
                  <a:pt x="45" y="279"/>
                  <a:pt x="28" y="329"/>
                </a:cubicBezTo>
                <a:cubicBezTo>
                  <a:pt x="24" y="384"/>
                  <a:pt x="25" y="427"/>
                  <a:pt x="8" y="477"/>
                </a:cubicBezTo>
                <a:cubicBezTo>
                  <a:pt x="10" y="547"/>
                  <a:pt x="0" y="694"/>
                  <a:pt x="20" y="765"/>
                </a:cubicBezTo>
                <a:cubicBezTo>
                  <a:pt x="30" y="800"/>
                  <a:pt x="42" y="831"/>
                  <a:pt x="56" y="865"/>
                </a:cubicBezTo>
                <a:cubicBezTo>
                  <a:pt x="62" y="879"/>
                  <a:pt x="68" y="909"/>
                  <a:pt x="68" y="909"/>
                </a:cubicBezTo>
                <a:cubicBezTo>
                  <a:pt x="72" y="949"/>
                  <a:pt x="67" y="1048"/>
                  <a:pt x="92" y="1085"/>
                </a:cubicBezTo>
                <a:cubicBezTo>
                  <a:pt x="142" y="1161"/>
                  <a:pt x="243" y="1257"/>
                  <a:pt x="332" y="1277"/>
                </a:cubicBezTo>
                <a:cubicBezTo>
                  <a:pt x="337" y="1280"/>
                  <a:pt x="342" y="1287"/>
                  <a:pt x="348" y="1285"/>
                </a:cubicBezTo>
                <a:cubicBezTo>
                  <a:pt x="353" y="1283"/>
                  <a:pt x="345" y="1273"/>
                  <a:pt x="340" y="1273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197080" y="690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6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5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84320" cy="574560"/>
          </a:xfrm>
          <a:prstGeom prst="rect">
            <a:avLst/>
          </a:prstGeom>
          <a:ln w="0">
            <a:noFill/>
          </a:ln>
        </p:spPr>
      </p:pic>
      <p:sp>
        <p:nvSpPr>
          <p:cNvPr id="10106" name=""/>
          <p:cNvSpPr/>
          <p:nvPr/>
        </p:nvSpPr>
        <p:spPr>
          <a:xfrm>
            <a:off x="1562400" y="3360600"/>
            <a:ext cx="34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CHEMI  ARMAD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MUT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EFO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TO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UF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8" name="NC01GBCO" descr=""/>
          <p:cNvPicPr/>
          <p:nvPr/>
        </p:nvPicPr>
        <p:blipFill>
          <a:blip r:embed="rId2"/>
          <a:stretch/>
        </p:blipFill>
        <p:spPr>
          <a:xfrm>
            <a:off x="5950080" y="0"/>
            <a:ext cx="647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523880" cy="43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10" name=""/>
          <p:cNvGraphicFramePr/>
          <p:nvPr/>
        </p:nvGraphicFramePr>
        <p:xfrm>
          <a:off x="685800" y="739152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7391520"/>
                    <a:ext cx="685800" cy="6094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112" name="" descr=""/>
          <p:cNvPicPr/>
          <p:nvPr/>
        </p:nvPicPr>
        <p:blipFill>
          <a:blip r:embed="rId4"/>
          <a:stretch/>
        </p:blipFill>
        <p:spPr>
          <a:xfrm>
            <a:off x="3814920" y="7337520"/>
            <a:ext cx="838080" cy="5871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113" name=""/>
          <p:cNvSpPr/>
          <p:nvPr/>
        </p:nvSpPr>
        <p:spPr>
          <a:xfrm>
            <a:off x="457200" y="-838080"/>
            <a:ext cx="588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. lav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1447920" y="4724280"/>
            <a:ext cx="30607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1905120" y="5334120"/>
            <a:ext cx="457200" cy="304560"/>
          </a:xfrm>
          <a:prstGeom prst="flowChartManualOpera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3403440" y="5334120"/>
            <a:ext cx="457200" cy="304560"/>
          </a:xfrm>
          <a:prstGeom prst="flowChartManualOperation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>
            <a:off x="914400" y="5676840"/>
            <a:ext cx="1228680" cy="1752840"/>
          </a:xfrm>
          <a:custGeom>
            <a:avLst/>
            <a:gdLst/>
            <a:ahLst/>
            <a:rect l="l" t="t" r="r" b="b"/>
            <a:pathLst>
              <a:path w="774" h="1104">
                <a:moveTo>
                  <a:pt x="774" y="0"/>
                </a:moveTo>
                <a:cubicBezTo>
                  <a:pt x="772" y="22"/>
                  <a:pt x="766" y="120"/>
                  <a:pt x="750" y="156"/>
                </a:cubicBezTo>
                <a:cubicBezTo>
                  <a:pt x="705" y="261"/>
                  <a:pt x="539" y="334"/>
                  <a:pt x="438" y="372"/>
                </a:cubicBezTo>
                <a:cubicBezTo>
                  <a:pt x="388" y="391"/>
                  <a:pt x="334" y="397"/>
                  <a:pt x="282" y="408"/>
                </a:cubicBezTo>
                <a:cubicBezTo>
                  <a:pt x="250" y="415"/>
                  <a:pt x="186" y="432"/>
                  <a:pt x="186" y="432"/>
                </a:cubicBezTo>
                <a:cubicBezTo>
                  <a:pt x="103" y="556"/>
                  <a:pt x="167" y="714"/>
                  <a:pt x="126" y="852"/>
                </a:cubicBezTo>
                <a:cubicBezTo>
                  <a:pt x="108" y="911"/>
                  <a:pt x="16" y="935"/>
                  <a:pt x="6" y="996"/>
                </a:cubicBezTo>
                <a:cubicBezTo>
                  <a:pt x="0" y="1032"/>
                  <a:pt x="6" y="1068"/>
                  <a:pt x="6" y="110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3409920" y="5657760"/>
            <a:ext cx="882720" cy="1735200"/>
          </a:xfrm>
          <a:custGeom>
            <a:avLst/>
            <a:gdLst/>
            <a:ahLst/>
            <a:rect l="l" t="t" r="r" b="b"/>
            <a:pathLst>
              <a:path w="556" h="1093">
                <a:moveTo>
                  <a:pt x="169" y="0"/>
                </a:moveTo>
                <a:cubicBezTo>
                  <a:pt x="214" y="68"/>
                  <a:pt x="239" y="114"/>
                  <a:pt x="265" y="192"/>
                </a:cubicBezTo>
                <a:cubicBezTo>
                  <a:pt x="273" y="216"/>
                  <a:pt x="281" y="240"/>
                  <a:pt x="289" y="264"/>
                </a:cubicBezTo>
                <a:cubicBezTo>
                  <a:pt x="293" y="276"/>
                  <a:pt x="301" y="300"/>
                  <a:pt x="301" y="300"/>
                </a:cubicBezTo>
                <a:cubicBezTo>
                  <a:pt x="295" y="368"/>
                  <a:pt x="311" y="519"/>
                  <a:pt x="253" y="600"/>
                </a:cubicBezTo>
                <a:cubicBezTo>
                  <a:pt x="243" y="614"/>
                  <a:pt x="228" y="623"/>
                  <a:pt x="217" y="636"/>
                </a:cubicBezTo>
                <a:cubicBezTo>
                  <a:pt x="208" y="647"/>
                  <a:pt x="205" y="664"/>
                  <a:pt x="193" y="672"/>
                </a:cubicBezTo>
                <a:cubicBezTo>
                  <a:pt x="172" y="685"/>
                  <a:pt x="145" y="688"/>
                  <a:pt x="121" y="696"/>
                </a:cubicBezTo>
                <a:cubicBezTo>
                  <a:pt x="109" y="700"/>
                  <a:pt x="85" y="708"/>
                  <a:pt x="85" y="708"/>
                </a:cubicBezTo>
                <a:cubicBezTo>
                  <a:pt x="0" y="680"/>
                  <a:pt x="38" y="602"/>
                  <a:pt x="49" y="516"/>
                </a:cubicBezTo>
                <a:cubicBezTo>
                  <a:pt x="51" y="500"/>
                  <a:pt x="52" y="482"/>
                  <a:pt x="61" y="468"/>
                </a:cubicBezTo>
                <a:cubicBezTo>
                  <a:pt x="69" y="456"/>
                  <a:pt x="85" y="452"/>
                  <a:pt x="97" y="444"/>
                </a:cubicBezTo>
                <a:cubicBezTo>
                  <a:pt x="133" y="448"/>
                  <a:pt x="169" y="450"/>
                  <a:pt x="205" y="456"/>
                </a:cubicBezTo>
                <a:cubicBezTo>
                  <a:pt x="258" y="465"/>
                  <a:pt x="316" y="502"/>
                  <a:pt x="373" y="516"/>
                </a:cubicBezTo>
                <a:cubicBezTo>
                  <a:pt x="423" y="553"/>
                  <a:pt x="444" y="586"/>
                  <a:pt x="481" y="636"/>
                </a:cubicBezTo>
                <a:cubicBezTo>
                  <a:pt x="520" y="753"/>
                  <a:pt x="525" y="862"/>
                  <a:pt x="541" y="984"/>
                </a:cubicBezTo>
                <a:cubicBezTo>
                  <a:pt x="556" y="1093"/>
                  <a:pt x="553" y="966"/>
                  <a:pt x="553" y="104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1722960" y="4913280"/>
            <a:ext cx="23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.T.-01 D                     O.T.- 01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( dati )                           ( foni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0" name=""/>
          <p:cNvSpPr/>
          <p:nvPr/>
        </p:nvSpPr>
        <p:spPr>
          <a:xfrm>
            <a:off x="5016960" y="10439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1" name=""/>
          <p:cNvSpPr/>
          <p:nvPr/>
        </p:nvSpPr>
        <p:spPr>
          <a:xfrm>
            <a:off x="327672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276720" y="3733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3" name=""/>
          <p:cNvSpPr/>
          <p:nvPr/>
        </p:nvSpPr>
        <p:spPr>
          <a:xfrm>
            <a:off x="3309480" y="3287880"/>
            <a:ext cx="24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CAVI UTP DA ARM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4" name="PlaceHolder 1"/>
          <p:cNvSpPr>
            <a:spLocks noGrp="1"/>
          </p:cNvSpPr>
          <p:nvPr>
            <p:ph type="title"/>
          </p:nvPr>
        </p:nvSpPr>
        <p:spPr>
          <a:xfrm>
            <a:off x="514440" y="1015920"/>
            <a:ext cx="5829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STAZIONE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5" name=""/>
          <p:cNvSpPr/>
          <p:nvPr/>
        </p:nvSpPr>
        <p:spPr>
          <a:xfrm>
            <a:off x="1847160" y="1936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6" name="NC01GBCO" descr=""/>
          <p:cNvPicPr/>
          <p:nvPr/>
        </p:nvPicPr>
        <p:blipFill>
          <a:blip r:embed="rId5"/>
          <a:stretch/>
        </p:blipFill>
        <p:spPr>
          <a:xfrm>
            <a:off x="609300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10127" name=""/>
          <p:cNvSpPr/>
          <p:nvPr/>
        </p:nvSpPr>
        <p:spPr>
          <a:xfrm>
            <a:off x="840960" y="8786880"/>
            <a:ext cx="1680120" cy="1432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INDICAZIONI IN ETICHETTA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1 )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.  = REPARTO OSPE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.  = REPARTO UFFI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2 )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= PI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= NUMERO PR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= USO D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= USO F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8" name=""/>
          <p:cNvSpPr/>
          <p:nvPr/>
        </p:nvSpPr>
        <p:spPr>
          <a:xfrm>
            <a:off x="3625560" y="8840880"/>
            <a:ext cx="244836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’ IMPLICITO CHE ESSENDO ENTRAM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 PRESE IN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T. 5 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POSSONO ESS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DIFFERENTEMENTE DUE DATI O DUE FON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 FUNZIONE DEL COLLEGAMENTO IN 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81080" y="6230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81080" y="7602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/>
          <p:nvPr/>
        </p:nvSpPr>
        <p:spPr>
          <a:xfrm>
            <a:off x="3962520" y="8078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4382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8954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42900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981080" y="3770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962520" y="8726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382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8954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2900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981080" y="600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148360" y="6002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62520" y="939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382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8954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42900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981080" y="668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981080" y="6459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94040" y="80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168880" y="7659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157720" y="917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060640" y="9387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8954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718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481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240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352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429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505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2781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659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7353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8116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8876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1162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925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2688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041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133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209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86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362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5909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432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516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8954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9718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0481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1240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352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29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05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781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59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7353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8116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8876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1162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925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2688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041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33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209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286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362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5909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6668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7432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516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8954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9718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0481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240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52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429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505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2781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659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7353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116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876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62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925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2688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041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133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209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62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5909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6668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7432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516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8954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9718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481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40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352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29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505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781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659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353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116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8876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1162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1925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2688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41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133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86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62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5909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6668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32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16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962520" y="6002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4382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8954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42900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8954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9718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0481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240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352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429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05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2781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659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353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116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8876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925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2688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41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133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209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86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62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909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7432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516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373720" y="830736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96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367960" y="48942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962520" y="3554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3828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89548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429000" y="3554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300640" y="4491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300640" y="51260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50028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5766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6450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72096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79728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50028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5766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450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72096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79728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700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1464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2148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29076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3670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0700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1464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2148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29076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3670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625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70180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02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6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9224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625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70180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7702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846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9224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193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2701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385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414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490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193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2701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3385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414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90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932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0086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766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1529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229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932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0086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0766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529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29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300640" y="765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96072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4368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8940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427560" y="99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50028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5766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6450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72096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79728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50028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5766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6450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72096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79728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8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144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2130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2893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365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68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144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2130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2893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365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625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7018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7702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46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92248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625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7018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7702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846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92248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193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2701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3385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414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490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193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2701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3385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14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490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932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0086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076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152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229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932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0086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076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152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229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29336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916640" y="5786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962520" y="6443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4382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8954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42900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954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9718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0481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1240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352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429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505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2781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659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7353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116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76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1162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1925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2688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41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133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209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286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362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5909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6668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7432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516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916640" y="6292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245120" y="62928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072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4368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40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427560" y="1034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0028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766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6450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72096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79728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0028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766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6450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72096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79728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068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44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13000" y="10617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2893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365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68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144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213000" y="10693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2893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365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6370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1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7813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576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933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6370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71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7813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8576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933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193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701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3385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4145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490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193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2701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3385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4145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90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932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0086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76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5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229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32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0086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076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5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29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990080" y="9677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916640" y="1010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916280" y="10539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222800" y="101314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245120" y="105631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221720" y="9699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300640" y="859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917360" y="765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91664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91664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16640" y="8523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916640" y="8955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2962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29336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89000" y="105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94488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4210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782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41136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8954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9718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481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1240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352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429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505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2781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659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7353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8116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8876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1162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1925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2688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41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133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2209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286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362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909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6668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7432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516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9336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336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45120" y="9028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079720" y="7515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2079720" y="736272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4289400" y="743904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079720" y="7286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5229000" y="744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292360" y="7155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167440" y="25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5157720" y="3627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78400" y="294948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5300280" y="2546280"/>
            <a:ext cx="97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229360" y="636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230800" y="61182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230080" y="14670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O.  2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444640" y="3193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04948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125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201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278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354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506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583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658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735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887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963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040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116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68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4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21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497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649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726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801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78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030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106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183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259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125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201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78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354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506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583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658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35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887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963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040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116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68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344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421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497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649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726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801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78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30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106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183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9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487760" y="256716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487760" y="27194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04948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20176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3528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060640" y="31226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1366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2129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2892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3652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5178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5938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6701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464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8987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9750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0510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273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2796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3559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4322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5082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608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7368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8131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894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0417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118040" y="31989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19400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270320" y="31989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1366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2129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2892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3652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5178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5938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6701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7464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28987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9750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0510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1273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796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559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4322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5082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6608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7368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8131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894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0417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118040" y="33512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19400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70320" y="33512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498920" y="33512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000680" y="289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764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9336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46716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538520" y="369900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162160" y="1743120"/>
            <a:ext cx="2352600" cy="1041480"/>
          </a:xfrm>
          <a:custGeom>
            <a:avLst/>
            <a:gdLst/>
            <a:ahLst/>
            <a:rect l="l" t="t" r="r" b="b"/>
            <a:pathLst>
              <a:path w="1482" h="656">
                <a:moveTo>
                  <a:pt x="0" y="0"/>
                </a:moveTo>
                <a:cubicBezTo>
                  <a:pt x="4" y="30"/>
                  <a:pt x="5" y="80"/>
                  <a:pt x="36" y="96"/>
                </a:cubicBezTo>
                <a:cubicBezTo>
                  <a:pt x="74" y="115"/>
                  <a:pt x="162" y="114"/>
                  <a:pt x="162" y="114"/>
                </a:cubicBezTo>
                <a:cubicBezTo>
                  <a:pt x="186" y="122"/>
                  <a:pt x="230" y="129"/>
                  <a:pt x="252" y="144"/>
                </a:cubicBezTo>
                <a:cubicBezTo>
                  <a:pt x="265" y="153"/>
                  <a:pt x="274" y="166"/>
                  <a:pt x="288" y="174"/>
                </a:cubicBezTo>
                <a:cubicBezTo>
                  <a:pt x="322" y="193"/>
                  <a:pt x="365" y="194"/>
                  <a:pt x="402" y="198"/>
                </a:cubicBezTo>
                <a:cubicBezTo>
                  <a:pt x="481" y="197"/>
                  <a:pt x="745" y="230"/>
                  <a:pt x="894" y="180"/>
                </a:cubicBezTo>
                <a:cubicBezTo>
                  <a:pt x="1067" y="184"/>
                  <a:pt x="1255" y="153"/>
                  <a:pt x="1404" y="252"/>
                </a:cubicBezTo>
                <a:cubicBezTo>
                  <a:pt x="1408" y="342"/>
                  <a:pt x="1413" y="418"/>
                  <a:pt x="1434" y="504"/>
                </a:cubicBezTo>
                <a:cubicBezTo>
                  <a:pt x="1441" y="656"/>
                  <a:pt x="1394" y="642"/>
                  <a:pt x="1482" y="64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352600" y="1809720"/>
            <a:ext cx="2589120" cy="1571760"/>
          </a:xfrm>
          <a:custGeom>
            <a:avLst/>
            <a:gdLst/>
            <a:ahLst/>
            <a:rect l="l" t="t" r="r" b="b"/>
            <a:pathLst>
              <a:path w="1631" h="990">
                <a:moveTo>
                  <a:pt x="0" y="0"/>
                </a:moveTo>
                <a:cubicBezTo>
                  <a:pt x="24" y="8"/>
                  <a:pt x="39" y="39"/>
                  <a:pt x="66" y="42"/>
                </a:cubicBezTo>
                <a:cubicBezTo>
                  <a:pt x="108" y="47"/>
                  <a:pt x="150" y="46"/>
                  <a:pt x="192" y="48"/>
                </a:cubicBezTo>
                <a:cubicBezTo>
                  <a:pt x="284" y="79"/>
                  <a:pt x="384" y="71"/>
                  <a:pt x="480" y="78"/>
                </a:cubicBezTo>
                <a:cubicBezTo>
                  <a:pt x="551" y="102"/>
                  <a:pt x="639" y="86"/>
                  <a:pt x="708" y="84"/>
                </a:cubicBezTo>
                <a:cubicBezTo>
                  <a:pt x="820" y="81"/>
                  <a:pt x="932" y="80"/>
                  <a:pt x="1044" y="78"/>
                </a:cubicBezTo>
                <a:cubicBezTo>
                  <a:pt x="1080" y="66"/>
                  <a:pt x="1126" y="80"/>
                  <a:pt x="1164" y="84"/>
                </a:cubicBezTo>
                <a:cubicBezTo>
                  <a:pt x="1176" y="88"/>
                  <a:pt x="1188" y="92"/>
                  <a:pt x="1200" y="96"/>
                </a:cubicBezTo>
                <a:cubicBezTo>
                  <a:pt x="1206" y="98"/>
                  <a:pt x="1218" y="102"/>
                  <a:pt x="1218" y="102"/>
                </a:cubicBezTo>
                <a:cubicBezTo>
                  <a:pt x="1233" y="117"/>
                  <a:pt x="1270" y="153"/>
                  <a:pt x="1290" y="156"/>
                </a:cubicBezTo>
                <a:cubicBezTo>
                  <a:pt x="1324" y="162"/>
                  <a:pt x="1351" y="170"/>
                  <a:pt x="1380" y="186"/>
                </a:cubicBezTo>
                <a:cubicBezTo>
                  <a:pt x="1406" y="200"/>
                  <a:pt x="1425" y="225"/>
                  <a:pt x="1452" y="234"/>
                </a:cubicBezTo>
                <a:cubicBezTo>
                  <a:pt x="1474" y="256"/>
                  <a:pt x="1489" y="281"/>
                  <a:pt x="1506" y="306"/>
                </a:cubicBezTo>
                <a:cubicBezTo>
                  <a:pt x="1510" y="311"/>
                  <a:pt x="1518" y="309"/>
                  <a:pt x="1524" y="312"/>
                </a:cubicBezTo>
                <a:cubicBezTo>
                  <a:pt x="1530" y="315"/>
                  <a:pt x="1536" y="320"/>
                  <a:pt x="1542" y="324"/>
                </a:cubicBezTo>
                <a:cubicBezTo>
                  <a:pt x="1565" y="359"/>
                  <a:pt x="1576" y="385"/>
                  <a:pt x="1584" y="426"/>
                </a:cubicBezTo>
                <a:cubicBezTo>
                  <a:pt x="1591" y="536"/>
                  <a:pt x="1631" y="677"/>
                  <a:pt x="1566" y="774"/>
                </a:cubicBezTo>
                <a:cubicBezTo>
                  <a:pt x="1518" y="846"/>
                  <a:pt x="1398" y="890"/>
                  <a:pt x="1398" y="99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932120" y="2619360"/>
            <a:ext cx="230040" cy="1914480"/>
          </a:xfrm>
          <a:custGeom>
            <a:avLst/>
            <a:gdLst/>
            <a:ahLst/>
            <a:rect l="l" t="t" r="r" b="b"/>
            <a:pathLst>
              <a:path w="145" h="1206">
                <a:moveTo>
                  <a:pt x="133" y="0"/>
                </a:moveTo>
                <a:cubicBezTo>
                  <a:pt x="122" y="11"/>
                  <a:pt x="110" y="21"/>
                  <a:pt x="103" y="36"/>
                </a:cubicBezTo>
                <a:cubicBezTo>
                  <a:pt x="98" y="48"/>
                  <a:pt x="91" y="72"/>
                  <a:pt x="91" y="72"/>
                </a:cubicBezTo>
                <a:cubicBezTo>
                  <a:pt x="88" y="152"/>
                  <a:pt x="103" y="218"/>
                  <a:pt x="61" y="282"/>
                </a:cubicBezTo>
                <a:cubicBezTo>
                  <a:pt x="0" y="525"/>
                  <a:pt x="61" y="775"/>
                  <a:pt x="109" y="1014"/>
                </a:cubicBezTo>
                <a:cubicBezTo>
                  <a:pt x="113" y="1077"/>
                  <a:pt x="116" y="1148"/>
                  <a:pt x="145" y="120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42960" y="7734240"/>
            <a:ext cx="677880" cy="1962360"/>
          </a:xfrm>
          <a:custGeom>
            <a:avLst/>
            <a:gdLst/>
            <a:ahLst/>
            <a:rect l="l" t="t" r="r" b="b"/>
            <a:pathLst>
              <a:path w="427" h="1236">
                <a:moveTo>
                  <a:pt x="396" y="0"/>
                </a:moveTo>
                <a:cubicBezTo>
                  <a:pt x="368" y="41"/>
                  <a:pt x="386" y="31"/>
                  <a:pt x="354" y="42"/>
                </a:cubicBezTo>
                <a:cubicBezTo>
                  <a:pt x="352" y="48"/>
                  <a:pt x="353" y="56"/>
                  <a:pt x="348" y="60"/>
                </a:cubicBezTo>
                <a:cubicBezTo>
                  <a:pt x="337" y="68"/>
                  <a:pt x="266" y="92"/>
                  <a:pt x="252" y="96"/>
                </a:cubicBezTo>
                <a:cubicBezTo>
                  <a:pt x="217" y="131"/>
                  <a:pt x="184" y="164"/>
                  <a:pt x="150" y="198"/>
                </a:cubicBezTo>
                <a:cubicBezTo>
                  <a:pt x="142" y="221"/>
                  <a:pt x="124" y="230"/>
                  <a:pt x="114" y="252"/>
                </a:cubicBezTo>
                <a:cubicBezTo>
                  <a:pt x="106" y="271"/>
                  <a:pt x="101" y="292"/>
                  <a:pt x="96" y="312"/>
                </a:cubicBezTo>
                <a:cubicBezTo>
                  <a:pt x="86" y="426"/>
                  <a:pt x="36" y="529"/>
                  <a:pt x="0" y="636"/>
                </a:cubicBezTo>
                <a:cubicBezTo>
                  <a:pt x="2" y="718"/>
                  <a:pt x="3" y="800"/>
                  <a:pt x="6" y="882"/>
                </a:cubicBezTo>
                <a:cubicBezTo>
                  <a:pt x="7" y="896"/>
                  <a:pt x="10" y="910"/>
                  <a:pt x="12" y="924"/>
                </a:cubicBezTo>
                <a:cubicBezTo>
                  <a:pt x="14" y="942"/>
                  <a:pt x="13" y="980"/>
                  <a:pt x="24" y="1002"/>
                </a:cubicBezTo>
                <a:cubicBezTo>
                  <a:pt x="44" y="1043"/>
                  <a:pt x="105" y="1085"/>
                  <a:pt x="144" y="1104"/>
                </a:cubicBezTo>
                <a:cubicBezTo>
                  <a:pt x="165" y="1114"/>
                  <a:pt x="210" y="1128"/>
                  <a:pt x="210" y="1128"/>
                </a:cubicBezTo>
                <a:cubicBezTo>
                  <a:pt x="233" y="1143"/>
                  <a:pt x="256" y="1145"/>
                  <a:pt x="282" y="1152"/>
                </a:cubicBezTo>
                <a:cubicBezTo>
                  <a:pt x="323" y="1179"/>
                  <a:pt x="378" y="1178"/>
                  <a:pt x="420" y="1206"/>
                </a:cubicBezTo>
                <a:cubicBezTo>
                  <a:pt x="427" y="1228"/>
                  <a:pt x="426" y="1218"/>
                  <a:pt x="426" y="123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3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981080" y="211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81080" y="6230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981080" y="7602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2313" name=""/>
          <p:cNvSpPr/>
          <p:nvPr/>
        </p:nvSpPr>
        <p:spPr>
          <a:xfrm>
            <a:off x="3962520" y="8078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4382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42900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981080" y="4173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962520" y="8726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382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8954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42900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981080" y="600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148360" y="6002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962520" y="939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4382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8954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42900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981080" y="668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81080" y="6459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994040" y="80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168880" y="7659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157720" y="917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060640" y="9387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8954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9718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0481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1240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352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29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505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2781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659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7353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8116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76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162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1925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2688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041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133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209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286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362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5909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6668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7432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516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8954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9718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0481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1240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352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429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3505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2781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659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7353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8116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76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1162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1925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2688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041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133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209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286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362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5909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6668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7432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516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8954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9718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0481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1240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352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429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505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2781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659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7353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116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8876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1162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1925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2688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041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133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209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286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362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5909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6668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7432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516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8954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9718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0481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1240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352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429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505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2781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659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7353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116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8876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1162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925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2688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041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133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209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286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362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5909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6668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27432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516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962520" y="6002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4382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8954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42900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8954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9718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0481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1240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352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429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505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2781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659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7353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116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76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1162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1925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2688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041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133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209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286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362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5909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6668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7432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16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373360" y="8307360"/>
            <a:ext cx="12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106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367600" y="489420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6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962520" y="4191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43828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89548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42900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5300640" y="4491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300640" y="51260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50028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5766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6450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72096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79728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50028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5766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6450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2096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79728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0700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1464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2148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29076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3670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0700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1464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2148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29076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3670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2625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270180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27702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846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9224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625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70180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7702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846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9224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193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2701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3385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414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2490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193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22701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3385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414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490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932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0086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0766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1529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229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932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0086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0766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1529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229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00640" y="765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96072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4368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8940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427560" y="99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50028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5766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6450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72096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79728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50028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5766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6450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72096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79728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068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144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2130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2893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365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068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144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2130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2893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365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625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7018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7702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846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92248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625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7018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7702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846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92248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193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2701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3385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2414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490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193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2701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3385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414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490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932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40086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076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152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229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932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0086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076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152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229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29336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916640" y="5786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962520" y="6443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4382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8954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42900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8954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9718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0481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40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352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429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505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2781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659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7353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8116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8876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1162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1925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2688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041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133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2209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286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362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5909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26668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7432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516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916640" y="6292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4245120" y="62928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396072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4368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8940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427560" y="1034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50028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5766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6450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72096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79728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50028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5766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6450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72096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79728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068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144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13000" y="10617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2893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365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068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144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213000" y="10693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893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365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6370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71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7813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8576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933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6370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71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7813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8576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933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193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2701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3385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4145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490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193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2701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3385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4145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490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932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0086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4076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15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229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932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40086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076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15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229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990080" y="9677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916640" y="1010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916280" y="10539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222800" y="101314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4245120" y="105631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221720" y="9699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00640" y="859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917360" y="765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91664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91664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916640" y="8523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916640" y="8955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2962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29336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989000" y="105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94488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4210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8782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41136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8954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9718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0481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1240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352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429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505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2781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659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7353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8116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8876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1162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1925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2688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041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2133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209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286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362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5909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6668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7432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516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29336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29336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245120" y="9028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079720" y="7515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2079720" y="736272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4289400" y="743904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079720" y="7286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5229000" y="744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292360" y="7155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167440" y="247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157720" y="4202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378400" y="3094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300640" y="2475000"/>
            <a:ext cx="9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229360" y="636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230800" y="61182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230080" y="14670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514440" y="243000"/>
            <a:ext cx="58291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O.  1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5444640" y="341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204948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125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01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78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354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506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583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2658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2735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887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963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040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116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268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344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3421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497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649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726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801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878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030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106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183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259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2125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201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278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354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506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583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658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735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887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963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040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116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268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344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421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497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3649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3726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3801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78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030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4106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4183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259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487760" y="27194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04948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20176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73528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268800" y="2185920"/>
            <a:ext cx="30456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049480" y="374976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21258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22017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22780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3544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5066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5830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6589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27352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8875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9638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30402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31161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2688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3447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210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4974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6496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7260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8019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8782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0305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410688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418320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425916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049480" y="310212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1258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22017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2780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3544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25066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5830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26589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7352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28875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9638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0402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1161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3447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34210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4974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36496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7260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8019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8782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0305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10688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418320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425916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1258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2017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2780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3544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5066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25830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26589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7352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8875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9638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0402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1161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2688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33447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4210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4974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36496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7260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38019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38782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0305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410688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418320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25916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4487760" y="333072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487760" y="320040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424400" y="384804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437000" y="4000680"/>
            <a:ext cx="15264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005360" y="2906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48112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93832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347184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989520" y="3483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246528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92248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345600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158920" y="1746360"/>
            <a:ext cx="2379600" cy="1054080"/>
          </a:xfrm>
          <a:custGeom>
            <a:avLst/>
            <a:gdLst/>
            <a:ahLst/>
            <a:rect l="l" t="t" r="r" b="b"/>
            <a:pathLst>
              <a:path w="1499" h="664">
                <a:moveTo>
                  <a:pt x="0" y="0"/>
                </a:moveTo>
                <a:cubicBezTo>
                  <a:pt x="1" y="24"/>
                  <a:pt x="1" y="48"/>
                  <a:pt x="4" y="72"/>
                </a:cubicBezTo>
                <a:cubicBezTo>
                  <a:pt x="6" y="89"/>
                  <a:pt x="17" y="106"/>
                  <a:pt x="20" y="124"/>
                </a:cubicBezTo>
                <a:cubicBezTo>
                  <a:pt x="22" y="137"/>
                  <a:pt x="24" y="168"/>
                  <a:pt x="36" y="180"/>
                </a:cubicBezTo>
                <a:cubicBezTo>
                  <a:pt x="63" y="207"/>
                  <a:pt x="99" y="208"/>
                  <a:pt x="128" y="228"/>
                </a:cubicBezTo>
                <a:cubicBezTo>
                  <a:pt x="214" y="226"/>
                  <a:pt x="248" y="227"/>
                  <a:pt x="316" y="216"/>
                </a:cubicBezTo>
                <a:cubicBezTo>
                  <a:pt x="472" y="218"/>
                  <a:pt x="639" y="234"/>
                  <a:pt x="796" y="224"/>
                </a:cubicBezTo>
                <a:cubicBezTo>
                  <a:pt x="815" y="219"/>
                  <a:pt x="834" y="214"/>
                  <a:pt x="852" y="208"/>
                </a:cubicBezTo>
                <a:cubicBezTo>
                  <a:pt x="994" y="212"/>
                  <a:pt x="1139" y="204"/>
                  <a:pt x="1280" y="224"/>
                </a:cubicBezTo>
                <a:cubicBezTo>
                  <a:pt x="1332" y="241"/>
                  <a:pt x="1382" y="265"/>
                  <a:pt x="1436" y="272"/>
                </a:cubicBezTo>
                <a:cubicBezTo>
                  <a:pt x="1499" y="293"/>
                  <a:pt x="1451" y="405"/>
                  <a:pt x="1448" y="472"/>
                </a:cubicBezTo>
                <a:cubicBezTo>
                  <a:pt x="1447" y="509"/>
                  <a:pt x="1422" y="547"/>
                  <a:pt x="1416" y="584"/>
                </a:cubicBezTo>
                <a:cubicBezTo>
                  <a:pt x="1420" y="664"/>
                  <a:pt x="1397" y="664"/>
                  <a:pt x="1444" y="648"/>
                </a:cubicBezTo>
                <a:cubicBezTo>
                  <a:pt x="1457" y="644"/>
                  <a:pt x="1452" y="644"/>
                  <a:pt x="1460" y="64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305080" y="1822320"/>
            <a:ext cx="2706480" cy="1546200"/>
          </a:xfrm>
          <a:custGeom>
            <a:avLst/>
            <a:gdLst/>
            <a:ahLst/>
            <a:rect l="l" t="t" r="r" b="b"/>
            <a:pathLst>
              <a:path w="1705" h="974">
                <a:moveTo>
                  <a:pt x="0" y="0"/>
                </a:moveTo>
                <a:cubicBezTo>
                  <a:pt x="3" y="10"/>
                  <a:pt x="6" y="31"/>
                  <a:pt x="16" y="40"/>
                </a:cubicBezTo>
                <a:cubicBezTo>
                  <a:pt x="50" y="70"/>
                  <a:pt x="105" y="76"/>
                  <a:pt x="148" y="80"/>
                </a:cubicBezTo>
                <a:cubicBezTo>
                  <a:pt x="160" y="116"/>
                  <a:pt x="185" y="120"/>
                  <a:pt x="220" y="124"/>
                </a:cubicBezTo>
                <a:cubicBezTo>
                  <a:pt x="345" y="121"/>
                  <a:pt x="467" y="115"/>
                  <a:pt x="592" y="112"/>
                </a:cubicBezTo>
                <a:cubicBezTo>
                  <a:pt x="643" y="99"/>
                  <a:pt x="596" y="109"/>
                  <a:pt x="712" y="112"/>
                </a:cubicBezTo>
                <a:cubicBezTo>
                  <a:pt x="901" y="116"/>
                  <a:pt x="1091" y="118"/>
                  <a:pt x="1280" y="124"/>
                </a:cubicBezTo>
                <a:cubicBezTo>
                  <a:pt x="1315" y="131"/>
                  <a:pt x="1339" y="152"/>
                  <a:pt x="1368" y="172"/>
                </a:cubicBezTo>
                <a:cubicBezTo>
                  <a:pt x="1400" y="193"/>
                  <a:pt x="1430" y="214"/>
                  <a:pt x="1460" y="236"/>
                </a:cubicBezTo>
                <a:cubicBezTo>
                  <a:pt x="1492" y="259"/>
                  <a:pt x="1522" y="291"/>
                  <a:pt x="1560" y="304"/>
                </a:cubicBezTo>
                <a:cubicBezTo>
                  <a:pt x="1566" y="321"/>
                  <a:pt x="1583" y="334"/>
                  <a:pt x="1600" y="340"/>
                </a:cubicBezTo>
                <a:cubicBezTo>
                  <a:pt x="1613" y="379"/>
                  <a:pt x="1606" y="421"/>
                  <a:pt x="1616" y="460"/>
                </a:cubicBezTo>
                <a:cubicBezTo>
                  <a:pt x="1615" y="606"/>
                  <a:pt x="1705" y="815"/>
                  <a:pt x="1584" y="896"/>
                </a:cubicBezTo>
                <a:cubicBezTo>
                  <a:pt x="1573" y="913"/>
                  <a:pt x="1555" y="925"/>
                  <a:pt x="1540" y="940"/>
                </a:cubicBezTo>
                <a:cubicBezTo>
                  <a:pt x="1531" y="949"/>
                  <a:pt x="1523" y="970"/>
                  <a:pt x="1508" y="972"/>
                </a:cubicBezTo>
                <a:cubicBezTo>
                  <a:pt x="1492" y="974"/>
                  <a:pt x="1476" y="972"/>
                  <a:pt x="1460" y="97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444760" y="1752480"/>
            <a:ext cx="2543040" cy="2216160"/>
          </a:xfrm>
          <a:custGeom>
            <a:avLst/>
            <a:gdLst/>
            <a:ahLst/>
            <a:rect l="l" t="t" r="r" b="b"/>
            <a:pathLst>
              <a:path w="1602" h="1396">
                <a:moveTo>
                  <a:pt x="0" y="0"/>
                </a:moveTo>
                <a:cubicBezTo>
                  <a:pt x="1" y="11"/>
                  <a:pt x="0" y="22"/>
                  <a:pt x="4" y="32"/>
                </a:cubicBezTo>
                <a:cubicBezTo>
                  <a:pt x="17" y="68"/>
                  <a:pt x="60" y="64"/>
                  <a:pt x="92" y="68"/>
                </a:cubicBezTo>
                <a:cubicBezTo>
                  <a:pt x="154" y="89"/>
                  <a:pt x="238" y="104"/>
                  <a:pt x="300" y="108"/>
                </a:cubicBezTo>
                <a:cubicBezTo>
                  <a:pt x="357" y="127"/>
                  <a:pt x="317" y="115"/>
                  <a:pt x="456" y="116"/>
                </a:cubicBezTo>
                <a:cubicBezTo>
                  <a:pt x="729" y="118"/>
                  <a:pt x="1003" y="119"/>
                  <a:pt x="1276" y="120"/>
                </a:cubicBezTo>
                <a:cubicBezTo>
                  <a:pt x="1305" y="123"/>
                  <a:pt x="1332" y="126"/>
                  <a:pt x="1360" y="132"/>
                </a:cubicBezTo>
                <a:cubicBezTo>
                  <a:pt x="1379" y="146"/>
                  <a:pt x="1394" y="149"/>
                  <a:pt x="1416" y="156"/>
                </a:cubicBezTo>
                <a:cubicBezTo>
                  <a:pt x="1425" y="159"/>
                  <a:pt x="1432" y="167"/>
                  <a:pt x="1440" y="172"/>
                </a:cubicBezTo>
                <a:cubicBezTo>
                  <a:pt x="1444" y="175"/>
                  <a:pt x="1452" y="180"/>
                  <a:pt x="1452" y="180"/>
                </a:cubicBezTo>
                <a:cubicBezTo>
                  <a:pt x="1460" y="193"/>
                  <a:pt x="1474" y="198"/>
                  <a:pt x="1480" y="212"/>
                </a:cubicBezTo>
                <a:cubicBezTo>
                  <a:pt x="1490" y="235"/>
                  <a:pt x="1487" y="254"/>
                  <a:pt x="1508" y="268"/>
                </a:cubicBezTo>
                <a:cubicBezTo>
                  <a:pt x="1517" y="294"/>
                  <a:pt x="1532" y="315"/>
                  <a:pt x="1540" y="340"/>
                </a:cubicBezTo>
                <a:cubicBezTo>
                  <a:pt x="1547" y="408"/>
                  <a:pt x="1534" y="487"/>
                  <a:pt x="1556" y="552"/>
                </a:cubicBezTo>
                <a:cubicBezTo>
                  <a:pt x="1568" y="663"/>
                  <a:pt x="1602" y="825"/>
                  <a:pt x="1552" y="924"/>
                </a:cubicBezTo>
                <a:cubicBezTo>
                  <a:pt x="1547" y="949"/>
                  <a:pt x="1543" y="978"/>
                  <a:pt x="1528" y="1000"/>
                </a:cubicBezTo>
                <a:cubicBezTo>
                  <a:pt x="1519" y="1037"/>
                  <a:pt x="1526" y="1023"/>
                  <a:pt x="1512" y="1044"/>
                </a:cubicBezTo>
                <a:cubicBezTo>
                  <a:pt x="1503" y="1080"/>
                  <a:pt x="1493" y="1118"/>
                  <a:pt x="1476" y="1152"/>
                </a:cubicBezTo>
                <a:cubicBezTo>
                  <a:pt x="1469" y="1166"/>
                  <a:pt x="1456" y="1174"/>
                  <a:pt x="1448" y="1188"/>
                </a:cubicBezTo>
                <a:cubicBezTo>
                  <a:pt x="1440" y="1202"/>
                  <a:pt x="1437" y="1215"/>
                  <a:pt x="1428" y="1228"/>
                </a:cubicBezTo>
                <a:cubicBezTo>
                  <a:pt x="1421" y="1256"/>
                  <a:pt x="1417" y="1277"/>
                  <a:pt x="1400" y="1300"/>
                </a:cubicBezTo>
                <a:cubicBezTo>
                  <a:pt x="1388" y="1336"/>
                  <a:pt x="1369" y="1363"/>
                  <a:pt x="1352" y="1396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974960" y="2622600"/>
            <a:ext cx="177840" cy="1892160"/>
          </a:xfrm>
          <a:custGeom>
            <a:avLst/>
            <a:gdLst/>
            <a:ahLst/>
            <a:rect l="l" t="t" r="r" b="b"/>
            <a:pathLst>
              <a:path w="112" h="1192">
                <a:moveTo>
                  <a:pt x="112" y="0"/>
                </a:moveTo>
                <a:cubicBezTo>
                  <a:pt x="92" y="13"/>
                  <a:pt x="103" y="4"/>
                  <a:pt x="84" y="32"/>
                </a:cubicBezTo>
                <a:cubicBezTo>
                  <a:pt x="79" y="40"/>
                  <a:pt x="68" y="56"/>
                  <a:pt x="68" y="56"/>
                </a:cubicBezTo>
                <a:cubicBezTo>
                  <a:pt x="51" y="124"/>
                  <a:pt x="61" y="177"/>
                  <a:pt x="56" y="256"/>
                </a:cubicBezTo>
                <a:cubicBezTo>
                  <a:pt x="55" y="270"/>
                  <a:pt x="34" y="299"/>
                  <a:pt x="28" y="308"/>
                </a:cubicBezTo>
                <a:cubicBezTo>
                  <a:pt x="23" y="316"/>
                  <a:pt x="12" y="332"/>
                  <a:pt x="12" y="332"/>
                </a:cubicBezTo>
                <a:cubicBezTo>
                  <a:pt x="0" y="401"/>
                  <a:pt x="7" y="469"/>
                  <a:pt x="24" y="536"/>
                </a:cubicBezTo>
                <a:cubicBezTo>
                  <a:pt x="31" y="673"/>
                  <a:pt x="34" y="811"/>
                  <a:pt x="40" y="948"/>
                </a:cubicBezTo>
                <a:cubicBezTo>
                  <a:pt x="42" y="986"/>
                  <a:pt x="54" y="1106"/>
                  <a:pt x="92" y="1132"/>
                </a:cubicBezTo>
                <a:cubicBezTo>
                  <a:pt x="98" y="1150"/>
                  <a:pt x="108" y="1172"/>
                  <a:pt x="108" y="119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1758960" y="7701120"/>
            <a:ext cx="446040" cy="1974600"/>
          </a:xfrm>
          <a:custGeom>
            <a:avLst/>
            <a:gdLst/>
            <a:ahLst/>
            <a:rect l="l" t="t" r="r" b="b"/>
            <a:pathLst>
              <a:path w="353" h="1287">
                <a:moveTo>
                  <a:pt x="252" y="5"/>
                </a:moveTo>
                <a:cubicBezTo>
                  <a:pt x="229" y="7"/>
                  <a:pt x="203" y="0"/>
                  <a:pt x="184" y="13"/>
                </a:cubicBezTo>
                <a:cubicBezTo>
                  <a:pt x="146" y="39"/>
                  <a:pt x="171" y="28"/>
                  <a:pt x="152" y="49"/>
                </a:cubicBezTo>
                <a:cubicBezTo>
                  <a:pt x="112" y="95"/>
                  <a:pt x="88" y="118"/>
                  <a:pt x="68" y="177"/>
                </a:cubicBezTo>
                <a:cubicBezTo>
                  <a:pt x="61" y="229"/>
                  <a:pt x="45" y="279"/>
                  <a:pt x="28" y="329"/>
                </a:cubicBezTo>
                <a:cubicBezTo>
                  <a:pt x="24" y="384"/>
                  <a:pt x="25" y="427"/>
                  <a:pt x="8" y="477"/>
                </a:cubicBezTo>
                <a:cubicBezTo>
                  <a:pt x="10" y="547"/>
                  <a:pt x="0" y="694"/>
                  <a:pt x="20" y="765"/>
                </a:cubicBezTo>
                <a:cubicBezTo>
                  <a:pt x="30" y="800"/>
                  <a:pt x="42" y="831"/>
                  <a:pt x="56" y="865"/>
                </a:cubicBezTo>
                <a:cubicBezTo>
                  <a:pt x="62" y="879"/>
                  <a:pt x="68" y="909"/>
                  <a:pt x="68" y="909"/>
                </a:cubicBezTo>
                <a:cubicBezTo>
                  <a:pt x="72" y="949"/>
                  <a:pt x="67" y="1048"/>
                  <a:pt x="92" y="1085"/>
                </a:cubicBezTo>
                <a:cubicBezTo>
                  <a:pt x="142" y="1161"/>
                  <a:pt x="243" y="1257"/>
                  <a:pt x="332" y="1277"/>
                </a:cubicBezTo>
                <a:cubicBezTo>
                  <a:pt x="337" y="1280"/>
                  <a:pt x="342" y="1287"/>
                  <a:pt x="348" y="1285"/>
                </a:cubicBezTo>
                <a:cubicBezTo>
                  <a:pt x="353" y="1283"/>
                  <a:pt x="345" y="1273"/>
                  <a:pt x="340" y="1273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1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4533840" y="3933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4533840" y="3705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8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3149" name=""/>
          <p:cNvSpPr/>
          <p:nvPr/>
        </p:nvSpPr>
        <p:spPr>
          <a:xfrm>
            <a:off x="3962520" y="9013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43828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89548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3429000" y="9013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981080" y="369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5157720" y="5715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962520" y="964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243828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289548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3429000" y="964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5157720" y="8451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5148360" y="946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1989000" y="9460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989000" y="92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89548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297180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30481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312408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35268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342900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5053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327816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365904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373536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81168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388764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11624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19256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26888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40417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1337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220968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228600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3623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259092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266688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743200" y="9310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2516040" y="9310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28954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9718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30481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31240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3526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34290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35053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32781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36590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37353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381168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8876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1162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19256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426888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0417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21337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22096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22860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23623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59092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266688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743200" y="887904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516040" y="887904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373720" y="8710560"/>
            <a:ext cx="12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57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367960" y="47070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7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962520" y="3483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43828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89548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42900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07520" y="1476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300640" y="4491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476280" y="175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5300640" y="4938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50028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5766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36450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72096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379728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50028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35766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36450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372096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379728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0700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1464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2148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29076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3670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30700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1464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2148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329076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33670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2625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70180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7702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846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9224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25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70180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27702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2846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29224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2193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22701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3385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414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490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2193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22701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3385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414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490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932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0086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0766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1529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229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932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40086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40766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41529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229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300640" y="845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96072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43684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2894040" y="10167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27560" y="101678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500280" y="10433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57660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364500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720960" y="10433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797280" y="10433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500280" y="1050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357660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364500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720960" y="1050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797280" y="1050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3068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31449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321300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32893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3365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068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1449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321300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32893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3365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25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70180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77020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28465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922480" y="10437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625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70180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77020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8465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922480" y="105141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193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2701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3385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41452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4908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193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2701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3385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41452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24908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393228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400860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407664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415296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4229280" y="10437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93228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400860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07664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415296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4229280" y="105141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396072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243684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94040" y="105998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3427560" y="105998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1990080" y="9929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1916640" y="10396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4222800" y="1039644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4221720" y="9891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300640" y="902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1917360" y="8524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1916640" y="88138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916640" y="9245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429624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4293360" y="8740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1989000" y="1061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28954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29718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0481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31240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33526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34290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35053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32781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6590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37353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381168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8876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41162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419256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26888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40417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1337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2096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2860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3623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59092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66688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743200" y="8594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516040" y="8594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4293360" y="9245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079720" y="8451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V="1">
            <a:off x="2079720" y="8299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4289400" y="837540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079720" y="8223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H="1">
            <a:off x="5229000" y="830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292360" y="80186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167440" y="25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157720" y="355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378400" y="294948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5300280" y="2546280"/>
            <a:ext cx="9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302080" y="51386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229360" y="17114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30080" y="14670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514440" y="242640"/>
            <a:ext cx="58291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ARMADIO “ O.  T.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H="1">
            <a:off x="5516640" y="31939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204948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125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2201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2278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2354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2506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2583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658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2735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887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963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3040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116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2688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33447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4210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34974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6496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7260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8019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8782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0305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10688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418320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425916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125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2201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278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354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506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583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658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735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887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963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3040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116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2688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3447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34210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34974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6496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37260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8019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8782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0305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10688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418320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425916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4487760" y="2567160"/>
            <a:ext cx="15264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4487760" y="2719440"/>
            <a:ext cx="1526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204948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20176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73528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4000680" y="2894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764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293364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467160" y="2894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2049480" y="31226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2125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2201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2278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2354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2506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2583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2658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2735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2887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2963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3040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3116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2688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3447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34210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4974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36496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7260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8019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38782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40305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10688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4183200" y="327492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4259160" y="327492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4424400" y="322092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4437000" y="3373560"/>
            <a:ext cx="15264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162160" y="1743120"/>
            <a:ext cx="2352600" cy="1041480"/>
          </a:xfrm>
          <a:custGeom>
            <a:avLst/>
            <a:gdLst/>
            <a:ahLst/>
            <a:rect l="l" t="t" r="r" b="b"/>
            <a:pathLst>
              <a:path w="1482" h="656">
                <a:moveTo>
                  <a:pt x="0" y="0"/>
                </a:moveTo>
                <a:cubicBezTo>
                  <a:pt x="4" y="30"/>
                  <a:pt x="5" y="80"/>
                  <a:pt x="36" y="96"/>
                </a:cubicBezTo>
                <a:cubicBezTo>
                  <a:pt x="74" y="115"/>
                  <a:pt x="162" y="114"/>
                  <a:pt x="162" y="114"/>
                </a:cubicBezTo>
                <a:cubicBezTo>
                  <a:pt x="186" y="122"/>
                  <a:pt x="230" y="129"/>
                  <a:pt x="252" y="144"/>
                </a:cubicBezTo>
                <a:cubicBezTo>
                  <a:pt x="265" y="153"/>
                  <a:pt x="274" y="166"/>
                  <a:pt x="288" y="174"/>
                </a:cubicBezTo>
                <a:cubicBezTo>
                  <a:pt x="322" y="193"/>
                  <a:pt x="365" y="194"/>
                  <a:pt x="402" y="198"/>
                </a:cubicBezTo>
                <a:cubicBezTo>
                  <a:pt x="481" y="197"/>
                  <a:pt x="745" y="230"/>
                  <a:pt x="894" y="180"/>
                </a:cubicBezTo>
                <a:cubicBezTo>
                  <a:pt x="1067" y="184"/>
                  <a:pt x="1255" y="153"/>
                  <a:pt x="1404" y="252"/>
                </a:cubicBezTo>
                <a:cubicBezTo>
                  <a:pt x="1408" y="342"/>
                  <a:pt x="1413" y="418"/>
                  <a:pt x="1434" y="504"/>
                </a:cubicBezTo>
                <a:cubicBezTo>
                  <a:pt x="1441" y="656"/>
                  <a:pt x="1394" y="642"/>
                  <a:pt x="1482" y="64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352600" y="1809720"/>
            <a:ext cx="2589120" cy="1571760"/>
          </a:xfrm>
          <a:custGeom>
            <a:avLst/>
            <a:gdLst/>
            <a:ahLst/>
            <a:rect l="l" t="t" r="r" b="b"/>
            <a:pathLst>
              <a:path w="1631" h="990">
                <a:moveTo>
                  <a:pt x="0" y="0"/>
                </a:moveTo>
                <a:cubicBezTo>
                  <a:pt x="24" y="8"/>
                  <a:pt x="39" y="39"/>
                  <a:pt x="66" y="42"/>
                </a:cubicBezTo>
                <a:cubicBezTo>
                  <a:pt x="108" y="47"/>
                  <a:pt x="150" y="46"/>
                  <a:pt x="192" y="48"/>
                </a:cubicBezTo>
                <a:cubicBezTo>
                  <a:pt x="284" y="79"/>
                  <a:pt x="384" y="71"/>
                  <a:pt x="480" y="78"/>
                </a:cubicBezTo>
                <a:cubicBezTo>
                  <a:pt x="551" y="102"/>
                  <a:pt x="639" y="86"/>
                  <a:pt x="708" y="84"/>
                </a:cubicBezTo>
                <a:cubicBezTo>
                  <a:pt x="820" y="81"/>
                  <a:pt x="932" y="80"/>
                  <a:pt x="1044" y="78"/>
                </a:cubicBezTo>
                <a:cubicBezTo>
                  <a:pt x="1080" y="66"/>
                  <a:pt x="1126" y="80"/>
                  <a:pt x="1164" y="84"/>
                </a:cubicBezTo>
                <a:cubicBezTo>
                  <a:pt x="1176" y="88"/>
                  <a:pt x="1188" y="92"/>
                  <a:pt x="1200" y="96"/>
                </a:cubicBezTo>
                <a:cubicBezTo>
                  <a:pt x="1206" y="98"/>
                  <a:pt x="1218" y="102"/>
                  <a:pt x="1218" y="102"/>
                </a:cubicBezTo>
                <a:cubicBezTo>
                  <a:pt x="1233" y="117"/>
                  <a:pt x="1270" y="153"/>
                  <a:pt x="1290" y="156"/>
                </a:cubicBezTo>
                <a:cubicBezTo>
                  <a:pt x="1324" y="162"/>
                  <a:pt x="1351" y="170"/>
                  <a:pt x="1380" y="186"/>
                </a:cubicBezTo>
                <a:cubicBezTo>
                  <a:pt x="1406" y="200"/>
                  <a:pt x="1425" y="225"/>
                  <a:pt x="1452" y="234"/>
                </a:cubicBezTo>
                <a:cubicBezTo>
                  <a:pt x="1474" y="256"/>
                  <a:pt x="1489" y="281"/>
                  <a:pt x="1506" y="306"/>
                </a:cubicBezTo>
                <a:cubicBezTo>
                  <a:pt x="1510" y="311"/>
                  <a:pt x="1518" y="309"/>
                  <a:pt x="1524" y="312"/>
                </a:cubicBezTo>
                <a:cubicBezTo>
                  <a:pt x="1530" y="315"/>
                  <a:pt x="1536" y="320"/>
                  <a:pt x="1542" y="324"/>
                </a:cubicBezTo>
                <a:cubicBezTo>
                  <a:pt x="1565" y="359"/>
                  <a:pt x="1576" y="385"/>
                  <a:pt x="1584" y="426"/>
                </a:cubicBezTo>
                <a:cubicBezTo>
                  <a:pt x="1591" y="536"/>
                  <a:pt x="1631" y="677"/>
                  <a:pt x="1566" y="774"/>
                </a:cubicBezTo>
                <a:cubicBezTo>
                  <a:pt x="1518" y="846"/>
                  <a:pt x="1398" y="890"/>
                  <a:pt x="1398" y="99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932120" y="2619360"/>
            <a:ext cx="230040" cy="1914480"/>
          </a:xfrm>
          <a:custGeom>
            <a:avLst/>
            <a:gdLst/>
            <a:ahLst/>
            <a:rect l="l" t="t" r="r" b="b"/>
            <a:pathLst>
              <a:path w="145" h="1206">
                <a:moveTo>
                  <a:pt x="133" y="0"/>
                </a:moveTo>
                <a:cubicBezTo>
                  <a:pt x="122" y="11"/>
                  <a:pt x="110" y="21"/>
                  <a:pt x="103" y="36"/>
                </a:cubicBezTo>
                <a:cubicBezTo>
                  <a:pt x="98" y="48"/>
                  <a:pt x="91" y="72"/>
                  <a:pt x="91" y="72"/>
                </a:cubicBezTo>
                <a:cubicBezTo>
                  <a:pt x="88" y="152"/>
                  <a:pt x="103" y="218"/>
                  <a:pt x="61" y="282"/>
                </a:cubicBezTo>
                <a:cubicBezTo>
                  <a:pt x="0" y="525"/>
                  <a:pt x="61" y="775"/>
                  <a:pt x="109" y="1014"/>
                </a:cubicBezTo>
                <a:cubicBezTo>
                  <a:pt x="113" y="1077"/>
                  <a:pt x="116" y="1148"/>
                  <a:pt x="145" y="120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1752480" y="8667720"/>
            <a:ext cx="466920" cy="1276560"/>
          </a:xfrm>
          <a:custGeom>
            <a:avLst/>
            <a:gdLst/>
            <a:ahLst/>
            <a:rect l="l" t="t" r="r" b="b"/>
            <a:pathLst>
              <a:path w="294" h="804">
                <a:moveTo>
                  <a:pt x="276" y="0"/>
                </a:moveTo>
                <a:cubicBezTo>
                  <a:pt x="228" y="48"/>
                  <a:pt x="226" y="39"/>
                  <a:pt x="162" y="60"/>
                </a:cubicBezTo>
                <a:cubicBezTo>
                  <a:pt x="155" y="62"/>
                  <a:pt x="151" y="69"/>
                  <a:pt x="144" y="72"/>
                </a:cubicBezTo>
                <a:cubicBezTo>
                  <a:pt x="136" y="75"/>
                  <a:pt x="128" y="76"/>
                  <a:pt x="120" y="78"/>
                </a:cubicBezTo>
                <a:cubicBezTo>
                  <a:pt x="99" y="92"/>
                  <a:pt x="84" y="96"/>
                  <a:pt x="66" y="114"/>
                </a:cubicBezTo>
                <a:cubicBezTo>
                  <a:pt x="64" y="120"/>
                  <a:pt x="64" y="127"/>
                  <a:pt x="60" y="132"/>
                </a:cubicBezTo>
                <a:cubicBezTo>
                  <a:pt x="55" y="138"/>
                  <a:pt x="46" y="138"/>
                  <a:pt x="42" y="144"/>
                </a:cubicBezTo>
                <a:cubicBezTo>
                  <a:pt x="32" y="160"/>
                  <a:pt x="35" y="182"/>
                  <a:pt x="24" y="198"/>
                </a:cubicBezTo>
                <a:cubicBezTo>
                  <a:pt x="13" y="214"/>
                  <a:pt x="0" y="252"/>
                  <a:pt x="0" y="252"/>
                </a:cubicBezTo>
                <a:cubicBezTo>
                  <a:pt x="4" y="315"/>
                  <a:pt x="12" y="351"/>
                  <a:pt x="18" y="408"/>
                </a:cubicBezTo>
                <a:cubicBezTo>
                  <a:pt x="21" y="438"/>
                  <a:pt x="22" y="488"/>
                  <a:pt x="30" y="522"/>
                </a:cubicBezTo>
                <a:cubicBezTo>
                  <a:pt x="38" y="556"/>
                  <a:pt x="57" y="580"/>
                  <a:pt x="66" y="612"/>
                </a:cubicBezTo>
                <a:cubicBezTo>
                  <a:pt x="72" y="633"/>
                  <a:pt x="105" y="712"/>
                  <a:pt x="126" y="726"/>
                </a:cubicBezTo>
                <a:cubicBezTo>
                  <a:pt x="154" y="744"/>
                  <a:pt x="190" y="754"/>
                  <a:pt x="222" y="762"/>
                </a:cubicBezTo>
                <a:cubicBezTo>
                  <a:pt x="228" y="766"/>
                  <a:pt x="234" y="771"/>
                  <a:pt x="240" y="774"/>
                </a:cubicBezTo>
                <a:cubicBezTo>
                  <a:pt x="246" y="777"/>
                  <a:pt x="252" y="777"/>
                  <a:pt x="258" y="780"/>
                </a:cubicBezTo>
                <a:cubicBezTo>
                  <a:pt x="271" y="787"/>
                  <a:pt x="294" y="804"/>
                  <a:pt x="294" y="80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4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/>
          <p:nvPr/>
        </p:nvSpPr>
        <p:spPr>
          <a:xfrm>
            <a:off x="1673280" y="961920"/>
            <a:ext cx="3124080" cy="1046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4533840" y="3476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4533840" y="3019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4533840" y="2104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4533840" y="2790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4533840" y="3247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533840" y="2562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533840" y="2344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6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3747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07520" y="19080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476280" y="218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H="1">
            <a:off x="5229000" y="830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5292360" y="80186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514440" y="314280"/>
            <a:ext cx="5829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ARMADIO “ O.  T.  C.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284940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297180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304812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312408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5268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342900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357012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327816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364500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371628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385920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393048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11624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19256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426888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400536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213372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220968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228600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241776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256716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270684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2778120" y="6099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2492280" y="6099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989000" y="607536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3944880" y="239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2421000" y="239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2878200" y="239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3411360" y="239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3944880" y="2978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2421000" y="2978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878200" y="2978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3411360" y="2978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1989000" y="204300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2205000" y="20430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205000" y="21193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2344680" y="21193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2344680" y="219564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2487600" y="20430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487600" y="21193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2631960" y="21193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631960" y="219564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065400" y="205596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065400" y="213192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3208320" y="212724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3208320" y="220356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352680" y="205596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352680" y="213192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497400" y="213192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3497400" y="220824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857760" y="2055960"/>
            <a:ext cx="7596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3857760" y="213192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4002120" y="213192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4002120" y="220824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4145040" y="2055960"/>
            <a:ext cx="7596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145040" y="213192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4289400" y="213192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4289400" y="220824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924280" y="2055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3716280" y="2055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989000" y="261936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971000" y="2689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853720" y="211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71000" y="211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2134800" y="617364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2422080" y="6173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2709360" y="6172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2998440" y="6172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285720" y="61722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006440" y="617220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U.p.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284640" y="3122640"/>
            <a:ext cx="29527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5084640" y="3122640"/>
            <a:ext cx="157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2x8 F. O. Al rack U. p. 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5157720" y="6219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300640" y="276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293080" y="2436840"/>
            <a:ext cx="159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ai rack  , -1, T, 1,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,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5157720" y="225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5157720" y="2978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5300640" y="225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5210280" y="600408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INK RAME B/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H="1">
            <a:off x="3139920" y="3122640"/>
            <a:ext cx="144720" cy="139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000680" y="6423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476440" y="6423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933640" y="6423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467160" y="6423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5231160" y="46782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flipH="1">
            <a:off x="5229360" y="4894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230800" y="384336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entro Stella F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H="1">
            <a:off x="5229360" y="405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989000" y="643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4363560" y="3125880"/>
            <a:ext cx="73080" cy="680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944880" y="34862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2421000" y="34862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878200" y="34862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3411360" y="34862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989000" y="319392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3700080" y="211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2205000" y="261936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205000" y="269568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2344680" y="269568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2344680" y="27716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2487600" y="261936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2487600" y="269568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2631960" y="269568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2631960" y="27716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065400" y="263196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3065400" y="270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208320" y="270360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208320" y="277956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352680" y="263196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3352680" y="270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3497400" y="2708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3497400" y="278460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3857760" y="263196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3857760" y="270828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4002120" y="270828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002120" y="278460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4145040" y="263196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4145040" y="270828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4289400" y="270828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4289400" y="278460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2924280" y="2631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3716280" y="2631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854080" y="269064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646080" y="2690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2224080" y="31939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22240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236376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236376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506680" y="32004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5066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65104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265104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3084480" y="3213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084480" y="328932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27400" y="328464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227400" y="3360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371760" y="3213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3371760" y="328932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516480" y="328932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3516480" y="336564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3876840" y="32130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3876840" y="328932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4021200" y="328932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4021200" y="3365640"/>
            <a:ext cx="7596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4164120" y="32130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4164120" y="328932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4308480" y="328932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308480" y="336564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294336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373536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555360" y="6148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3962520" y="6926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2438280" y="69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2895480" y="69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3429000" y="69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89548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97180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0481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312408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335268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42900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5053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27816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365904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73536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381168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388764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411624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419256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426888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40417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21337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220968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28600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3623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59092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66688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2743200" y="677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2516040" y="677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1989000" y="6651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1989000" y="693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1989000" y="715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3889440" y="9231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2365200" y="9231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2822400" y="9231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3355920" y="9231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282240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28987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297504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305100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327960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33559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3224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20508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35863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366228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73860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38149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40435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411948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419580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396864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206064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213660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22129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228924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251784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2593800" y="90788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26701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2443320" y="90788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922400" y="895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1989000" y="924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1989000" y="9460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350028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35766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364500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3720960" y="9928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3797280" y="9928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50028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5766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64500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3720960" y="10004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3797280" y="10004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30700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31464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32148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329076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33670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30700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1464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2148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329076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670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2625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270180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7702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846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922480" y="99331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625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70180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27702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2846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922480" y="100090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2193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22701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23385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41452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24908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193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22701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23385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41452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4908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932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400860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407664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415296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4229280" y="99331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3932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400860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407664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415296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4229280" y="100090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944880" y="9663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421000" y="9663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878200" y="9663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3411360" y="9663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1989000" y="96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1989000" y="10107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157360" y="8853480"/>
            <a:ext cx="137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6  postazioni Fonia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57720" y="917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2079720" y="8451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V="1">
            <a:off x="2079720" y="8299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4289400" y="837540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2079720" y="8223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158080" y="669276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 postazioni Dati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157720" y="701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5161680" y="974736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 flipH="1">
            <a:off x="5229360" y="1010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2060640" y="3770280"/>
            <a:ext cx="2598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660840" y="407520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3889440" y="407520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289240" y="399888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2517840" y="399888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6440" y="399888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975040" y="399888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289240" y="41511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517840" y="415116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46440" y="415116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975040" y="4151160"/>
            <a:ext cx="15228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3203640" y="415116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289240" y="43038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517840" y="43038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2746440" y="43038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3203640" y="430380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8989200" y="528336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A P.T UFF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133720" y="4994280"/>
            <a:ext cx="2539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22096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22860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23623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24382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25909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26668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27432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28195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29718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0481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1240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32004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33526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34290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35053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5812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7339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38098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38862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39625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41148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4191120" y="507060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426708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4343400" y="507060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22096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22860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23623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24382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25909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26668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27432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8195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29718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30481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31240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04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33526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34290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5053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35812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37339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8098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38862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9625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41148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4191120" y="52228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426708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4343400" y="52228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4479840" y="5070600"/>
            <a:ext cx="122400" cy="128520"/>
          </a:xfrm>
          <a:custGeom>
            <a:avLst/>
            <a:gdLst>
              <a:gd name="textAreaLeft" fmla="*/ 26640 w 122400"/>
              <a:gd name="textAreaRight" fmla="*/ 95760 w 122400"/>
              <a:gd name="textAreaTop" fmla="*/ 28080 h 128520"/>
              <a:gd name="textAreaBottom" fmla="*/ 10044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2060640" y="4694400"/>
            <a:ext cx="2539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2212920" y="4694400"/>
            <a:ext cx="304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4299120" y="3821040"/>
            <a:ext cx="152280" cy="2286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4299120" y="4125960"/>
            <a:ext cx="1522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22892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25178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7464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29750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32036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34322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36608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38894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3355920" y="434196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2060640" y="3808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4000680" y="4491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2476440" y="449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2933640" y="449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3467160" y="4491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3944880" y="5427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421000" y="5427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2878200" y="54277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3411360" y="54277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4508640" y="549900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1989000" y="571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5159520" y="49658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3114720" y="3381480"/>
            <a:ext cx="1795320" cy="1028520"/>
          </a:xfrm>
          <a:custGeom>
            <a:avLst/>
            <a:gdLst/>
            <a:ahLst/>
            <a:rect l="l" t="t" r="r" b="b"/>
            <a:pathLst>
              <a:path w="1131" h="648">
                <a:moveTo>
                  <a:pt x="0" y="0"/>
                </a:moveTo>
                <a:cubicBezTo>
                  <a:pt x="9" y="35"/>
                  <a:pt x="4" y="77"/>
                  <a:pt x="42" y="90"/>
                </a:cubicBezTo>
                <a:cubicBezTo>
                  <a:pt x="124" y="172"/>
                  <a:pt x="267" y="158"/>
                  <a:pt x="372" y="162"/>
                </a:cubicBezTo>
                <a:cubicBezTo>
                  <a:pt x="536" y="178"/>
                  <a:pt x="466" y="174"/>
                  <a:pt x="756" y="168"/>
                </a:cubicBezTo>
                <a:cubicBezTo>
                  <a:pt x="816" y="170"/>
                  <a:pt x="876" y="167"/>
                  <a:pt x="936" y="174"/>
                </a:cubicBezTo>
                <a:cubicBezTo>
                  <a:pt x="948" y="175"/>
                  <a:pt x="955" y="188"/>
                  <a:pt x="966" y="192"/>
                </a:cubicBezTo>
                <a:cubicBezTo>
                  <a:pt x="991" y="200"/>
                  <a:pt x="1018" y="200"/>
                  <a:pt x="1044" y="204"/>
                </a:cubicBezTo>
                <a:cubicBezTo>
                  <a:pt x="1055" y="215"/>
                  <a:pt x="1070" y="222"/>
                  <a:pt x="1080" y="234"/>
                </a:cubicBezTo>
                <a:cubicBezTo>
                  <a:pt x="1088" y="244"/>
                  <a:pt x="1091" y="259"/>
                  <a:pt x="1098" y="270"/>
                </a:cubicBezTo>
                <a:cubicBezTo>
                  <a:pt x="1104" y="292"/>
                  <a:pt x="1110" y="314"/>
                  <a:pt x="1116" y="336"/>
                </a:cubicBezTo>
                <a:cubicBezTo>
                  <a:pt x="1110" y="448"/>
                  <a:pt x="1131" y="435"/>
                  <a:pt x="1080" y="486"/>
                </a:cubicBezTo>
                <a:cubicBezTo>
                  <a:pt x="1066" y="500"/>
                  <a:pt x="1039" y="525"/>
                  <a:pt x="1020" y="534"/>
                </a:cubicBezTo>
                <a:cubicBezTo>
                  <a:pt x="1008" y="539"/>
                  <a:pt x="984" y="546"/>
                  <a:pt x="984" y="546"/>
                </a:cubicBezTo>
                <a:cubicBezTo>
                  <a:pt x="953" y="577"/>
                  <a:pt x="913" y="599"/>
                  <a:pt x="876" y="624"/>
                </a:cubicBezTo>
                <a:cubicBezTo>
                  <a:pt x="860" y="635"/>
                  <a:pt x="822" y="648"/>
                  <a:pt x="822" y="648"/>
                </a:cubicBezTo>
                <a:cubicBezTo>
                  <a:pt x="742" y="646"/>
                  <a:pt x="662" y="647"/>
                  <a:pt x="582" y="642"/>
                </a:cubicBezTo>
                <a:cubicBezTo>
                  <a:pt x="548" y="640"/>
                  <a:pt x="500" y="605"/>
                  <a:pt x="474" y="588"/>
                </a:cubicBezTo>
                <a:cubicBezTo>
                  <a:pt x="426" y="556"/>
                  <a:pt x="320" y="536"/>
                  <a:pt x="264" y="522"/>
                </a:cubicBezTo>
                <a:cubicBezTo>
                  <a:pt x="222" y="512"/>
                  <a:pt x="182" y="486"/>
                  <a:pt x="138" y="486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267000" y="3400560"/>
            <a:ext cx="1700280" cy="1060200"/>
          </a:xfrm>
          <a:custGeom>
            <a:avLst/>
            <a:gdLst/>
            <a:ahLst/>
            <a:rect l="l" t="t" r="r" b="b"/>
            <a:pathLst>
              <a:path w="1071" h="668">
                <a:moveTo>
                  <a:pt x="0" y="0"/>
                </a:moveTo>
                <a:cubicBezTo>
                  <a:pt x="34" y="68"/>
                  <a:pt x="150" y="76"/>
                  <a:pt x="216" y="78"/>
                </a:cubicBezTo>
                <a:cubicBezTo>
                  <a:pt x="328" y="81"/>
                  <a:pt x="440" y="82"/>
                  <a:pt x="552" y="84"/>
                </a:cubicBezTo>
                <a:cubicBezTo>
                  <a:pt x="656" y="89"/>
                  <a:pt x="754" y="104"/>
                  <a:pt x="858" y="114"/>
                </a:cubicBezTo>
                <a:cubicBezTo>
                  <a:pt x="905" y="130"/>
                  <a:pt x="954" y="140"/>
                  <a:pt x="996" y="168"/>
                </a:cubicBezTo>
                <a:cubicBezTo>
                  <a:pt x="1024" y="210"/>
                  <a:pt x="1002" y="171"/>
                  <a:pt x="1014" y="264"/>
                </a:cubicBezTo>
                <a:cubicBezTo>
                  <a:pt x="1016" y="284"/>
                  <a:pt x="1032" y="299"/>
                  <a:pt x="1038" y="318"/>
                </a:cubicBezTo>
                <a:cubicBezTo>
                  <a:pt x="1036" y="398"/>
                  <a:pt x="1071" y="536"/>
                  <a:pt x="978" y="582"/>
                </a:cubicBezTo>
                <a:cubicBezTo>
                  <a:pt x="952" y="621"/>
                  <a:pt x="919" y="628"/>
                  <a:pt x="876" y="642"/>
                </a:cubicBezTo>
                <a:cubicBezTo>
                  <a:pt x="853" y="650"/>
                  <a:pt x="804" y="654"/>
                  <a:pt x="804" y="654"/>
                </a:cubicBezTo>
                <a:cubicBezTo>
                  <a:pt x="798" y="658"/>
                  <a:pt x="793" y="666"/>
                  <a:pt x="786" y="666"/>
                </a:cubicBezTo>
                <a:cubicBezTo>
                  <a:pt x="638" y="668"/>
                  <a:pt x="490" y="665"/>
                  <a:pt x="342" y="660"/>
                </a:cubicBezTo>
                <a:cubicBezTo>
                  <a:pt x="313" y="659"/>
                  <a:pt x="247" y="641"/>
                  <a:pt x="222" y="624"/>
                </a:cubicBezTo>
                <a:cubicBezTo>
                  <a:pt x="197" y="607"/>
                  <a:pt x="211" y="614"/>
                  <a:pt x="180" y="606"/>
                </a:cubicBezTo>
                <a:cubicBezTo>
                  <a:pt x="135" y="576"/>
                  <a:pt x="110" y="582"/>
                  <a:pt x="54" y="58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3952800" y="4229280"/>
            <a:ext cx="561960" cy="847440"/>
          </a:xfrm>
          <a:custGeom>
            <a:avLst/>
            <a:gdLst/>
            <a:ahLst/>
            <a:rect l="l" t="t" r="r" b="b"/>
            <a:pathLst>
              <a:path w="354" h="534">
                <a:moveTo>
                  <a:pt x="6" y="0"/>
                </a:moveTo>
                <a:cubicBezTo>
                  <a:pt x="13" y="121"/>
                  <a:pt x="0" y="76"/>
                  <a:pt x="42" y="138"/>
                </a:cubicBezTo>
                <a:cubicBezTo>
                  <a:pt x="52" y="177"/>
                  <a:pt x="67" y="187"/>
                  <a:pt x="102" y="204"/>
                </a:cubicBezTo>
                <a:cubicBezTo>
                  <a:pt x="119" y="230"/>
                  <a:pt x="128" y="224"/>
                  <a:pt x="156" y="234"/>
                </a:cubicBezTo>
                <a:cubicBezTo>
                  <a:pt x="184" y="245"/>
                  <a:pt x="210" y="257"/>
                  <a:pt x="240" y="264"/>
                </a:cubicBezTo>
                <a:cubicBezTo>
                  <a:pt x="269" y="283"/>
                  <a:pt x="251" y="274"/>
                  <a:pt x="294" y="288"/>
                </a:cubicBezTo>
                <a:cubicBezTo>
                  <a:pt x="300" y="290"/>
                  <a:pt x="312" y="294"/>
                  <a:pt x="312" y="294"/>
                </a:cubicBezTo>
                <a:cubicBezTo>
                  <a:pt x="314" y="302"/>
                  <a:pt x="316" y="310"/>
                  <a:pt x="318" y="318"/>
                </a:cubicBezTo>
                <a:cubicBezTo>
                  <a:pt x="322" y="330"/>
                  <a:pt x="330" y="354"/>
                  <a:pt x="330" y="354"/>
                </a:cubicBezTo>
                <a:cubicBezTo>
                  <a:pt x="333" y="409"/>
                  <a:pt x="328" y="482"/>
                  <a:pt x="354" y="53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213372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 flipV="1">
            <a:off x="234936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V="1">
            <a:off x="256536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278136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306864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328464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350028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H="1" flipV="1">
            <a:off x="2133360" y="3985920"/>
            <a:ext cx="142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371628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3933720" y="3627000"/>
            <a:ext cx="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 flipH="1" flipV="1">
            <a:off x="2133360" y="4128840"/>
            <a:ext cx="142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 flipH="1" flipV="1">
            <a:off x="2133360" y="4274640"/>
            <a:ext cx="142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2565360" y="4132440"/>
            <a:ext cx="0" cy="142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2781360" y="4132440"/>
            <a:ext cx="0" cy="142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019240" y="5124600"/>
            <a:ext cx="219240" cy="1628640"/>
          </a:xfrm>
          <a:custGeom>
            <a:avLst/>
            <a:gdLst/>
            <a:ahLst/>
            <a:rect l="l" t="t" r="r" b="b"/>
            <a:pathLst>
              <a:path w="138" h="1026">
                <a:moveTo>
                  <a:pt x="138" y="0"/>
                </a:moveTo>
                <a:cubicBezTo>
                  <a:pt x="89" y="10"/>
                  <a:pt x="96" y="24"/>
                  <a:pt x="60" y="48"/>
                </a:cubicBezTo>
                <a:cubicBezTo>
                  <a:pt x="32" y="89"/>
                  <a:pt x="41" y="70"/>
                  <a:pt x="30" y="102"/>
                </a:cubicBezTo>
                <a:cubicBezTo>
                  <a:pt x="34" y="253"/>
                  <a:pt x="48" y="413"/>
                  <a:pt x="36" y="564"/>
                </a:cubicBezTo>
                <a:cubicBezTo>
                  <a:pt x="34" y="584"/>
                  <a:pt x="19" y="615"/>
                  <a:pt x="12" y="636"/>
                </a:cubicBezTo>
                <a:cubicBezTo>
                  <a:pt x="8" y="648"/>
                  <a:pt x="0" y="672"/>
                  <a:pt x="0" y="672"/>
                </a:cubicBezTo>
                <a:cubicBezTo>
                  <a:pt x="4" y="744"/>
                  <a:pt x="7" y="813"/>
                  <a:pt x="30" y="882"/>
                </a:cubicBezTo>
                <a:cubicBezTo>
                  <a:pt x="39" y="980"/>
                  <a:pt x="32" y="968"/>
                  <a:pt x="90" y="102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2058840" y="9163080"/>
            <a:ext cx="160560" cy="819000"/>
          </a:xfrm>
          <a:custGeom>
            <a:avLst/>
            <a:gdLst/>
            <a:ahLst/>
            <a:rect l="l" t="t" r="r" b="b"/>
            <a:pathLst>
              <a:path w="101" h="516">
                <a:moveTo>
                  <a:pt x="29" y="0"/>
                </a:moveTo>
                <a:cubicBezTo>
                  <a:pt x="31" y="40"/>
                  <a:pt x="30" y="80"/>
                  <a:pt x="35" y="120"/>
                </a:cubicBezTo>
                <a:cubicBezTo>
                  <a:pt x="37" y="139"/>
                  <a:pt x="53" y="174"/>
                  <a:pt x="53" y="174"/>
                </a:cubicBezTo>
                <a:cubicBezTo>
                  <a:pt x="52" y="180"/>
                  <a:pt x="45" y="209"/>
                  <a:pt x="41" y="216"/>
                </a:cubicBezTo>
                <a:cubicBezTo>
                  <a:pt x="34" y="229"/>
                  <a:pt x="17" y="252"/>
                  <a:pt x="17" y="252"/>
                </a:cubicBezTo>
                <a:cubicBezTo>
                  <a:pt x="0" y="337"/>
                  <a:pt x="4" y="306"/>
                  <a:pt x="17" y="468"/>
                </a:cubicBezTo>
                <a:cubicBezTo>
                  <a:pt x="18" y="481"/>
                  <a:pt x="17" y="500"/>
                  <a:pt x="29" y="504"/>
                </a:cubicBezTo>
                <a:cubicBezTo>
                  <a:pt x="64" y="516"/>
                  <a:pt x="41" y="510"/>
                  <a:pt x="101" y="510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5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4166" name=""/>
          <p:cNvSpPr/>
          <p:nvPr/>
        </p:nvSpPr>
        <p:spPr>
          <a:xfrm>
            <a:off x="115920" y="2906640"/>
            <a:ext cx="14414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Al rack O.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mpliam. Ludotec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1557360" y="3122640"/>
            <a:ext cx="11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2060640" y="3122640"/>
            <a:ext cx="7308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708280" y="3122640"/>
            <a:ext cx="7308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07160" y="5656320"/>
            <a:ext cx="1052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LINK RAME B/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Ampliam. Ludot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1484280" y="5931000"/>
            <a:ext cx="2449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933720" y="5931000"/>
            <a:ext cx="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3843000" y="6146640"/>
            <a:ext cx="2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1990440" y="3268800"/>
            <a:ext cx="27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1762200" y="3268800"/>
            <a:ext cx="1295280" cy="1317600"/>
          </a:xfrm>
          <a:custGeom>
            <a:avLst/>
            <a:gdLst/>
            <a:ahLst/>
            <a:rect l="l" t="t" r="r" b="b"/>
            <a:pathLst>
              <a:path w="816" h="830">
                <a:moveTo>
                  <a:pt x="816" y="587"/>
                </a:moveTo>
                <a:cubicBezTo>
                  <a:pt x="803" y="640"/>
                  <a:pt x="791" y="682"/>
                  <a:pt x="744" y="713"/>
                </a:cubicBezTo>
                <a:cubicBezTo>
                  <a:pt x="713" y="806"/>
                  <a:pt x="585" y="753"/>
                  <a:pt x="504" y="755"/>
                </a:cubicBezTo>
                <a:cubicBezTo>
                  <a:pt x="468" y="764"/>
                  <a:pt x="488" y="758"/>
                  <a:pt x="444" y="773"/>
                </a:cubicBezTo>
                <a:cubicBezTo>
                  <a:pt x="438" y="775"/>
                  <a:pt x="426" y="779"/>
                  <a:pt x="426" y="779"/>
                </a:cubicBezTo>
                <a:cubicBezTo>
                  <a:pt x="415" y="790"/>
                  <a:pt x="405" y="802"/>
                  <a:pt x="390" y="809"/>
                </a:cubicBezTo>
                <a:cubicBezTo>
                  <a:pt x="378" y="814"/>
                  <a:pt x="354" y="821"/>
                  <a:pt x="354" y="821"/>
                </a:cubicBezTo>
                <a:cubicBezTo>
                  <a:pt x="281" y="817"/>
                  <a:pt x="253" y="830"/>
                  <a:pt x="204" y="797"/>
                </a:cubicBezTo>
                <a:cubicBezTo>
                  <a:pt x="184" y="767"/>
                  <a:pt x="142" y="753"/>
                  <a:pt x="108" y="743"/>
                </a:cubicBezTo>
                <a:cubicBezTo>
                  <a:pt x="96" y="739"/>
                  <a:pt x="72" y="731"/>
                  <a:pt x="72" y="731"/>
                </a:cubicBezTo>
                <a:cubicBezTo>
                  <a:pt x="66" y="725"/>
                  <a:pt x="61" y="718"/>
                  <a:pt x="54" y="713"/>
                </a:cubicBezTo>
                <a:cubicBezTo>
                  <a:pt x="49" y="709"/>
                  <a:pt x="40" y="711"/>
                  <a:pt x="36" y="707"/>
                </a:cubicBezTo>
                <a:cubicBezTo>
                  <a:pt x="26" y="697"/>
                  <a:pt x="12" y="671"/>
                  <a:pt x="12" y="671"/>
                </a:cubicBezTo>
                <a:cubicBezTo>
                  <a:pt x="15" y="594"/>
                  <a:pt x="44" y="406"/>
                  <a:pt x="0" y="341"/>
                </a:cubicBezTo>
                <a:cubicBezTo>
                  <a:pt x="2" y="305"/>
                  <a:pt x="3" y="269"/>
                  <a:pt x="6" y="233"/>
                </a:cubicBezTo>
                <a:cubicBezTo>
                  <a:pt x="8" y="208"/>
                  <a:pt x="27" y="206"/>
                  <a:pt x="36" y="179"/>
                </a:cubicBezTo>
                <a:cubicBezTo>
                  <a:pt x="48" y="143"/>
                  <a:pt x="64" y="116"/>
                  <a:pt x="96" y="95"/>
                </a:cubicBezTo>
                <a:cubicBezTo>
                  <a:pt x="118" y="62"/>
                  <a:pt x="147" y="45"/>
                  <a:pt x="180" y="23"/>
                </a:cubicBezTo>
                <a:cubicBezTo>
                  <a:pt x="191" y="16"/>
                  <a:pt x="216" y="11"/>
                  <a:pt x="216" y="11"/>
                </a:cubicBezTo>
                <a:cubicBezTo>
                  <a:pt x="294" y="17"/>
                  <a:pt x="271" y="0"/>
                  <a:pt x="300" y="29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"/>
          <p:cNvSpPr/>
          <p:nvPr/>
        </p:nvSpPr>
        <p:spPr>
          <a:xfrm>
            <a:off x="1673280" y="961920"/>
            <a:ext cx="3124080" cy="1080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1847880" y="1647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1847880" y="3019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1847880" y="2104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1847880" y="2790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1847880" y="1876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 flipV="1">
            <a:off x="1676520" y="38556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 flipV="1">
            <a:off x="4800600" y="3855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2209680" y="3859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 flipV="1">
            <a:off x="4797360" y="11099520"/>
            <a:ext cx="30492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2743200" y="69048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3581280" y="69048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1847880" y="3247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847880" y="1419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847880" y="1190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847880" y="961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847880" y="2562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1847880" y="6448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847880" y="7373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847880" y="6905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847880" y="7602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1847880" y="6676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847880" y="7831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1847880" y="6219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847880" y="5991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847880" y="5762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1847880" y="7134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533840" y="4162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4533840" y="5305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4533840" y="4619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4533840" y="5076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4533840" y="4390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533840" y="5533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533840" y="4848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1847880" y="4162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1847880" y="53053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1847880" y="4619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1847880" y="5076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1847880" y="4390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1847880" y="55339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847880" y="39337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1847880" y="3705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1847880" y="34765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1847880" y="484812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533840" y="1647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4533840" y="1876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4533840" y="1419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4533840" y="1190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4533840" y="961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4533840" y="8059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4533840" y="7831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533840" y="64483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4533840" y="7602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4533840" y="6905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4533840" y="7362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4533840" y="66769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4533840" y="62197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533840" y="5991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4533840" y="57625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4533840" y="713412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847880" y="8059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88604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1809720" y="851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981080" y="211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81080" y="5316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81080" y="6230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V="1">
            <a:off x="4797360" y="1097136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753200" y="1887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753200" y="211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753200" y="2809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847880" y="6002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753200" y="66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753200" y="71596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H="1">
            <a:off x="5084640" y="385920"/>
            <a:ext cx="20880" cy="1072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847880" y="8288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847880" y="8516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47880" y="8974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847880" y="8745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4533840" y="8288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533840" y="8516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4533840" y="8745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533840" y="8974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1847880" y="9202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847880" y="94312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1847880" y="96598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1847880" y="98884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4533840" y="94312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4533840" y="96598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4533840" y="98884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4533840" y="9202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847880" y="2344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753200" y="23558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1847880" y="101170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1847880" y="1034568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533840" y="101170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4533840" y="1034568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1981080" y="965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1981080" y="10107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1981080" y="7602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4294" name=""/>
          <p:cNvSpPr/>
          <p:nvPr/>
        </p:nvSpPr>
        <p:spPr>
          <a:xfrm>
            <a:off x="3962520" y="8078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24382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289548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3429000" y="8078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1981080" y="4173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1981080" y="4402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1981080" y="4630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1981080" y="4859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962520" y="87264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24382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289548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3429000" y="87264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1981080" y="5545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1981080" y="5773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1981080" y="6002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5157720" y="449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5148360" y="6362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3962520" y="9391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24382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289548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3429000" y="9391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1981080" y="668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981080" y="6459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1989000" y="7875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994040" y="80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5168880" y="76597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5157720" y="9171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1989000" y="10828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1989000" y="1104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1981080" y="8974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2060640" y="9387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1989000" y="917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1989000" y="87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1989000" y="8523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1989000" y="8307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8954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9718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30481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31240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3352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3429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3505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32781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659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37353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38116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38876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41162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419256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426888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4041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1337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22096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22860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23623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259092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266688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2743200" y="9023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2516040" y="9023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28954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29718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30481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1240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352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429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3505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32781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659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7353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38116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38876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41162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19256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26888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4041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21337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22096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22860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23623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259092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266688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2743200" y="8574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2516040" y="8574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28954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29718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30481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1240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3352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429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3505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32781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659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37353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38116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38876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41162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419256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426888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4041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1337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2096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2860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23623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259092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266688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743200" y="8375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516040" y="8375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28954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29718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30481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31240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3352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3429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3505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32781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3659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37353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8116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38876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41162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419256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426888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4041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21337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22096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22860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23623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259092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266688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2743200" y="7943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2516040" y="7943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3962520" y="60022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24382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289548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3429000" y="60022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28954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29718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30481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31240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3352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3429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3505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32781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659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37353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38116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38876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41162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419256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6888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041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21337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2096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22860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23623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259092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266688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2743200" y="5850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2516040" y="5850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3962520" y="55450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4382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89548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3429000" y="55450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28954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29718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30481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31240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352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3429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3505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32781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3659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37353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38116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38876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41162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419256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26888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4041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21337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2096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22860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23623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259092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266688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743200" y="5392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2516040" y="5392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3962520" y="50878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24382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289548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3429000" y="50878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28954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29718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30481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31240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3352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3429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3505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32781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3659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37353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8116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8876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1162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419256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426888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4041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21337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2096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22860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23623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259092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66688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2743200" y="49356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2516040" y="49356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3962520" y="46306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24382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289548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3429000" y="46306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28954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29718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30481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1240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352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3429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505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781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3659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7353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8116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38876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41162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419256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426888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4041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21337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22096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22860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623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59092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266688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743200" y="44784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516040" y="44784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300640" y="830736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99  postazioni Fo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5301000" y="518328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9  postazion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962520" y="41911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243828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289548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3429000" y="41911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21337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21337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227340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2273400" y="175104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2416320" y="159876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2416320" y="16747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304240" y="1025208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 flipH="1">
            <a:off x="5462640" y="1018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1847160" y="9828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TUGNO BARI – BOZZE AL 24/05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5184000" y="690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 flipH="1">
            <a:off x="5257440" y="614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407520" y="12510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1989000" y="153828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016520" y="18558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24922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94948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3483000" y="18558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989000" y="5095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5300640" y="449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191304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1836720" y="10814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1874880" y="10585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1874880" y="10814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1874880" y="1104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538520" y="10585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538520" y="1104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4538520" y="10814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1700280" y="1126008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1989000" y="1106640"/>
            <a:ext cx="251964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 flipH="1">
            <a:off x="41047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 flipH="1">
            <a:off x="28854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 flipH="1">
            <a:off x="319032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 flipH="1">
            <a:off x="34956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 flipH="1">
            <a:off x="3799800" y="1251000"/>
            <a:ext cx="15228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 flipH="1">
            <a:off x="2581200" y="1251000"/>
            <a:ext cx="152640" cy="71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2276640" y="1251000"/>
            <a:ext cx="152280" cy="7128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6022" h="21600">
                <a:moveTo>
                  <a:pt x="0" y="0"/>
                </a:moveTo>
                <a:lnTo>
                  <a:pt x="46022" y="0"/>
                </a:lnTo>
                <a:lnTo>
                  <a:pt x="46022" y="21600"/>
                </a:lnTo>
                <a:lnTo>
                  <a:pt x="0" y="21600"/>
                </a:lnTo>
                <a:close/>
              </a:path>
              <a:path fill="lightenLess" w="46022" h="21600">
                <a:moveTo>
                  <a:pt x="0" y="0"/>
                </a:moveTo>
                <a:lnTo>
                  <a:pt x="46022" y="0"/>
                </a:lnTo>
                <a:lnTo>
                  <a:pt x="44622" y="1400"/>
                </a:lnTo>
                <a:lnTo>
                  <a:pt x="1400" y="1400"/>
                </a:lnTo>
                <a:close/>
              </a:path>
              <a:path fill="darken" w="46022" h="21600">
                <a:moveTo>
                  <a:pt x="46022" y="0"/>
                </a:moveTo>
                <a:lnTo>
                  <a:pt x="46022" y="21600"/>
                </a:lnTo>
                <a:lnTo>
                  <a:pt x="44622" y="20200"/>
                </a:lnTo>
                <a:lnTo>
                  <a:pt x="44622" y="1400"/>
                </a:lnTo>
                <a:close/>
              </a:path>
              <a:path fill="darkenLess" w="46022" h="21600">
                <a:moveTo>
                  <a:pt x="4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22" y="20200"/>
                </a:lnTo>
                <a:close/>
              </a:path>
              <a:path fill="lighten" w="4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22" h="21600">
                <a:moveTo>
                  <a:pt x="2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6022" h="21600">
                <a:moveTo>
                  <a:pt x="2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6022" h="21600">
                <a:moveTo>
                  <a:pt x="20435" y="8224"/>
                </a:moveTo>
                <a:lnTo>
                  <a:pt x="24299" y="8224"/>
                </a:lnTo>
                <a:lnTo>
                  <a:pt x="24299" y="15221"/>
                </a:lnTo>
                <a:lnTo>
                  <a:pt x="25587" y="15221"/>
                </a:lnTo>
                <a:lnTo>
                  <a:pt x="25587" y="16144"/>
                </a:lnTo>
                <a:lnTo>
                  <a:pt x="20435" y="16144"/>
                </a:lnTo>
                <a:lnTo>
                  <a:pt x="20435" y="15221"/>
                </a:lnTo>
                <a:lnTo>
                  <a:pt x="21723" y="15221"/>
                </a:lnTo>
                <a:lnTo>
                  <a:pt x="21723" y="9129"/>
                </a:lnTo>
                <a:lnTo>
                  <a:pt x="2043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76280" y="1528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5300640" y="54151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350028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35766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364500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3720960" y="9675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3797280" y="9675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350028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35766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364500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3720960" y="97520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3797280" y="97520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30700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31464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32148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329076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33670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30700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31464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32148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329076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33670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2625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270180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27702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2846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922480" y="96804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625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270180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27702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2846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2922480" y="9756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2193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22701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23385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241452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24908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2193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2701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23385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241452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24908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3932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400860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07664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415296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4229280" y="96804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3932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400860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407664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415296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4229280" y="9756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5300640" y="765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396072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24368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2894040" y="99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3427560" y="99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350028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35766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364500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3720960" y="101808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3797280" y="101808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50028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5766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364500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3720960" y="102567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3797280" y="102567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3068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3144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32130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32893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3365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3068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3144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32130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2893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3365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625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270180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27702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2846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2922480" y="1018548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625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70180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27702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2846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2922480" y="10261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2193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701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23385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241452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24908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2193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22701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23385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241452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24908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3932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400860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407664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415296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4229280" y="1018548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3932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400860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407664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415296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4229280" y="10261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19166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1899720" y="441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4293360" y="4419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4296240" y="492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191664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4293360" y="5356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4293360" y="57880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1916640" y="57862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3962520" y="6443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24382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289548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3429000" y="6443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28954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29718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30481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31240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3352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3429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3505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32781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3659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37353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38116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38876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41162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419256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426888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4041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21337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2096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22860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23623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259092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266688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743200" y="62913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2516040" y="62913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1916640" y="6292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4245120" y="62928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396072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24368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2894040" y="10347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3427560" y="10347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350028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35766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364500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3720960" y="10612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3797280" y="10612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350028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5766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364500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3720960" y="1068876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797280" y="1068876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3068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3144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213000" y="106171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32893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3365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3068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3144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3213000" y="106934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32893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3365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26370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271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27813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28576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2933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26370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71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27813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28576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2933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2193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22701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23385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241452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24908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2193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22701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23385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41452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24908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3932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400860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407664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415296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4229280" y="106171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3932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400860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407664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415296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4229280" y="106934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989000" y="9891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5168880" y="96044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5157720" y="10828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5300640" y="960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1990080" y="96775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1916640" y="10109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1916280" y="1053936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4222800" y="101314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4245120" y="1056312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4221720" y="969948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5300640" y="859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1917360" y="76597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191664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191664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1916640" y="8523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916640" y="89550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4296240" y="7661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4293360" y="78757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1989000" y="105393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1989000" y="10395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394488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24210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2878200" y="1081548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3411360" y="1081548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28954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29718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30481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31240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3352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429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3505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32781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3659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37353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38116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38876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41162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419256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426888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4041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21337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22096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22860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23623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59092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266688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2743200" y="76597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2516040" y="76597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4293360" y="8307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4293360" y="8524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4245120" y="902808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>
            <a:off x="2079720" y="751536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 flipV="1">
            <a:off x="2079720" y="736272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 flipV="1">
            <a:off x="4289400" y="743904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2079720" y="7286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 flipH="1">
            <a:off x="5229000" y="744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5292360" y="7155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piano fis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5167440" y="2690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5157720" y="4202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5378400" y="3094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5310360" y="269064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5229360" y="6507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5230800" y="629136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15920" y="189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116640" y="165420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560680" y="16747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560680" y="1751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28544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28544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299412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2994120" y="17636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3137040" y="1611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137040" y="16876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3281400" y="16876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3281400" y="17636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573360" y="1611360"/>
            <a:ext cx="763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3573360" y="1687680"/>
            <a:ext cx="7632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3713040" y="1687680"/>
            <a:ext cx="7632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3713040" y="1763640"/>
            <a:ext cx="763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3855960" y="1611360"/>
            <a:ext cx="763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3855960" y="1687680"/>
            <a:ext cx="7632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4000680" y="1687680"/>
            <a:ext cx="7596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4000680" y="1763640"/>
            <a:ext cx="7596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 flipH="1">
            <a:off x="5444640" y="341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5231160" y="2043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 flipH="1">
            <a:off x="5229360" y="225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514440" y="385560"/>
            <a:ext cx="582912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RMADIO “ O. – 1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981080" y="4130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3962520" y="4130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243828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289548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3429000" y="4130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1989000" y="2114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2060640" y="249084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21366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22129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22892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23652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5178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25938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6701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27464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28987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29750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30510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1273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32796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33559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34322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35082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36608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37368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38131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38894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40417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4118040" y="256716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419400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4270320" y="256716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21366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22129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22892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3652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25178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25938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26701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27464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8987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29750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510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31273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796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3559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34322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082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36608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37368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38131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38894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40417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4118040" y="2719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419400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4270320" y="2719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4498920" y="271944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2060640" y="2185920"/>
            <a:ext cx="267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2212920" y="218592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2746440" y="2185920"/>
            <a:ext cx="30456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3279600" y="218592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2060640" y="3770280"/>
            <a:ext cx="267480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21366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22129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22892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23652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25178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25938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26701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27464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28987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29750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30510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31273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32796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3559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34322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35082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36608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37368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38131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38894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40417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4118040" y="39020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419400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4270320" y="39020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2060640" y="310212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21366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129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22892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23652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5178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5938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26701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27464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28987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9750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30510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31273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32796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33559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34322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35082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6608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37368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38131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38894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40417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4118040" y="31780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419400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4270320" y="31780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21366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22129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22892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23652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25178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25938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26701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27464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28987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29750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30510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31273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32796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33559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34322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35082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36608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37368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38131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38894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40417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118040" y="333072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19400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4270320" y="333072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498920" y="3330720"/>
            <a:ext cx="1522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4498920" y="3200400"/>
            <a:ext cx="1522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4437000" y="384804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4440240" y="4000680"/>
            <a:ext cx="15228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4016520" y="29066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249228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94948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3483000" y="29066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4000680" y="348300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47644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293364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3467160" y="348300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158920" y="1746360"/>
            <a:ext cx="2379600" cy="1054080"/>
          </a:xfrm>
          <a:custGeom>
            <a:avLst/>
            <a:gdLst/>
            <a:ahLst/>
            <a:rect l="l" t="t" r="r" b="b"/>
            <a:pathLst>
              <a:path w="1499" h="664">
                <a:moveTo>
                  <a:pt x="0" y="0"/>
                </a:moveTo>
                <a:cubicBezTo>
                  <a:pt x="1" y="24"/>
                  <a:pt x="1" y="48"/>
                  <a:pt x="4" y="72"/>
                </a:cubicBezTo>
                <a:cubicBezTo>
                  <a:pt x="6" y="89"/>
                  <a:pt x="17" y="106"/>
                  <a:pt x="20" y="124"/>
                </a:cubicBezTo>
                <a:cubicBezTo>
                  <a:pt x="22" y="137"/>
                  <a:pt x="24" y="168"/>
                  <a:pt x="36" y="180"/>
                </a:cubicBezTo>
                <a:cubicBezTo>
                  <a:pt x="63" y="207"/>
                  <a:pt x="99" y="208"/>
                  <a:pt x="128" y="228"/>
                </a:cubicBezTo>
                <a:cubicBezTo>
                  <a:pt x="214" y="226"/>
                  <a:pt x="248" y="227"/>
                  <a:pt x="316" y="216"/>
                </a:cubicBezTo>
                <a:cubicBezTo>
                  <a:pt x="472" y="218"/>
                  <a:pt x="639" y="234"/>
                  <a:pt x="796" y="224"/>
                </a:cubicBezTo>
                <a:cubicBezTo>
                  <a:pt x="815" y="219"/>
                  <a:pt x="834" y="214"/>
                  <a:pt x="852" y="208"/>
                </a:cubicBezTo>
                <a:cubicBezTo>
                  <a:pt x="994" y="212"/>
                  <a:pt x="1139" y="204"/>
                  <a:pt x="1280" y="224"/>
                </a:cubicBezTo>
                <a:cubicBezTo>
                  <a:pt x="1332" y="241"/>
                  <a:pt x="1382" y="265"/>
                  <a:pt x="1436" y="272"/>
                </a:cubicBezTo>
                <a:cubicBezTo>
                  <a:pt x="1499" y="293"/>
                  <a:pt x="1451" y="405"/>
                  <a:pt x="1448" y="472"/>
                </a:cubicBezTo>
                <a:cubicBezTo>
                  <a:pt x="1447" y="509"/>
                  <a:pt x="1422" y="547"/>
                  <a:pt x="1416" y="584"/>
                </a:cubicBezTo>
                <a:cubicBezTo>
                  <a:pt x="1420" y="664"/>
                  <a:pt x="1397" y="664"/>
                  <a:pt x="1444" y="648"/>
                </a:cubicBezTo>
                <a:cubicBezTo>
                  <a:pt x="1457" y="644"/>
                  <a:pt x="1452" y="644"/>
                  <a:pt x="1460" y="64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2305080" y="1822320"/>
            <a:ext cx="2706480" cy="1546200"/>
          </a:xfrm>
          <a:custGeom>
            <a:avLst/>
            <a:gdLst/>
            <a:ahLst/>
            <a:rect l="l" t="t" r="r" b="b"/>
            <a:pathLst>
              <a:path w="1705" h="974">
                <a:moveTo>
                  <a:pt x="0" y="0"/>
                </a:moveTo>
                <a:cubicBezTo>
                  <a:pt x="3" y="10"/>
                  <a:pt x="6" y="31"/>
                  <a:pt x="16" y="40"/>
                </a:cubicBezTo>
                <a:cubicBezTo>
                  <a:pt x="50" y="70"/>
                  <a:pt x="105" y="76"/>
                  <a:pt x="148" y="80"/>
                </a:cubicBezTo>
                <a:cubicBezTo>
                  <a:pt x="160" y="116"/>
                  <a:pt x="185" y="120"/>
                  <a:pt x="220" y="124"/>
                </a:cubicBezTo>
                <a:cubicBezTo>
                  <a:pt x="345" y="121"/>
                  <a:pt x="467" y="115"/>
                  <a:pt x="592" y="112"/>
                </a:cubicBezTo>
                <a:cubicBezTo>
                  <a:pt x="643" y="99"/>
                  <a:pt x="596" y="109"/>
                  <a:pt x="712" y="112"/>
                </a:cubicBezTo>
                <a:cubicBezTo>
                  <a:pt x="901" y="116"/>
                  <a:pt x="1091" y="118"/>
                  <a:pt x="1280" y="124"/>
                </a:cubicBezTo>
                <a:cubicBezTo>
                  <a:pt x="1315" y="131"/>
                  <a:pt x="1339" y="152"/>
                  <a:pt x="1368" y="172"/>
                </a:cubicBezTo>
                <a:cubicBezTo>
                  <a:pt x="1400" y="193"/>
                  <a:pt x="1430" y="214"/>
                  <a:pt x="1460" y="236"/>
                </a:cubicBezTo>
                <a:cubicBezTo>
                  <a:pt x="1492" y="259"/>
                  <a:pt x="1522" y="291"/>
                  <a:pt x="1560" y="304"/>
                </a:cubicBezTo>
                <a:cubicBezTo>
                  <a:pt x="1566" y="321"/>
                  <a:pt x="1583" y="334"/>
                  <a:pt x="1600" y="340"/>
                </a:cubicBezTo>
                <a:cubicBezTo>
                  <a:pt x="1613" y="379"/>
                  <a:pt x="1606" y="421"/>
                  <a:pt x="1616" y="460"/>
                </a:cubicBezTo>
                <a:cubicBezTo>
                  <a:pt x="1615" y="606"/>
                  <a:pt x="1705" y="815"/>
                  <a:pt x="1584" y="896"/>
                </a:cubicBezTo>
                <a:cubicBezTo>
                  <a:pt x="1573" y="913"/>
                  <a:pt x="1555" y="925"/>
                  <a:pt x="1540" y="940"/>
                </a:cubicBezTo>
                <a:cubicBezTo>
                  <a:pt x="1531" y="949"/>
                  <a:pt x="1523" y="970"/>
                  <a:pt x="1508" y="972"/>
                </a:cubicBezTo>
                <a:cubicBezTo>
                  <a:pt x="1492" y="974"/>
                  <a:pt x="1476" y="972"/>
                  <a:pt x="1460" y="97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2444760" y="1752480"/>
            <a:ext cx="2543040" cy="2216160"/>
          </a:xfrm>
          <a:custGeom>
            <a:avLst/>
            <a:gdLst/>
            <a:ahLst/>
            <a:rect l="l" t="t" r="r" b="b"/>
            <a:pathLst>
              <a:path w="1602" h="1396">
                <a:moveTo>
                  <a:pt x="0" y="0"/>
                </a:moveTo>
                <a:cubicBezTo>
                  <a:pt x="1" y="11"/>
                  <a:pt x="0" y="22"/>
                  <a:pt x="4" y="32"/>
                </a:cubicBezTo>
                <a:cubicBezTo>
                  <a:pt x="17" y="68"/>
                  <a:pt x="60" y="64"/>
                  <a:pt x="92" y="68"/>
                </a:cubicBezTo>
                <a:cubicBezTo>
                  <a:pt x="154" y="89"/>
                  <a:pt x="238" y="104"/>
                  <a:pt x="300" y="108"/>
                </a:cubicBezTo>
                <a:cubicBezTo>
                  <a:pt x="357" y="127"/>
                  <a:pt x="317" y="115"/>
                  <a:pt x="456" y="116"/>
                </a:cubicBezTo>
                <a:cubicBezTo>
                  <a:pt x="729" y="118"/>
                  <a:pt x="1003" y="119"/>
                  <a:pt x="1276" y="120"/>
                </a:cubicBezTo>
                <a:cubicBezTo>
                  <a:pt x="1305" y="123"/>
                  <a:pt x="1332" y="126"/>
                  <a:pt x="1360" y="132"/>
                </a:cubicBezTo>
                <a:cubicBezTo>
                  <a:pt x="1379" y="146"/>
                  <a:pt x="1394" y="149"/>
                  <a:pt x="1416" y="156"/>
                </a:cubicBezTo>
                <a:cubicBezTo>
                  <a:pt x="1425" y="159"/>
                  <a:pt x="1432" y="167"/>
                  <a:pt x="1440" y="172"/>
                </a:cubicBezTo>
                <a:cubicBezTo>
                  <a:pt x="1444" y="175"/>
                  <a:pt x="1452" y="180"/>
                  <a:pt x="1452" y="180"/>
                </a:cubicBezTo>
                <a:cubicBezTo>
                  <a:pt x="1460" y="193"/>
                  <a:pt x="1474" y="198"/>
                  <a:pt x="1480" y="212"/>
                </a:cubicBezTo>
                <a:cubicBezTo>
                  <a:pt x="1490" y="235"/>
                  <a:pt x="1487" y="254"/>
                  <a:pt x="1508" y="268"/>
                </a:cubicBezTo>
                <a:cubicBezTo>
                  <a:pt x="1517" y="294"/>
                  <a:pt x="1532" y="315"/>
                  <a:pt x="1540" y="340"/>
                </a:cubicBezTo>
                <a:cubicBezTo>
                  <a:pt x="1547" y="408"/>
                  <a:pt x="1534" y="487"/>
                  <a:pt x="1556" y="552"/>
                </a:cubicBezTo>
                <a:cubicBezTo>
                  <a:pt x="1568" y="663"/>
                  <a:pt x="1602" y="825"/>
                  <a:pt x="1552" y="924"/>
                </a:cubicBezTo>
                <a:cubicBezTo>
                  <a:pt x="1547" y="949"/>
                  <a:pt x="1543" y="978"/>
                  <a:pt x="1528" y="1000"/>
                </a:cubicBezTo>
                <a:cubicBezTo>
                  <a:pt x="1519" y="1037"/>
                  <a:pt x="1526" y="1023"/>
                  <a:pt x="1512" y="1044"/>
                </a:cubicBezTo>
                <a:cubicBezTo>
                  <a:pt x="1503" y="1080"/>
                  <a:pt x="1493" y="1118"/>
                  <a:pt x="1476" y="1152"/>
                </a:cubicBezTo>
                <a:cubicBezTo>
                  <a:pt x="1469" y="1166"/>
                  <a:pt x="1456" y="1174"/>
                  <a:pt x="1448" y="1188"/>
                </a:cubicBezTo>
                <a:cubicBezTo>
                  <a:pt x="1440" y="1202"/>
                  <a:pt x="1437" y="1215"/>
                  <a:pt x="1428" y="1228"/>
                </a:cubicBezTo>
                <a:cubicBezTo>
                  <a:pt x="1421" y="1256"/>
                  <a:pt x="1417" y="1277"/>
                  <a:pt x="1400" y="1300"/>
                </a:cubicBezTo>
                <a:cubicBezTo>
                  <a:pt x="1388" y="1336"/>
                  <a:pt x="1369" y="1363"/>
                  <a:pt x="1352" y="1396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1974960" y="2622600"/>
            <a:ext cx="177840" cy="1892160"/>
          </a:xfrm>
          <a:custGeom>
            <a:avLst/>
            <a:gdLst/>
            <a:ahLst/>
            <a:rect l="l" t="t" r="r" b="b"/>
            <a:pathLst>
              <a:path w="112" h="1192">
                <a:moveTo>
                  <a:pt x="112" y="0"/>
                </a:moveTo>
                <a:cubicBezTo>
                  <a:pt x="92" y="13"/>
                  <a:pt x="103" y="4"/>
                  <a:pt x="84" y="32"/>
                </a:cubicBezTo>
                <a:cubicBezTo>
                  <a:pt x="79" y="40"/>
                  <a:pt x="68" y="56"/>
                  <a:pt x="68" y="56"/>
                </a:cubicBezTo>
                <a:cubicBezTo>
                  <a:pt x="51" y="124"/>
                  <a:pt x="61" y="177"/>
                  <a:pt x="56" y="256"/>
                </a:cubicBezTo>
                <a:cubicBezTo>
                  <a:pt x="55" y="270"/>
                  <a:pt x="34" y="299"/>
                  <a:pt x="28" y="308"/>
                </a:cubicBezTo>
                <a:cubicBezTo>
                  <a:pt x="23" y="316"/>
                  <a:pt x="12" y="332"/>
                  <a:pt x="12" y="332"/>
                </a:cubicBezTo>
                <a:cubicBezTo>
                  <a:pt x="0" y="401"/>
                  <a:pt x="7" y="469"/>
                  <a:pt x="24" y="536"/>
                </a:cubicBezTo>
                <a:cubicBezTo>
                  <a:pt x="31" y="673"/>
                  <a:pt x="34" y="811"/>
                  <a:pt x="40" y="948"/>
                </a:cubicBezTo>
                <a:cubicBezTo>
                  <a:pt x="42" y="986"/>
                  <a:pt x="54" y="1106"/>
                  <a:pt x="92" y="1132"/>
                </a:cubicBezTo>
                <a:cubicBezTo>
                  <a:pt x="98" y="1150"/>
                  <a:pt x="108" y="1172"/>
                  <a:pt x="108" y="119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1758960" y="7701120"/>
            <a:ext cx="446040" cy="1974600"/>
          </a:xfrm>
          <a:custGeom>
            <a:avLst/>
            <a:gdLst/>
            <a:ahLst/>
            <a:rect l="l" t="t" r="r" b="b"/>
            <a:pathLst>
              <a:path w="353" h="1287">
                <a:moveTo>
                  <a:pt x="252" y="5"/>
                </a:moveTo>
                <a:cubicBezTo>
                  <a:pt x="229" y="7"/>
                  <a:pt x="203" y="0"/>
                  <a:pt x="184" y="13"/>
                </a:cubicBezTo>
                <a:cubicBezTo>
                  <a:pt x="146" y="39"/>
                  <a:pt x="171" y="28"/>
                  <a:pt x="152" y="49"/>
                </a:cubicBezTo>
                <a:cubicBezTo>
                  <a:pt x="112" y="95"/>
                  <a:pt x="88" y="118"/>
                  <a:pt x="68" y="177"/>
                </a:cubicBezTo>
                <a:cubicBezTo>
                  <a:pt x="61" y="229"/>
                  <a:pt x="45" y="279"/>
                  <a:pt x="28" y="329"/>
                </a:cubicBezTo>
                <a:cubicBezTo>
                  <a:pt x="24" y="384"/>
                  <a:pt x="25" y="427"/>
                  <a:pt x="8" y="477"/>
                </a:cubicBezTo>
                <a:cubicBezTo>
                  <a:pt x="10" y="547"/>
                  <a:pt x="0" y="694"/>
                  <a:pt x="20" y="765"/>
                </a:cubicBezTo>
                <a:cubicBezTo>
                  <a:pt x="30" y="800"/>
                  <a:pt x="42" y="831"/>
                  <a:pt x="56" y="865"/>
                </a:cubicBezTo>
                <a:cubicBezTo>
                  <a:pt x="62" y="879"/>
                  <a:pt x="68" y="909"/>
                  <a:pt x="68" y="909"/>
                </a:cubicBezTo>
                <a:cubicBezTo>
                  <a:pt x="72" y="949"/>
                  <a:pt x="67" y="1048"/>
                  <a:pt x="92" y="1085"/>
                </a:cubicBezTo>
                <a:cubicBezTo>
                  <a:pt x="142" y="1161"/>
                  <a:pt x="243" y="1257"/>
                  <a:pt x="332" y="1277"/>
                </a:cubicBezTo>
                <a:cubicBezTo>
                  <a:pt x="337" y="1280"/>
                  <a:pt x="342" y="1287"/>
                  <a:pt x="348" y="1285"/>
                </a:cubicBezTo>
                <a:cubicBezTo>
                  <a:pt x="353" y="1283"/>
                  <a:pt x="345" y="1273"/>
                  <a:pt x="340" y="1273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8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5019" name=""/>
          <p:cNvSpPr/>
          <p:nvPr/>
        </p:nvSpPr>
        <p:spPr>
          <a:xfrm>
            <a:off x="5241960" y="1682640"/>
            <a:ext cx="16362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M  Mou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5235840" y="6578640"/>
            <a:ext cx="14076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rack 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5522040" y="9099720"/>
            <a:ext cx="92592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ack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3716280" y="6435720"/>
            <a:ext cx="217440" cy="358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3933720" y="6794640"/>
            <a:ext cx="122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3648240" y="1628640"/>
            <a:ext cx="1506240" cy="1638360"/>
          </a:xfrm>
          <a:custGeom>
            <a:avLst/>
            <a:gdLst/>
            <a:ahLst/>
            <a:rect l="l" t="t" r="r" b="b"/>
            <a:pathLst>
              <a:path w="949" h="1032">
                <a:moveTo>
                  <a:pt x="0" y="0"/>
                </a:moveTo>
                <a:cubicBezTo>
                  <a:pt x="98" y="33"/>
                  <a:pt x="71" y="19"/>
                  <a:pt x="234" y="24"/>
                </a:cubicBezTo>
                <a:cubicBezTo>
                  <a:pt x="344" y="32"/>
                  <a:pt x="454" y="42"/>
                  <a:pt x="564" y="48"/>
                </a:cubicBezTo>
                <a:cubicBezTo>
                  <a:pt x="586" y="54"/>
                  <a:pt x="611" y="58"/>
                  <a:pt x="630" y="72"/>
                </a:cubicBezTo>
                <a:cubicBezTo>
                  <a:pt x="674" y="103"/>
                  <a:pt x="620" y="79"/>
                  <a:pt x="672" y="102"/>
                </a:cubicBezTo>
                <a:cubicBezTo>
                  <a:pt x="742" y="133"/>
                  <a:pt x="809" y="158"/>
                  <a:pt x="870" y="204"/>
                </a:cubicBezTo>
                <a:cubicBezTo>
                  <a:pt x="880" y="235"/>
                  <a:pt x="897" y="270"/>
                  <a:pt x="912" y="300"/>
                </a:cubicBezTo>
                <a:cubicBezTo>
                  <a:pt x="921" y="318"/>
                  <a:pt x="936" y="354"/>
                  <a:pt x="936" y="354"/>
                </a:cubicBezTo>
                <a:cubicBezTo>
                  <a:pt x="930" y="549"/>
                  <a:pt x="949" y="525"/>
                  <a:pt x="888" y="648"/>
                </a:cubicBezTo>
                <a:cubicBezTo>
                  <a:pt x="873" y="678"/>
                  <a:pt x="858" y="720"/>
                  <a:pt x="834" y="744"/>
                </a:cubicBezTo>
                <a:cubicBezTo>
                  <a:pt x="818" y="760"/>
                  <a:pt x="792" y="798"/>
                  <a:pt x="792" y="798"/>
                </a:cubicBezTo>
                <a:cubicBezTo>
                  <a:pt x="783" y="833"/>
                  <a:pt x="764" y="850"/>
                  <a:pt x="744" y="876"/>
                </a:cubicBezTo>
                <a:cubicBezTo>
                  <a:pt x="717" y="911"/>
                  <a:pt x="691" y="953"/>
                  <a:pt x="654" y="978"/>
                </a:cubicBezTo>
                <a:cubicBezTo>
                  <a:pt x="638" y="1001"/>
                  <a:pt x="619" y="1013"/>
                  <a:pt x="600" y="103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3511440" y="9171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3587760" y="9171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3656160" y="9171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3732120" y="9171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3808440" y="9171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3511440" y="9247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3587760" y="9247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3656160" y="9247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3732120" y="924732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3808440" y="924732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3081240" y="917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15756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322596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330192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337824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3081240" y="925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315756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322596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330192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337824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263700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271296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278136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5768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93364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263700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271296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278136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285768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293364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220500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228132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2349360" y="917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242568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250200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220500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8132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2349360" y="925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242568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250200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394344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4019400" y="917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408780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4164120" y="917568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4240080" y="917568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94344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4019400" y="925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408780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4164120" y="925200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4240080" y="925200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4365720" y="9244080"/>
            <a:ext cx="1008000" cy="71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692280" y="1073160"/>
            <a:ext cx="582912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MADIO  “ O. L “ ampli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1384200" y="3122640"/>
            <a:ext cx="3124440" cy="37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1558800" y="380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1558800" y="5180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1558800" y="426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1558800" y="495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1558800" y="403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 flipV="1">
            <a:off x="1387440" y="25462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 flipV="1">
            <a:off x="4511520" y="2546280"/>
            <a:ext cx="3049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920960" y="25462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 flipV="1">
            <a:off x="4508640" y="6507000"/>
            <a:ext cx="304560" cy="33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2454120" y="285120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292560" y="285120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558800" y="5408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1558800" y="357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1558800" y="335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558800" y="312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1558800" y="472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4245120" y="6323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4245120" y="6094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4245120" y="5865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4245120" y="5637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1558800" y="6323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1558800" y="6094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1558800" y="5865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1558800" y="5637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4245120" y="3808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4245120" y="5180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245120" y="4037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245120" y="5408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4245120" y="3579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4245120" y="3351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4245120" y="312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692360" y="427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1464480" y="40482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464480" y="4276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1464480" y="4970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 flipH="1">
            <a:off x="4797000" y="2546280"/>
            <a:ext cx="1908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558800" y="450540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1464480" y="45165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8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5119" name=""/>
          <p:cNvSpPr/>
          <p:nvPr/>
        </p:nvSpPr>
        <p:spPr>
          <a:xfrm>
            <a:off x="1700280" y="535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4340880" y="5138640"/>
            <a:ext cx="25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postazioni Dati Ludote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postazioni Dati Forest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1844640" y="37591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84464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198432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1984320" y="3911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2127240" y="37591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212724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4872600" y="657864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 flipH="1">
            <a:off x="4940280" y="6507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1847880" y="746280"/>
            <a:ext cx="41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COTUGNO BARI – OFFERTA  AL 01/08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4895280" y="28512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 flipH="1">
            <a:off x="4968360" y="2774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18800" y="3708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1700280" y="3699000"/>
            <a:ext cx="251928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3727440" y="4016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203560" y="40165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660760" y="40165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3193920" y="4016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1700280" y="3267000"/>
            <a:ext cx="251928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 flipH="1">
            <a:off x="381564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 flipH="1">
            <a:off x="2597040" y="3411360"/>
            <a:ext cx="15264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 flipH="1">
            <a:off x="290124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 flipH="1">
            <a:off x="320616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 flipH="1">
            <a:off x="3511440" y="3411360"/>
            <a:ext cx="15264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229176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1987560" y="3411360"/>
            <a:ext cx="152280" cy="7164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5792" h="21600">
                <a:moveTo>
                  <a:pt x="0" y="0"/>
                </a:moveTo>
                <a:lnTo>
                  <a:pt x="45792" y="0"/>
                </a:lnTo>
                <a:lnTo>
                  <a:pt x="45792" y="21600"/>
                </a:lnTo>
                <a:lnTo>
                  <a:pt x="0" y="21600"/>
                </a:lnTo>
                <a:close/>
              </a:path>
              <a:path fill="lightenLess" w="45792" h="21600">
                <a:moveTo>
                  <a:pt x="0" y="0"/>
                </a:moveTo>
                <a:lnTo>
                  <a:pt x="45792" y="0"/>
                </a:lnTo>
                <a:lnTo>
                  <a:pt x="44392" y="1400"/>
                </a:lnTo>
                <a:lnTo>
                  <a:pt x="1400" y="1400"/>
                </a:lnTo>
                <a:close/>
              </a:path>
              <a:path fill="darken" w="45792" h="21600">
                <a:moveTo>
                  <a:pt x="45792" y="0"/>
                </a:moveTo>
                <a:lnTo>
                  <a:pt x="45792" y="21600"/>
                </a:lnTo>
                <a:lnTo>
                  <a:pt x="44392" y="20200"/>
                </a:lnTo>
                <a:lnTo>
                  <a:pt x="44392" y="1400"/>
                </a:lnTo>
                <a:close/>
              </a:path>
              <a:path fill="darkenLess" w="45792" h="21600">
                <a:moveTo>
                  <a:pt x="45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92" y="20200"/>
                </a:lnTo>
                <a:close/>
              </a:path>
              <a:path fill="lighten" w="45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92" h="21600">
                <a:moveTo>
                  <a:pt x="228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792" h="21600">
                <a:moveTo>
                  <a:pt x="228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792" h="21600">
                <a:moveTo>
                  <a:pt x="20320" y="8224"/>
                </a:moveTo>
                <a:lnTo>
                  <a:pt x="24184" y="8224"/>
                </a:lnTo>
                <a:lnTo>
                  <a:pt x="24184" y="15221"/>
                </a:lnTo>
                <a:lnTo>
                  <a:pt x="25472" y="15221"/>
                </a:lnTo>
                <a:lnTo>
                  <a:pt x="25472" y="16144"/>
                </a:lnTo>
                <a:lnTo>
                  <a:pt x="20320" y="16144"/>
                </a:lnTo>
                <a:lnTo>
                  <a:pt x="20320" y="15221"/>
                </a:lnTo>
                <a:lnTo>
                  <a:pt x="21608" y="15221"/>
                </a:lnTo>
                <a:lnTo>
                  <a:pt x="21608" y="9129"/>
                </a:lnTo>
                <a:lnTo>
                  <a:pt x="20320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187200" y="398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4940280" y="5514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321156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328788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335592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343224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3508200" y="6362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21156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328788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335592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343224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3508200" y="6438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>
            <a:off x="27813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28576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29257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300204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307800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27813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28576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29257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300204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307800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23367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24130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248112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255744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26337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23367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24130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248112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255744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26337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19051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198108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20494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212580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220176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19051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98108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20494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12580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220176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364320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7195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37879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386388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394020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364320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7195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37879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86388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394020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695760" y="563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171880" y="563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2629080" y="563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3162240" y="563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6290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27050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7813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8576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30862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162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2385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0114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33926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34686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354492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3621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38498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39258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400212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377496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18669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19432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2019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20955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23241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24004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4764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2496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701360" y="63644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26290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27050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7813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28576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0862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162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2385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30114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33926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34686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354492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621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38498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39258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400212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377496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18669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19432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2019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20955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23241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24004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24764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22496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4942080" y="463392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5011560" y="614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4941720" y="54990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4940280" y="38718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4941000" y="3525840"/>
            <a:ext cx="15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CED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227160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2271600" y="3911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2565360" y="37720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256536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270504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270504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2847960" y="37720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284796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299232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99232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3284640" y="37720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328464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42432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3424320" y="3924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567240" y="37720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356724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371160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371160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 flipH="1">
            <a:off x="5008320" y="4951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4942080" y="42037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 flipH="1">
            <a:off x="4939920" y="441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3727440" y="5126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2203560" y="5126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2660760" y="5126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3193920" y="5126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1700280" y="5641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1700280" y="5859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1700280" y="6075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3711600" y="606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2187720" y="606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2644920" y="606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178080" y="606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704960" y="62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1704960" y="657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1701360" y="5859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1701360" y="535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4007520" y="54259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4004280" y="5859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4004280" y="636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4412880" y="5749920"/>
            <a:ext cx="26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postazioni Fonia Ludote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4 postazioni Fonia Forest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2472480" y="139392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DOTECA – FORESTE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963720" y="8043840"/>
            <a:ext cx="460476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MA ARMADIO PER AMPLIAMENTO NUOVE POSTA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DOTECA E FORESTERIA ( EX PORTINERI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192240" y="13878000"/>
            <a:ext cx="28191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2682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445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4208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4968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6494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7254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8017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8780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1030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11066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1826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589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14112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14875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15638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16398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7924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8684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9447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20210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2173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209700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2173320" y="14030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2249640" y="14030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2630520" y="13976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2630520" y="14128920"/>
            <a:ext cx="152280" cy="75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645120" y="131922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. Terra Ludot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192240" y="1349676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344520" y="1349676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2401920" y="14030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2401920" y="14182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407880" y="140940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4842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5605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6364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7128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8650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9414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0177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10936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12463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13222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13986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4749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16272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17035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17794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18558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20080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20844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607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2366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23893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231300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389320" y="1424628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2465280" y="1424628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2846520" y="14192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2846520" y="14344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861120" y="134082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. Terra Ludot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407880" y="1371276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560520" y="13712760"/>
            <a:ext cx="30456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2617920" y="14246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2617920" y="1439856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623880" y="1430964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7002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7761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8524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9288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10810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11574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12333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13096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14619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15382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6146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6905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18432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9191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19954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20718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22240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23004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23763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24526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26049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2529000" y="14462280"/>
            <a:ext cx="75960" cy="7596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260496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2681280" y="14462280"/>
            <a:ext cx="76320" cy="7596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3062160" y="14408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3062160" y="14560560"/>
            <a:ext cx="15264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1076760" y="136238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. Terra Ludot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623880" y="13928760"/>
            <a:ext cx="2819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776160" y="13928760"/>
            <a:ext cx="304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2833560" y="144622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833560" y="14614560"/>
            <a:ext cx="15264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1773360" y="461340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18493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19256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0019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20779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22305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23065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23828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4591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6114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26877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27637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28400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29923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30686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31449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32209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33735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34495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35258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6021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7544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3830760" y="468936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90672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983040" y="468936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1773360" y="4313160"/>
            <a:ext cx="267480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25640" y="4313160"/>
            <a:ext cx="30492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4076640" y="47656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4076640" y="4917960"/>
            <a:ext cx="15264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4149720" y="462276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4149720" y="477504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874880" y="3924360"/>
            <a:ext cx="2316240" cy="1066680"/>
          </a:xfrm>
          <a:custGeom>
            <a:avLst/>
            <a:gdLst/>
            <a:ahLst/>
            <a:rect l="l" t="t" r="r" b="b"/>
            <a:pathLst>
              <a:path w="1459" h="672">
                <a:moveTo>
                  <a:pt x="11" y="0"/>
                </a:moveTo>
                <a:cubicBezTo>
                  <a:pt x="14" y="40"/>
                  <a:pt x="0" y="85"/>
                  <a:pt x="19" y="120"/>
                </a:cubicBezTo>
                <a:cubicBezTo>
                  <a:pt x="29" y="139"/>
                  <a:pt x="61" y="135"/>
                  <a:pt x="83" y="136"/>
                </a:cubicBezTo>
                <a:cubicBezTo>
                  <a:pt x="139" y="139"/>
                  <a:pt x="195" y="141"/>
                  <a:pt x="251" y="144"/>
                </a:cubicBezTo>
                <a:cubicBezTo>
                  <a:pt x="414" y="180"/>
                  <a:pt x="399" y="167"/>
                  <a:pt x="643" y="160"/>
                </a:cubicBezTo>
                <a:cubicBezTo>
                  <a:pt x="726" y="132"/>
                  <a:pt x="813" y="108"/>
                  <a:pt x="899" y="96"/>
                </a:cubicBezTo>
                <a:cubicBezTo>
                  <a:pt x="983" y="68"/>
                  <a:pt x="1098" y="97"/>
                  <a:pt x="1187" y="104"/>
                </a:cubicBezTo>
                <a:cubicBezTo>
                  <a:pt x="1278" y="134"/>
                  <a:pt x="1378" y="146"/>
                  <a:pt x="1459" y="200"/>
                </a:cubicBezTo>
                <a:cubicBezTo>
                  <a:pt x="1451" y="360"/>
                  <a:pt x="1435" y="510"/>
                  <a:pt x="1435" y="67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1778040" y="5981760"/>
            <a:ext cx="165240" cy="3934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56" y="0"/>
                </a:moveTo>
                <a:cubicBezTo>
                  <a:pt x="34" y="33"/>
                  <a:pt x="11" y="78"/>
                  <a:pt x="40" y="120"/>
                </a:cubicBezTo>
                <a:cubicBezTo>
                  <a:pt x="49" y="133"/>
                  <a:pt x="72" y="125"/>
                  <a:pt x="88" y="128"/>
                </a:cubicBezTo>
                <a:cubicBezTo>
                  <a:pt x="69" y="157"/>
                  <a:pt x="52" y="157"/>
                  <a:pt x="24" y="176"/>
                </a:cubicBezTo>
                <a:cubicBezTo>
                  <a:pt x="0" y="248"/>
                  <a:pt x="50" y="248"/>
                  <a:pt x="104" y="248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1735200" y="4737240"/>
            <a:ext cx="263520" cy="753840"/>
          </a:xfrm>
          <a:custGeom>
            <a:avLst/>
            <a:gdLst/>
            <a:ahLst/>
            <a:rect l="l" t="t" r="r" b="b"/>
            <a:pathLst>
              <a:path w="166" h="475">
                <a:moveTo>
                  <a:pt x="83" y="0"/>
                </a:moveTo>
                <a:cubicBezTo>
                  <a:pt x="66" y="25"/>
                  <a:pt x="38" y="88"/>
                  <a:pt x="27" y="120"/>
                </a:cubicBezTo>
                <a:cubicBezTo>
                  <a:pt x="32" y="169"/>
                  <a:pt x="20" y="208"/>
                  <a:pt x="67" y="224"/>
                </a:cubicBezTo>
                <a:cubicBezTo>
                  <a:pt x="73" y="285"/>
                  <a:pt x="58" y="325"/>
                  <a:pt x="115" y="344"/>
                </a:cubicBezTo>
                <a:cubicBezTo>
                  <a:pt x="143" y="325"/>
                  <a:pt x="166" y="294"/>
                  <a:pt x="139" y="256"/>
                </a:cubicBezTo>
                <a:cubicBezTo>
                  <a:pt x="128" y="240"/>
                  <a:pt x="91" y="224"/>
                  <a:pt x="91" y="224"/>
                </a:cubicBezTo>
                <a:cubicBezTo>
                  <a:pt x="83" y="229"/>
                  <a:pt x="72" y="232"/>
                  <a:pt x="67" y="240"/>
                </a:cubicBezTo>
                <a:cubicBezTo>
                  <a:pt x="58" y="254"/>
                  <a:pt x="51" y="288"/>
                  <a:pt x="51" y="288"/>
                </a:cubicBezTo>
                <a:cubicBezTo>
                  <a:pt x="59" y="475"/>
                  <a:pt x="0" y="464"/>
                  <a:pt x="91" y="46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0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5431" name=""/>
          <p:cNvSpPr/>
          <p:nvPr/>
        </p:nvSpPr>
        <p:spPr>
          <a:xfrm>
            <a:off x="1700280" y="513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title"/>
          </p:nvPr>
        </p:nvSpPr>
        <p:spPr>
          <a:xfrm>
            <a:off x="692280" y="1073160"/>
            <a:ext cx="582912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ADIO  “ M “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pliamen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1384200" y="3122640"/>
            <a:ext cx="3124440" cy="37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1558800" y="3808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1558800" y="5180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1558800" y="4265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1558800" y="4951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1558800" y="4037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 flipV="1">
            <a:off x="1387440" y="25462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 flipV="1">
            <a:off x="4511520" y="2546280"/>
            <a:ext cx="3049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1920960" y="25462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flipV="1">
            <a:off x="4508640" y="6507000"/>
            <a:ext cx="304560" cy="33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2454120" y="2851200"/>
            <a:ext cx="4003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3292560" y="2851200"/>
            <a:ext cx="39996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1558800" y="5408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1558800" y="3579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1558800" y="3351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1558800" y="31226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1558800" y="4722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245120" y="6323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4245120" y="6094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4245120" y="5865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4245120" y="5637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558800" y="63230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1558800" y="60944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1558800" y="58658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1558800" y="563724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4245120" y="38084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4245120" y="5180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4245120" y="40370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4245120" y="5408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4245120" y="35798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4245120" y="33512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4245120" y="3122640"/>
            <a:ext cx="114120" cy="22860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1692360" y="427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1464480" y="40482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1464480" y="427680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464480" y="49705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 flipH="1">
            <a:off x="4797000" y="2546280"/>
            <a:ext cx="1908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1558800" y="4505400"/>
            <a:ext cx="114480" cy="228600"/>
          </a:xfrm>
          <a:custGeom>
            <a:avLst/>
            <a:gdLst>
              <a:gd name="textAreaLeft" fmla="*/ 5400 w 114480"/>
              <a:gd name="textAreaRight" fmla="*/ 109080 w 114480"/>
              <a:gd name="textAreaTop" fmla="*/ 5400 h 228600"/>
              <a:gd name="textAreaBottom" fmla="*/ 223200 h 228600"/>
            </a:gdLst>
            <a:ahLst/>
            <a:rect l="textAreaLeft" t="textAreaTop" r="textAreaRight" b="textAreaBottom"/>
            <a:pathLst>
              <a:path w="21600" h="43065">
                <a:moveTo>
                  <a:pt x="3600" y="0"/>
                </a:moveTo>
                <a:arcTo wR="3600" hR="3600" stAng="16200000" swAng="-5400000"/>
                <a:lnTo>
                  <a:pt x="0" y="39465"/>
                </a:lnTo>
                <a:arcTo wR="3600" hR="3600" stAng="10800000" swAng="-5400000"/>
                <a:lnTo>
                  <a:pt x="18000" y="43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464480" y="45165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2538360" y="5915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476360" cy="426960"/>
          </a:xfrm>
          <a:prstGeom prst="rect">
            <a:avLst/>
          </a:prstGeom>
          <a:ln w="0">
            <a:noFill/>
          </a:ln>
        </p:spPr>
      </p:pic>
      <p:sp>
        <p:nvSpPr>
          <p:cNvPr id="5475" name=""/>
          <p:cNvSpPr/>
          <p:nvPr/>
        </p:nvSpPr>
        <p:spPr>
          <a:xfrm>
            <a:off x="1700280" y="5354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154800" y="10287000"/>
            <a:ext cx="13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BLAGGIO CA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IA 568 /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4439160" y="5254560"/>
            <a:ext cx="21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postazioni Da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1844640" y="37591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184464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198432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1984320" y="3911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2127240" y="37591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212724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4872600" y="6578640"/>
            <a:ext cx="142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coppie d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rmutatore telefo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 flipH="1">
            <a:off x="4940280" y="6507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1847880" y="746280"/>
            <a:ext cx="41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COTUGNO BARI – OFFERTA  AL 01/08/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4895280" y="28512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n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 flipH="1">
            <a:off x="4968360" y="2774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118800" y="37083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nnello ot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091840" y="110332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. DABBICC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1700280" y="3699000"/>
            <a:ext cx="251928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727440" y="4016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2203560" y="40165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2660760" y="401652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3193920" y="401652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1700280" y="3267000"/>
            <a:ext cx="251928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 flipH="1">
            <a:off x="381564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 flipH="1">
            <a:off x="2597040" y="3411360"/>
            <a:ext cx="15264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 flipH="1">
            <a:off x="290124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 flipH="1">
            <a:off x="320616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 flipH="1">
            <a:off x="3511440" y="3411360"/>
            <a:ext cx="15264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 flipH="1">
            <a:off x="2291760" y="3411360"/>
            <a:ext cx="152280" cy="71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1987560" y="3411360"/>
            <a:ext cx="152280" cy="71640"/>
          </a:xfrm>
          <a:custGeom>
            <a:avLst/>
            <a:gdLst>
              <a:gd name="textAreaLeft" fmla="*/ 4320 w 152280"/>
              <a:gd name="textAreaRight" fmla="*/ 147960 w 152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5792" h="21600">
                <a:moveTo>
                  <a:pt x="0" y="0"/>
                </a:moveTo>
                <a:lnTo>
                  <a:pt x="45792" y="0"/>
                </a:lnTo>
                <a:lnTo>
                  <a:pt x="45792" y="21600"/>
                </a:lnTo>
                <a:lnTo>
                  <a:pt x="0" y="21600"/>
                </a:lnTo>
                <a:close/>
              </a:path>
              <a:path fill="lightenLess" w="45792" h="21600">
                <a:moveTo>
                  <a:pt x="0" y="0"/>
                </a:moveTo>
                <a:lnTo>
                  <a:pt x="45792" y="0"/>
                </a:lnTo>
                <a:lnTo>
                  <a:pt x="44392" y="1400"/>
                </a:lnTo>
                <a:lnTo>
                  <a:pt x="1400" y="1400"/>
                </a:lnTo>
                <a:close/>
              </a:path>
              <a:path fill="darken" w="45792" h="21600">
                <a:moveTo>
                  <a:pt x="45792" y="0"/>
                </a:moveTo>
                <a:lnTo>
                  <a:pt x="45792" y="21600"/>
                </a:lnTo>
                <a:lnTo>
                  <a:pt x="44392" y="20200"/>
                </a:lnTo>
                <a:lnTo>
                  <a:pt x="44392" y="1400"/>
                </a:lnTo>
                <a:close/>
              </a:path>
              <a:path fill="darkenLess" w="45792" h="21600">
                <a:moveTo>
                  <a:pt x="45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92" y="20200"/>
                </a:lnTo>
                <a:close/>
              </a:path>
              <a:path fill="lighten" w="45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92" h="21600">
                <a:moveTo>
                  <a:pt x="228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792" h="21600">
                <a:moveTo>
                  <a:pt x="228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792" h="21600">
                <a:moveTo>
                  <a:pt x="20320" y="8224"/>
                </a:moveTo>
                <a:lnTo>
                  <a:pt x="24184" y="8224"/>
                </a:lnTo>
                <a:lnTo>
                  <a:pt x="24184" y="15221"/>
                </a:lnTo>
                <a:lnTo>
                  <a:pt x="25472" y="15221"/>
                </a:lnTo>
                <a:lnTo>
                  <a:pt x="25472" y="16144"/>
                </a:lnTo>
                <a:lnTo>
                  <a:pt x="20320" y="16144"/>
                </a:lnTo>
                <a:lnTo>
                  <a:pt x="20320" y="15221"/>
                </a:lnTo>
                <a:lnTo>
                  <a:pt x="21608" y="15221"/>
                </a:lnTo>
                <a:lnTo>
                  <a:pt x="21608" y="9129"/>
                </a:lnTo>
                <a:lnTo>
                  <a:pt x="20320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187200" y="398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4940280" y="55148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321156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328788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335592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3432240" y="6362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3508200" y="6362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321156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328788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335592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3432240" y="643896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3508200" y="643896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27813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28576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29257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300204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307800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27813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28576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29257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00204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307800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23367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24130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248112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255744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263376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23367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24130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48112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55744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263376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051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198108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04948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12580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220176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19051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198108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04948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212580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20176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64320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37195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378792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3863880" y="63673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3940200" y="63673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364320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37195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378792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3863880" y="644364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3940200" y="644364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3695760" y="563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2171880" y="563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2629080" y="5630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"/>
          <p:cNvSpPr/>
          <p:nvPr/>
        </p:nvSpPr>
        <p:spPr>
          <a:xfrm>
            <a:off x="3162240" y="5630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26290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7050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13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28576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30862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3162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32385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30114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33926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34686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>
            <a:off x="354492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3621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>
            <a:off x="38498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392580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400212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>
            <a:off x="3774960" y="5425920"/>
            <a:ext cx="74880" cy="7632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18669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19432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20192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20955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232416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40048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24764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2249640" y="5425920"/>
            <a:ext cx="74520" cy="7632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01360" y="63644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26290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27050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27813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28576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30862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3162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32385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0114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33926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34686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354492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3621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38498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392580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400212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3774960" y="5931000"/>
            <a:ext cx="74880" cy="75960"/>
          </a:xfrm>
          <a:custGeom>
            <a:avLst/>
            <a:gdLst>
              <a:gd name="textAreaLeft" fmla="*/ 16200 w 74880"/>
              <a:gd name="textAreaRight" fmla="*/ 58680 w 7488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18669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19432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20192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20955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232416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240048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24764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2249640" y="5931000"/>
            <a:ext cx="74520" cy="75960"/>
          </a:xfrm>
          <a:custGeom>
            <a:avLst/>
            <a:gdLst>
              <a:gd name="textAreaLeft" fmla="*/ 16200 w 74520"/>
              <a:gd name="textAreaRight" fmla="*/ 58320 w 74520"/>
              <a:gd name="textAreaTop" fmla="*/ 16560 h 75960"/>
              <a:gd name="textAreaBottom" fmla="*/ 5940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4942080" y="463392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arati At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011560" y="614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4940280" y="5499000"/>
            <a:ext cx="155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3 Link rane al  rack O.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4940280" y="38718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4939920" y="3525840"/>
            <a:ext cx="129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8 F. O.  al rack O. 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2271600" y="38354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2271600" y="3911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2565360" y="37720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256536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270504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270504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2847960" y="37720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284796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299232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299232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3284640" y="37720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328464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342432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3424320" y="392436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567240" y="377208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3567240" y="384804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3711600" y="384804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3711600" y="3924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 flipH="1">
            <a:off x="5008320" y="4951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4942080" y="42037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4939920" y="441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727440" y="5126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2203560" y="5126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2660760" y="512604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3193920" y="512604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1700280" y="5641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700280" y="5859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700280" y="6075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3711600" y="606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2187720" y="606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2644920" y="6062760"/>
            <a:ext cx="7596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3178080" y="6062760"/>
            <a:ext cx="76320" cy="228600"/>
          </a:xfrm>
          <a:custGeom>
            <a:avLst/>
            <a:gdLst/>
            <a:ahLst/>
            <a:rect l="l" t="t" r="r" b="b"/>
            <a:pathLst>
              <a:path w="120" h="232">
                <a:moveTo>
                  <a:pt x="56" y="32"/>
                </a:moveTo>
                <a:cubicBezTo>
                  <a:pt x="76" y="16"/>
                  <a:pt x="96" y="0"/>
                  <a:pt x="104" y="32"/>
                </a:cubicBezTo>
                <a:cubicBezTo>
                  <a:pt x="112" y="64"/>
                  <a:pt x="120" y="216"/>
                  <a:pt x="104" y="224"/>
                </a:cubicBezTo>
                <a:cubicBezTo>
                  <a:pt x="88" y="232"/>
                  <a:pt x="16" y="104"/>
                  <a:pt x="8" y="80"/>
                </a:cubicBezTo>
                <a:cubicBezTo>
                  <a:pt x="0" y="56"/>
                  <a:pt x="28" y="68"/>
                  <a:pt x="5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1704960" y="62913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704960" y="657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701360" y="58593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1701360" y="535464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4007520" y="54259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4004280" y="58593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4004280" y="63644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4411440" y="5902200"/>
            <a:ext cx="22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12  postazioni Foni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3048120" y="13939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U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965520" y="8043840"/>
            <a:ext cx="526644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MA ARMADIO PER AMPLIAMENTO NUOVE POSTA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A “ MOURGE  -  MONTANTI PRELEVATI DA ARMADIO OSP. MEN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6" name="NC01GBCO" descr=""/>
          <p:cNvPicPr/>
          <p:nvPr/>
        </p:nvPicPr>
        <p:blipFill>
          <a:blip r:embed="rId2"/>
          <a:stretch/>
        </p:blipFill>
        <p:spPr>
          <a:xfrm>
            <a:off x="6237360" y="0"/>
            <a:ext cx="504720" cy="476280"/>
          </a:xfrm>
          <a:prstGeom prst="rect">
            <a:avLst/>
          </a:prstGeom>
          <a:ln w="0">
            <a:noFill/>
          </a:ln>
        </p:spPr>
      </p:pic>
      <p:sp>
        <p:nvSpPr>
          <p:cNvPr id="5657" name=""/>
          <p:cNvSpPr/>
          <p:nvPr/>
        </p:nvSpPr>
        <p:spPr>
          <a:xfrm>
            <a:off x="1681200" y="4348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1762200" y="4686480"/>
            <a:ext cx="2674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18381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9144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19908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20667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22194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22953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23716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24480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26002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26766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27525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288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9811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30574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1338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32097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33624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4383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5146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35910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7432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819600" y="4762440"/>
            <a:ext cx="75960" cy="76320"/>
          </a:xfrm>
          <a:custGeom>
            <a:avLst/>
            <a:gdLst>
              <a:gd name="textAreaLeft" fmla="*/ 16560 w 75960"/>
              <a:gd name="textAreaRight" fmla="*/ 59400 w 7596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9556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971880" y="476244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1762200" y="4386240"/>
            <a:ext cx="267480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1914480" y="4386240"/>
            <a:ext cx="304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4065480" y="483876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4065480" y="4991040"/>
            <a:ext cx="15264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4138560" y="469584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4138560" y="4848120"/>
            <a:ext cx="152280" cy="76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874880" y="3924360"/>
            <a:ext cx="2316240" cy="1066680"/>
          </a:xfrm>
          <a:custGeom>
            <a:avLst/>
            <a:gdLst/>
            <a:ahLst/>
            <a:rect l="l" t="t" r="r" b="b"/>
            <a:pathLst>
              <a:path w="1459" h="672">
                <a:moveTo>
                  <a:pt x="11" y="0"/>
                </a:moveTo>
                <a:cubicBezTo>
                  <a:pt x="14" y="40"/>
                  <a:pt x="0" y="85"/>
                  <a:pt x="19" y="120"/>
                </a:cubicBezTo>
                <a:cubicBezTo>
                  <a:pt x="29" y="139"/>
                  <a:pt x="61" y="135"/>
                  <a:pt x="83" y="136"/>
                </a:cubicBezTo>
                <a:cubicBezTo>
                  <a:pt x="139" y="139"/>
                  <a:pt x="195" y="141"/>
                  <a:pt x="251" y="144"/>
                </a:cubicBezTo>
                <a:cubicBezTo>
                  <a:pt x="414" y="180"/>
                  <a:pt x="399" y="167"/>
                  <a:pt x="643" y="160"/>
                </a:cubicBezTo>
                <a:cubicBezTo>
                  <a:pt x="726" y="132"/>
                  <a:pt x="813" y="108"/>
                  <a:pt x="899" y="96"/>
                </a:cubicBezTo>
                <a:cubicBezTo>
                  <a:pt x="983" y="68"/>
                  <a:pt x="1098" y="97"/>
                  <a:pt x="1187" y="104"/>
                </a:cubicBezTo>
                <a:cubicBezTo>
                  <a:pt x="1278" y="134"/>
                  <a:pt x="1378" y="146"/>
                  <a:pt x="1459" y="200"/>
                </a:cubicBezTo>
                <a:cubicBezTo>
                  <a:pt x="1451" y="360"/>
                  <a:pt x="1435" y="510"/>
                  <a:pt x="1435" y="672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35200" y="4737240"/>
            <a:ext cx="263520" cy="753840"/>
          </a:xfrm>
          <a:custGeom>
            <a:avLst/>
            <a:gdLst/>
            <a:ahLst/>
            <a:rect l="l" t="t" r="r" b="b"/>
            <a:pathLst>
              <a:path w="166" h="475">
                <a:moveTo>
                  <a:pt x="83" y="0"/>
                </a:moveTo>
                <a:cubicBezTo>
                  <a:pt x="66" y="25"/>
                  <a:pt x="38" y="88"/>
                  <a:pt x="27" y="120"/>
                </a:cubicBezTo>
                <a:cubicBezTo>
                  <a:pt x="32" y="169"/>
                  <a:pt x="20" y="208"/>
                  <a:pt x="67" y="224"/>
                </a:cubicBezTo>
                <a:cubicBezTo>
                  <a:pt x="73" y="285"/>
                  <a:pt x="58" y="325"/>
                  <a:pt x="115" y="344"/>
                </a:cubicBezTo>
                <a:cubicBezTo>
                  <a:pt x="143" y="325"/>
                  <a:pt x="166" y="294"/>
                  <a:pt x="139" y="256"/>
                </a:cubicBezTo>
                <a:cubicBezTo>
                  <a:pt x="128" y="240"/>
                  <a:pt x="91" y="224"/>
                  <a:pt x="91" y="224"/>
                </a:cubicBezTo>
                <a:cubicBezTo>
                  <a:pt x="83" y="229"/>
                  <a:pt x="72" y="232"/>
                  <a:pt x="67" y="240"/>
                </a:cubicBezTo>
                <a:cubicBezTo>
                  <a:pt x="58" y="254"/>
                  <a:pt x="51" y="288"/>
                  <a:pt x="51" y="288"/>
                </a:cubicBezTo>
                <a:cubicBezTo>
                  <a:pt x="59" y="475"/>
                  <a:pt x="0" y="464"/>
                  <a:pt x="91" y="464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1778040" y="5981760"/>
            <a:ext cx="165240" cy="3934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56" y="0"/>
                </a:moveTo>
                <a:cubicBezTo>
                  <a:pt x="34" y="33"/>
                  <a:pt x="11" y="78"/>
                  <a:pt x="40" y="120"/>
                </a:cubicBezTo>
                <a:cubicBezTo>
                  <a:pt x="49" y="133"/>
                  <a:pt x="72" y="125"/>
                  <a:pt x="88" y="128"/>
                </a:cubicBezTo>
                <a:cubicBezTo>
                  <a:pt x="69" y="157"/>
                  <a:pt x="52" y="157"/>
                  <a:pt x="24" y="176"/>
                </a:cubicBezTo>
                <a:cubicBezTo>
                  <a:pt x="0" y="248"/>
                  <a:pt x="50" y="248"/>
                  <a:pt x="104" y="248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4:44:07Z</dcterms:created>
  <dc:creator>DABBICCO TELECOMUNICAZIONI SR</dc:creator>
  <dc:description/>
  <dc:language>en-US</dc:language>
  <cp:lastModifiedBy>ANDA</cp:lastModifiedBy>
  <dcterms:modified xsi:type="dcterms:W3CDTF">2008-09-01T09:53:35Z</dcterms:modified>
  <cp:revision>153</cp:revision>
  <dc:subject/>
  <dc:title>6 UNITA’</dc:title>
</cp:coreProperties>
</file>