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480175" cy="180038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765F-AD2A-49AB-99FC-DDFB31D1D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3640" y="720720"/>
            <a:ext cx="583236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3640" y="4200480"/>
            <a:ext cx="5832360" cy="56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3640" y="10405800"/>
            <a:ext cx="5832360" cy="56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8226-F4F8-4237-B91F-8DF782BC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3640" y="720720"/>
            <a:ext cx="583236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3640" y="4200480"/>
            <a:ext cx="2846160" cy="56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12360" y="4200480"/>
            <a:ext cx="2846160" cy="56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3640" y="10405800"/>
            <a:ext cx="2846160" cy="56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12360" y="10405800"/>
            <a:ext cx="2846160" cy="56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C715-CB86-4DBC-AAF9-55543FE6F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3640" y="720720"/>
            <a:ext cx="583236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3640" y="4200480"/>
            <a:ext cx="1877760" cy="56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95720" y="4200480"/>
            <a:ext cx="1877760" cy="56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7800" y="4200480"/>
            <a:ext cx="1877760" cy="56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3640" y="10405800"/>
            <a:ext cx="1877760" cy="56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295720" y="10405800"/>
            <a:ext cx="1877760" cy="56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67800" y="10405800"/>
            <a:ext cx="1877760" cy="56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6289-5DDB-46E8-A51C-377EFA947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3640" y="720720"/>
            <a:ext cx="583236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3640" y="4200480"/>
            <a:ext cx="5832360" cy="1188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DF42-CF49-4BA2-9D51-35CEBCA1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3640" y="720720"/>
            <a:ext cx="583236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3640" y="4200480"/>
            <a:ext cx="5832360" cy="118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F520-87B7-4DC0-9E71-4329B5DD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3640" y="720720"/>
            <a:ext cx="583236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3640" y="4200480"/>
            <a:ext cx="2846160" cy="118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12360" y="4200480"/>
            <a:ext cx="2846160" cy="118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25D6-6796-46F1-93F6-1373EA0A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3640" y="720720"/>
            <a:ext cx="583236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475A-F084-49CA-B9CE-ED0E3C11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3640" y="720720"/>
            <a:ext cx="5832360" cy="13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C3D3-3DDD-454C-992A-E7A44FB5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3640" y="720720"/>
            <a:ext cx="583236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3640" y="4200480"/>
            <a:ext cx="2846160" cy="56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12360" y="4200480"/>
            <a:ext cx="2846160" cy="118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3640" y="10405800"/>
            <a:ext cx="2846160" cy="56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8802-620A-4EF0-8CB3-BCC1A5CA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3640" y="720720"/>
            <a:ext cx="583236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3640" y="4200480"/>
            <a:ext cx="2846160" cy="118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12360" y="4200480"/>
            <a:ext cx="2846160" cy="56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12360" y="10405800"/>
            <a:ext cx="2846160" cy="56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4B5D-08EF-4C69-A3AD-8DDE04C7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3640" y="720720"/>
            <a:ext cx="583236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3640" y="4200480"/>
            <a:ext cx="2846160" cy="56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12360" y="4200480"/>
            <a:ext cx="2846160" cy="56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3640" y="10405800"/>
            <a:ext cx="5832360" cy="56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13D6-4B12-4EF7-8653-2A16EAA8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3640" y="720720"/>
            <a:ext cx="583236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3640" y="4200480"/>
            <a:ext cx="5832360" cy="118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4000" y="16393680"/>
            <a:ext cx="151272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14360" y="16393680"/>
            <a:ext cx="205092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642920" y="16393680"/>
            <a:ext cx="151308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5040-D5B7-4C9A-B941-DF994D8D9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56640" y="466560"/>
            <a:ext cx="49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uova disposizione attivi Cotugno Giugno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67320" y="923760"/>
            <a:ext cx="245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O S P E D A L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416400"/>
            <a:ext cx="648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8680" y="189216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°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8600" y="234936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9 PD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006960"/>
            <a:ext cx="648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00" y="7759800"/>
            <a:ext cx="648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00" y="10426680"/>
            <a:ext cx="648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4563800"/>
            <a:ext cx="648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360" y="16957800"/>
            <a:ext cx="648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4520" y="379728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°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4520" y="614376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°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4520" y="783576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°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3920" y="10731600"/>
            <a:ext cx="24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.TERRA (Nodo Secondari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93200" y="14563800"/>
            <a:ext cx="110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rato -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42240" y="1705608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rato 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6320" y="4102200"/>
            <a:ext cx="67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1 PD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6320" y="652464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6 PD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2640" y="8369280"/>
            <a:ext cx="67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6 PD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51240" y="1118880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7 PD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64040" y="10426680"/>
            <a:ext cx="0" cy="4137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5640" y="14824080"/>
            <a:ext cx="90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9 PDL + ?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42280" y="17513280"/>
            <a:ext cx="302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 PDL( DIRETTAMENTE AL CED PIANO TER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44920" y="11782440"/>
            <a:ext cx="274320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45120" y="12087360"/>
            <a:ext cx="152280" cy="152280"/>
          </a:xfrm>
          <a:custGeom>
            <a:avLst/>
            <a:gdLst>
              <a:gd name="textAreaLeft" fmla="*/ 33480 w 152280"/>
              <a:gd name="textAreaRight" fmla="*/ 118800 w 152280"/>
              <a:gd name="textAreaTop" fmla="*/ 33480 h 152280"/>
              <a:gd name="textAreaBottom" fmla="*/ 11880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73720" y="12087360"/>
            <a:ext cx="152280" cy="152280"/>
          </a:xfrm>
          <a:custGeom>
            <a:avLst/>
            <a:gdLst>
              <a:gd name="textAreaLeft" fmla="*/ 33480 w 152280"/>
              <a:gd name="textAreaRight" fmla="*/ 118800 w 152280"/>
              <a:gd name="textAreaTop" fmla="*/ 33480 h 152280"/>
              <a:gd name="textAreaBottom" fmla="*/ 11880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73520" y="12011040"/>
            <a:ext cx="15228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02120" y="12011040"/>
            <a:ext cx="152280" cy="76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30720" y="12011040"/>
            <a:ext cx="152280" cy="76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59320" y="12011040"/>
            <a:ext cx="152280" cy="76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73520" y="12163320"/>
            <a:ext cx="15228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02120" y="12163320"/>
            <a:ext cx="152280" cy="76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30720" y="12163320"/>
            <a:ext cx="152280" cy="76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59320" y="12163320"/>
            <a:ext cx="15228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7920" y="12163320"/>
            <a:ext cx="15228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73520" y="12315960"/>
            <a:ext cx="15228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02120" y="12315960"/>
            <a:ext cx="15228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30720" y="12315960"/>
            <a:ext cx="15228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7920" y="12315960"/>
            <a:ext cx="15228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94080" y="1057896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P.TERRA 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849840" y="11341080"/>
            <a:ext cx="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078440" y="11341080"/>
            <a:ext cx="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307040" y="11341080"/>
            <a:ext cx="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535640" y="11341080"/>
            <a:ext cx="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76240" y="1075356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000000"/>
                </a:solidFill>
                <a:latin typeface="Arial"/>
              </a:rPr>
              <a:t>A P.T UFFIC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59120" y="212076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35440" y="21970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11400" y="2197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87720" y="2197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64040" y="21970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16320" y="2197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92640" y="21970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68600" y="2197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44920" y="2197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697200" y="2197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73520" y="2197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49840" y="21970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25800" y="2197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8440" y="21970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54400" y="2197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30720" y="2197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07040" y="21970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59320" y="2197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35640" y="21970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11600" y="2197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7920" y="2197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40200" y="2197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16520" y="2197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92840" y="21970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68800" y="2197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35440" y="23493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11400" y="2349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87720" y="2349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64040" y="23493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16320" y="2349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92640" y="23493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68600" y="2349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44920" y="2349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97200" y="2349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73520" y="2349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49840" y="23493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25800" y="2349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78440" y="23493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54400" y="2349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30720" y="2349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07040" y="23493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59320" y="2349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35640" y="23493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11600" y="2349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7920" y="2349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40200" y="2349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916520" y="2349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92840" y="23493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68800" y="2349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97400" y="2197080"/>
            <a:ext cx="15264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59120" y="1816200"/>
            <a:ext cx="28195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11400" y="1816200"/>
            <a:ext cx="304920" cy="152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59120" y="41022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35440" y="41781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11400" y="41781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87720" y="41781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64040" y="41781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316320" y="41781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392640" y="41781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68600" y="41781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44920" y="41781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97200" y="41781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73520" y="41781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49840" y="41781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25800" y="41781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78440" y="41781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54400" y="41781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30720" y="41781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07040" y="41781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59320" y="41781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35640" y="41781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11600" y="41781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7920" y="41781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40200" y="41781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916520" y="41781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992840" y="41781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68800" y="41781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35440" y="43308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11400" y="43308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87720" y="43308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64040" y="43308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16320" y="43308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92640" y="43308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68600" y="43308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44920" y="43308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97200" y="43308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73520" y="43308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49840" y="43308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25800" y="43308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78440" y="43308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54400" y="43308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30720" y="43308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307040" y="43308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59320" y="43308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35640" y="43308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11600" y="43308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87920" y="43308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840200" y="43308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16520" y="43308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92840" y="43308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068800" y="43308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7400" y="4330800"/>
            <a:ext cx="15264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59120" y="3797280"/>
            <a:ext cx="28195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011400" y="3797280"/>
            <a:ext cx="304920" cy="152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44920" y="3797280"/>
            <a:ext cx="30492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078440" y="3797280"/>
            <a:ext cx="30456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859120" y="516888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35440" y="53211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11400" y="53211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087720" y="53211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64040" y="53211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16320" y="53211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92640" y="53211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68600" y="53211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44920" y="53211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97200" y="53211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773520" y="53211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49840" y="53211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25800" y="53211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78440" y="53211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154400" y="53211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30720" y="53211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307040" y="53211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459320" y="53211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35640" y="53211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11600" y="53211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87920" y="53211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840200" y="53211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16520" y="53211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92840" y="53211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068800" y="53211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859120" y="463536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35440" y="47116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11400" y="47116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87720" y="47116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164040" y="47116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16320" y="47116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392640" y="47116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468600" y="47116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44920" y="47116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97200" y="47116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773520" y="47116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49840" y="47116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25800" y="47116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78440" y="47116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54400" y="47116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30720" y="47116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307040" y="47116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459320" y="47116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35640" y="47116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11600" y="47116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87920" y="47116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40200" y="47116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916520" y="47116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992840" y="47116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068800" y="47116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35440" y="48639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11400" y="48639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087720" y="48639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64040" y="48639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316320" y="48639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392640" y="48639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68600" y="48639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544920" y="48639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697200" y="48639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73520" y="48639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49840" y="48639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25800" y="48639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078440" y="48639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154400" y="48639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30720" y="48639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07040" y="48639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59320" y="48639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535640" y="48639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11600" y="48639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687920" y="48639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840200" y="48639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916520" y="48639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92840" y="48639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68800" y="48639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297400" y="4863960"/>
            <a:ext cx="15264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782800" y="646416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859120" y="6540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35440" y="65404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011400" y="6540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87720" y="6540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40000" y="6540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316320" y="6540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392640" y="65404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468600" y="6540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621240" y="65404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697200" y="6540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773520" y="6540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49840" y="65404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02120" y="6540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078440" y="65404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154400" y="6540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230720" y="6540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383000" y="6540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459320" y="6540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535640" y="65404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611600" y="6540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764240" y="65404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840200" y="6540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916520" y="6540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992840" y="65404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859120" y="66927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935440" y="66927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11400" y="66927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87720" y="66927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240000" y="66927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316320" y="66927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392640" y="66927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468600" y="66927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621240" y="66927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697200" y="66927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773520" y="66927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849840" y="66927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002120" y="66927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78440" y="66927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154400" y="66927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230720" y="66927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383000" y="66927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459320" y="66927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35640" y="66927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11600" y="66927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64240" y="66927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840200" y="66927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916520" y="66927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992840" y="66927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221440" y="6540480"/>
            <a:ext cx="15228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221440" y="6692760"/>
            <a:ext cx="15228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782800" y="6159600"/>
            <a:ext cx="28195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935440" y="6159600"/>
            <a:ext cx="304560" cy="152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68600" y="6159600"/>
            <a:ext cx="30492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82800" y="699768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859120" y="70740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35440" y="70740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011400" y="70740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87720" y="70740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40000" y="70740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16320" y="70740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392640" y="70740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68600" y="70740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621240" y="70740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697200" y="70740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773520" y="70740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849840" y="70740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002120" y="70740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078440" y="70740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154400" y="70740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230720" y="70740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383000" y="70740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459320" y="70740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535640" y="70740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611600" y="70740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764240" y="70740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840200" y="70740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916520" y="70740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92840" y="70740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859120" y="7226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935440" y="72262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011400" y="7226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87720" y="7226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40000" y="7226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316320" y="7226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392640" y="72262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468600" y="7226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621240" y="72262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697200" y="7226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73520" y="7226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49840" y="72262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002120" y="7226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078440" y="72262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154400" y="7226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230720" y="7226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383000" y="7226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459320" y="7226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535640" y="72262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611600" y="7226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764240" y="72262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840200" y="7226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916520" y="7226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992840" y="72262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21440" y="7226280"/>
            <a:ext cx="15228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782800" y="829296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859120" y="8369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935440" y="83692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011400" y="8369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087720" y="8369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240000" y="8369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316320" y="8369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392640" y="83692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468600" y="8369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621240" y="83692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697200" y="8369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773520" y="8369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849840" y="83692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002120" y="8369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078440" y="83692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154400" y="8369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230720" y="8369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383000" y="8369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459320" y="8369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535640" y="83692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611600" y="8369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764240" y="83692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840200" y="8369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916520" y="8369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992840" y="83692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859120" y="85215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935440" y="85215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011400" y="85215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087720" y="85215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240000" y="85215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316320" y="85215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392640" y="85215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468600" y="85215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621240" y="85215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697200" y="85215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773520" y="85215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49840" y="85215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002120" y="85215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078440" y="85215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154400" y="85215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230720" y="85215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383000" y="85215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459320" y="85215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535640" y="85215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11600" y="85215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764240" y="85215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840200" y="85215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916520" y="85215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992840" y="85215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221440" y="8521560"/>
            <a:ext cx="15228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782800" y="7912080"/>
            <a:ext cx="28195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935440" y="7912080"/>
            <a:ext cx="304560" cy="152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468600" y="7912080"/>
            <a:ext cx="30492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002120" y="7912080"/>
            <a:ext cx="30492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782800" y="93600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859120" y="9512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935440" y="95122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011400" y="9512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087720" y="9512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240000" y="9512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316320" y="9512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392640" y="95122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468600" y="9512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621240" y="95122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697200" y="9512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773520" y="9512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849840" y="95122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002120" y="9512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078440" y="95122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154400" y="9512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230720" y="9512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383000" y="9512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459320" y="9512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535640" y="95122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611600" y="9512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764240" y="95122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840200" y="9512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916520" y="9512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992840" y="95122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782800" y="882648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859120" y="89028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935440" y="89028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11400" y="89028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087720" y="89028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240000" y="89028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316320" y="89028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392640" y="89028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468600" y="89028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621240" y="89028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697200" y="89028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773520" y="89028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849840" y="89028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002120" y="89028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078440" y="89028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154400" y="89028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230720" y="89028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383000" y="89028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459320" y="89028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535640" y="89028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611600" y="89028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764240" y="89028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840200" y="89028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916520" y="89028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992840" y="89028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859120" y="9055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935440" y="90550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011400" y="9055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087720" y="9055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240000" y="9055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316320" y="9055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392640" y="90550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468600" y="9055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621240" y="90550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697200" y="9055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773520" y="9055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849840" y="90550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002120" y="9055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078440" y="90550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154400" y="9055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230720" y="9055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383000" y="9055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459320" y="9055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535640" y="90550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611600" y="9055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764240" y="90550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840200" y="9055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916520" y="9055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992840" y="90550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221440" y="9055080"/>
            <a:ext cx="15228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15920" y="125604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92240" y="127126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68200" y="127126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44520" y="127126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20840" y="127126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73120" y="127126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49440" y="127126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25400" y="127126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801720" y="127126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954000" y="127126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030320" y="127126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106640" y="127126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182600" y="127126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335240" y="127126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411200" y="127126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487520" y="127126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563840" y="127126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716120" y="127126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92440" y="127126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868400" y="127126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44720" y="127126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097000" y="127126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173320" y="127126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249640" y="127126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325600" y="127126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15920" y="1202688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2240" y="121032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68200" y="121032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44520" y="121032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20840" y="121032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73120" y="121032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49440" y="121032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25400" y="121032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801720" y="121032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954000" y="121032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030320" y="121032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106640" y="121032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182600" y="121032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335240" y="121032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411200" y="121032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487520" y="121032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563840" y="121032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716120" y="121032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792440" y="121032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868400" y="121032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44720" y="121032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097000" y="121032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173320" y="121032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249640" y="121032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325600" y="121032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92240" y="122554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68200" y="12255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44520" y="12255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20840" y="122554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73120" y="12255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49440" y="122554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25400" y="12255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801720" y="12255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954000" y="12255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030320" y="12255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106640" y="122554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182600" y="12255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335240" y="122554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411200" y="12255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487520" y="12255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563840" y="122554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716120" y="12255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792440" y="122554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868400" y="12255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944720" y="12255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097000" y="12255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173320" y="12255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249640" y="122554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325600" y="12255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554200" y="12255480"/>
            <a:ext cx="15264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468600" y="1263636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544920" y="127126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621240" y="127126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697200" y="127126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773520" y="127126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925800" y="127126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002120" y="127126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078440" y="127126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154400" y="127126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307040" y="127126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383000" y="127126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459320" y="127126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535640" y="127126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687920" y="127126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764240" y="127126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840200" y="127126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916520" y="127126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068800" y="127126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145120" y="127126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221440" y="127126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297400" y="127126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450040" y="127126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526000" y="127126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602320" y="127126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678640" y="127126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544920" y="128649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621240" y="128649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697200" y="128649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773520" y="128649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925800" y="128649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002120" y="128649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078440" y="128649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154400" y="128649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307040" y="128649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383000" y="128649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459320" y="128649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535640" y="128649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687920" y="128649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764240" y="128649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840200" y="128649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916520" y="128649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068800" y="128649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145120" y="128649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221440" y="128649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297400" y="128649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450040" y="128649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526000" y="128649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602320" y="128649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678640" y="128649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240000" y="12353760"/>
            <a:ext cx="0" cy="3429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907240" y="12712680"/>
            <a:ext cx="152280" cy="152280"/>
          </a:xfrm>
          <a:custGeom>
            <a:avLst/>
            <a:gdLst>
              <a:gd name="textAreaLeft" fmla="*/ 33480 w 152280"/>
              <a:gd name="textAreaRight" fmla="*/ 118800 w 152280"/>
              <a:gd name="textAreaTop" fmla="*/ 33480 h 152280"/>
              <a:gd name="textAreaBottom" fmla="*/ 11880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438880" y="12188880"/>
            <a:ext cx="552240" cy="561960"/>
          </a:xfrm>
          <a:custGeom>
            <a:avLst/>
            <a:gdLst/>
            <a:ahLst/>
            <a:rect l="l" t="t" r="r" b="b"/>
            <a:pathLst>
              <a:path w="348" h="354">
                <a:moveTo>
                  <a:pt x="0" y="0"/>
                </a:moveTo>
                <a:cubicBezTo>
                  <a:pt x="67" y="34"/>
                  <a:pt x="108" y="43"/>
                  <a:pt x="186" y="48"/>
                </a:cubicBezTo>
                <a:cubicBezTo>
                  <a:pt x="217" y="69"/>
                  <a:pt x="237" y="101"/>
                  <a:pt x="258" y="132"/>
                </a:cubicBezTo>
                <a:cubicBezTo>
                  <a:pt x="267" y="169"/>
                  <a:pt x="281" y="203"/>
                  <a:pt x="288" y="240"/>
                </a:cubicBezTo>
                <a:cubicBezTo>
                  <a:pt x="263" y="277"/>
                  <a:pt x="299" y="303"/>
                  <a:pt x="330" y="324"/>
                </a:cubicBezTo>
                <a:cubicBezTo>
                  <a:pt x="338" y="347"/>
                  <a:pt x="332" y="338"/>
                  <a:pt x="348" y="354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15920" y="11646000"/>
            <a:ext cx="28195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8200" y="11646000"/>
            <a:ext cx="304920" cy="152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801720" y="11646000"/>
            <a:ext cx="30492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92240" y="15509880"/>
            <a:ext cx="281916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68200" y="155862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44520" y="155862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20840" y="155862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96800" y="155862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49440" y="155862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25400" y="155862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801720" y="155862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878040" y="155862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030320" y="155862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106640" y="155862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182600" y="155862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258920" y="155862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411200" y="155862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487520" y="155862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563840" y="155862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639800" y="155862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792440" y="155862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868400" y="155862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944720" y="155862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021040" y="155862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173320" y="155862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249640" y="155862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325600" y="155862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401920" y="155862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68200" y="15738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44520" y="15738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20840" y="157384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96800" y="15738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49440" y="157384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25400" y="15738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801720" y="15738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878040" y="157384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030320" y="15738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106640" y="157384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182600" y="15738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258920" y="15738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411200" y="15738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487520" y="15738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563840" y="157384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639800" y="15738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792440" y="157384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868400" y="15738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944720" y="15738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021040" y="157384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173320" y="15738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249640" y="157384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325600" y="15738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401920" y="15738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630520" y="15738480"/>
            <a:ext cx="15228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92240" y="15129000"/>
            <a:ext cx="2819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44520" y="15129000"/>
            <a:ext cx="304920" cy="152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878040" y="15129000"/>
            <a:ext cx="30456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92240" y="16043400"/>
            <a:ext cx="281916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68200" y="16119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44520" y="16119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20840" y="161193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96800" y="16119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49440" y="161193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25400" y="16119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801720" y="16119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878040" y="161193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030320" y="16119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106640" y="161193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182600" y="16119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258920" y="16119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411200" y="16119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487520" y="16119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563840" y="161193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639800" y="16119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792440" y="161193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868400" y="16119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944720" y="16119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021040" y="161193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173320" y="16119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249640" y="161193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325600" y="16119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401920" y="16119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68200" y="162720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44520" y="162720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20840" y="162720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96800" y="162720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49440" y="162720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725400" y="162720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801720" y="162720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878040" y="162720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030320" y="162720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106640" y="162720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182600" y="162720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258920" y="162720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411200" y="162720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487520" y="162720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563840" y="162720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639800" y="162720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792440" y="162720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868400" y="162720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944720" y="162720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021040" y="162720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173320" y="162720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249640" y="162720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325600" y="162720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401920" y="162720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630520" y="16119360"/>
            <a:ext cx="15228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630520" y="16272000"/>
            <a:ext cx="15228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450040" y="219708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983200" y="219708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450040" y="539748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907240" y="539748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373720" y="722628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830920" y="722628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907240" y="958860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373720" y="958860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3087720" y="12179160"/>
            <a:ext cx="0" cy="609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3087360" y="1217916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468600" y="13169880"/>
            <a:ext cx="28195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621240" y="13169880"/>
            <a:ext cx="304560" cy="152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3544920" y="14335200"/>
            <a:ext cx="0" cy="31240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2782800" y="1576080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554200" y="17436960"/>
            <a:ext cx="3657600" cy="479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059520" y="11820600"/>
            <a:ext cx="152280" cy="2286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059520" y="12125160"/>
            <a:ext cx="15228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373720" y="907740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907240" y="907740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297400" y="854388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983200" y="854388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373720" y="6715080"/>
            <a:ext cx="609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983200" y="6715080"/>
            <a:ext cx="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450040" y="488628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983200" y="488628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450040" y="4352760"/>
            <a:ext cx="609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6059520" y="4352760"/>
            <a:ext cx="0" cy="381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3011040" y="1204920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011400" y="1204920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2706840" y="1227780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2706840" y="1281096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773520" y="11820600"/>
            <a:ext cx="15228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002120" y="11820600"/>
            <a:ext cx="15228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230720" y="11820600"/>
            <a:ext cx="15228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4459320" y="11820600"/>
            <a:ext cx="15228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4687920" y="11820600"/>
            <a:ext cx="15228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916520" y="11820600"/>
            <a:ext cx="15228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145120" y="11820600"/>
            <a:ext cx="15228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5373720" y="11820600"/>
            <a:ext cx="15228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4764240" y="11287080"/>
            <a:ext cx="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4992840" y="11287080"/>
            <a:ext cx="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5221440" y="11287080"/>
            <a:ext cx="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5450040" y="11287080"/>
            <a:ext cx="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4916520" y="12049200"/>
            <a:ext cx="0" cy="304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4764240" y="11972880"/>
            <a:ext cx="1143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5907240" y="11058480"/>
            <a:ext cx="0" cy="9144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907240" y="11058480"/>
            <a:ext cx="5331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4916520" y="12049200"/>
            <a:ext cx="10666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5983200" y="11134800"/>
            <a:ext cx="0" cy="9144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983200" y="11134800"/>
            <a:ext cx="3049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4764240" y="11972520"/>
            <a:ext cx="0" cy="228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4840200" y="12353760"/>
            <a:ext cx="763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4078440" y="12353760"/>
            <a:ext cx="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H="1">
            <a:off x="3315960" y="1250640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316320" y="12506400"/>
            <a:ext cx="0" cy="3657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2782800" y="1616400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554200" y="12125160"/>
            <a:ext cx="15264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221440" y="8924760"/>
            <a:ext cx="15228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3544920" y="11820600"/>
            <a:ext cx="15228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3621240" y="11287080"/>
            <a:ext cx="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297400" y="4734000"/>
            <a:ext cx="15264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5297400" y="2349360"/>
            <a:ext cx="15264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5297400" y="5267160"/>
            <a:ext cx="228600" cy="22860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297400" y="5419800"/>
            <a:ext cx="152640" cy="7596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221440" y="9458280"/>
            <a:ext cx="228600" cy="22860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221440" y="9610560"/>
            <a:ext cx="152280" cy="7632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478240" y="12658680"/>
            <a:ext cx="228600" cy="22860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478240" y="12810960"/>
            <a:ext cx="152280" cy="7632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92240" y="16522560"/>
            <a:ext cx="281916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68200" y="166752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44520" y="166752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20840" y="166752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96800" y="166752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49440" y="166752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725400" y="166752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01720" y="166752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878040" y="166752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030320" y="166752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106640" y="166752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182600" y="166752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258920" y="166752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411200" y="166752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487520" y="166752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563840" y="166752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639800" y="166752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792440" y="166752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868400" y="166752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944720" y="166752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021040" y="166752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173320" y="166752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249640" y="166752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325600" y="166752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401920" y="166752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630520" y="16621200"/>
            <a:ext cx="228600" cy="22860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630520" y="16773480"/>
            <a:ext cx="152280" cy="7632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411200" y="15150960"/>
            <a:ext cx="30492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3240000" y="1235376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4307040" y="1235376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flipH="1">
            <a:off x="3392640" y="1258236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392640" y="12582360"/>
            <a:ext cx="0" cy="4191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2859120" y="1675116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146200" y="2523960"/>
            <a:ext cx="49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Sc/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070240" y="5572080"/>
            <a:ext cx="51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Sc/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1476360" cy="426960"/>
          </a:xfrm>
          <a:prstGeom prst="rect">
            <a:avLst/>
          </a:prstGeom>
          <a:ln w="0">
            <a:noFill/>
          </a:ln>
        </p:spPr>
      </p:pic>
      <p:pic>
        <p:nvPicPr>
          <p:cNvPr id="838" name="C03_ITCO" descr=""/>
          <p:cNvPicPr/>
          <p:nvPr/>
        </p:nvPicPr>
        <p:blipFill>
          <a:blip r:embed="rId2"/>
          <a:stretch/>
        </p:blipFill>
        <p:spPr>
          <a:xfrm>
            <a:off x="6059520" y="0"/>
            <a:ext cx="366840" cy="380880"/>
          </a:xfrm>
          <a:prstGeom prst="rect">
            <a:avLst/>
          </a:prstGeom>
          <a:ln w="0">
            <a:noFill/>
          </a:ln>
        </p:spPr>
      </p:pic>
      <p:sp>
        <p:nvSpPr>
          <p:cNvPr id="839" name=""/>
          <p:cNvSpPr/>
          <p:nvPr/>
        </p:nvSpPr>
        <p:spPr>
          <a:xfrm>
            <a:off x="3621240" y="15782760"/>
            <a:ext cx="281916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3697200" y="159354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3773520" y="159354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849840" y="159354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925800" y="159354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078440" y="159354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4154400" y="159354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4230720" y="159354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4307040" y="159354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4459320" y="159354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535640" y="159354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4611600" y="159354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4687920" y="159354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4840200" y="159354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4916520" y="159354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4992840" y="159354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5068800" y="159354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5221440" y="159354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5297400" y="159354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373720" y="159354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5450040" y="159354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5526000" y="159354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5602320" y="159354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678640" y="159354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754600" y="159354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059520" y="15881400"/>
            <a:ext cx="228600" cy="22860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059520" y="16033680"/>
            <a:ext cx="152280" cy="7632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H="1">
            <a:off x="2782800" y="16392600"/>
            <a:ext cx="33530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6135840" y="1616364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92240" y="13878000"/>
            <a:ext cx="281916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68200" y="14030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344520" y="14030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420840" y="140302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496800" y="14030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49440" y="140302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725400" y="14030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801720" y="14030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878040" y="140302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1030320" y="14030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1106640" y="140302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1182600" y="14030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1258920" y="14030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1411200" y="14030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487520" y="14030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563840" y="140302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1639800" y="14030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792440" y="140302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1868400" y="14030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1944720" y="14030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2021040" y="140302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173320" y="14030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2097000" y="14030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173320" y="14030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249640" y="140302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630520" y="13976280"/>
            <a:ext cx="228600" cy="22860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630520" y="14128920"/>
            <a:ext cx="152280" cy="7596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859120" y="14106600"/>
            <a:ext cx="16765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073040" y="1502100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Interrato -1 Mour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192240" y="131158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4535640" y="12201480"/>
            <a:ext cx="0" cy="1905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645120" y="13192200"/>
            <a:ext cx="161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. Terra Ludote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3621240" y="15401880"/>
            <a:ext cx="2819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3773520" y="15401880"/>
            <a:ext cx="304920" cy="152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192240" y="13496760"/>
            <a:ext cx="2819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44520" y="13496760"/>
            <a:ext cx="304920" cy="1526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401920" y="14030280"/>
            <a:ext cx="228600" cy="22860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401920" y="14182560"/>
            <a:ext cx="152280" cy="7632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830920" y="15935400"/>
            <a:ext cx="228600" cy="22860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830920" y="16087680"/>
            <a:ext cx="152280" cy="7632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3544920" y="14335200"/>
            <a:ext cx="144792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4992840" y="12963600"/>
            <a:ext cx="0" cy="13716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468600" y="15021000"/>
            <a:ext cx="3011400" cy="1600200"/>
          </a:xfrm>
          <a:prstGeom prst="rect">
            <a:avLst/>
          </a:prstGeom>
          <a:noFill/>
          <a:ln w="381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0" y="13192200"/>
            <a:ext cx="3087720" cy="1295280"/>
          </a:xfrm>
          <a:prstGeom prst="rect">
            <a:avLst/>
          </a:prstGeom>
          <a:noFill/>
          <a:ln w="381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656640" y="466560"/>
            <a:ext cx="49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uova disposizione attivi Cotugno Giugno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186280" y="92376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U F F I C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3416400"/>
            <a:ext cx="648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328680" y="189216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°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498600" y="234936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1 PD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0" y="6006960"/>
            <a:ext cx="648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39600" y="7759800"/>
            <a:ext cx="648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344520" y="379728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°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44520" y="614376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°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43440" y="7835760"/>
            <a:ext cx="111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ano Ter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346320" y="410220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7 PD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346320" y="652464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0 PD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21920" y="8369280"/>
            <a:ext cx="1262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31 PDL 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 pdl da interr – 1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654120" y="12201480"/>
            <a:ext cx="200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 PDL( DIRETTAMENTE AL -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859120" y="212076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935440" y="21970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011400" y="2197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2197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3164040" y="21970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3316320" y="2197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392640" y="21970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3468600" y="2197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544920" y="2197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697200" y="2197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3773520" y="2197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849840" y="21970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925800" y="2197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4078440" y="21970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4154400" y="2197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4230720" y="2197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4307040" y="21970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4459320" y="2197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535640" y="21970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4611600" y="2197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687920" y="2197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840200" y="2197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916520" y="2197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4992840" y="21970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5068800" y="2197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2935440" y="23493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011400" y="2349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3087720" y="2349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3164040" y="23493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3316320" y="2349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3392640" y="23493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468600" y="2349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3544920" y="2349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3697200" y="2349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3773520" y="2349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3849840" y="23493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3925800" y="2349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4078440" y="23493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154400" y="2349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230720" y="2349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4307040" y="23493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4459320" y="2349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4535640" y="23493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4611600" y="2349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4687920" y="2349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4840200" y="2349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916520" y="2349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4992840" y="23493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5068800" y="2349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5297400" y="2197080"/>
            <a:ext cx="15264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297400" y="2349360"/>
            <a:ext cx="15264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2859120" y="1816200"/>
            <a:ext cx="28195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3011400" y="1816200"/>
            <a:ext cx="304920" cy="152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2859120" y="41022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2935440" y="41781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011400" y="41781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3087720" y="41781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3164040" y="41781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3316320" y="41781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392640" y="41781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468600" y="41781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544920" y="41781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3697200" y="41781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3773520" y="41781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3849840" y="41781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3925800" y="41781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4078440" y="41781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4154400" y="41781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4230720" y="41781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4307040" y="41781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4459320" y="41781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4535640" y="41781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4611600" y="41781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4687920" y="41781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4840200" y="41781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4916520" y="41781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4992840" y="41781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5068800" y="41781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2935440" y="43308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3011400" y="43308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087720" y="43308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3164040" y="43308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3316320" y="43308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3392640" y="43308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3468600" y="43308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3544920" y="43308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3697200" y="43308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3773520" y="43308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3849840" y="43308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3925800" y="43308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4078440" y="43308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4154400" y="43308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4230720" y="43308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307040" y="43308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4459320" y="43308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4535640" y="43308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4611600" y="43308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4687920" y="43308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4840200" y="43308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4916520" y="43308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4992840" y="43308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5068800" y="43308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5297400" y="4330800"/>
            <a:ext cx="15264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2859120" y="3797280"/>
            <a:ext cx="28195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3011400" y="3797280"/>
            <a:ext cx="304920" cy="152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3544920" y="3797280"/>
            <a:ext cx="30492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782800" y="70200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2859120" y="7172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935440" y="71722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3011400" y="7172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087720" y="7172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3240000" y="7172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3316320" y="7172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392640" y="71722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3468600" y="7172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3621240" y="71722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697200" y="7172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773520" y="7172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3849840" y="71722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4002120" y="7172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4078440" y="71722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4154400" y="7172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4230720" y="7172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4383000" y="7172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4459320" y="7172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4535640" y="71722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4611600" y="7172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4764240" y="71722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4840200" y="7172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4916520" y="7172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4992840" y="71722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221440" y="6562800"/>
            <a:ext cx="15228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782800" y="646416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859120" y="6540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2935440" y="65404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011400" y="6540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087720" y="6540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240000" y="6540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316320" y="6540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3392640" y="65404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468600" y="6540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3621240" y="65404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3697200" y="6540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3773520" y="6540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3849840" y="65404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4002120" y="6540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078440" y="65404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4154400" y="6540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230720" y="6540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383000" y="6540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4459320" y="6540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535640" y="65404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4611600" y="6540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4764240" y="65404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4840200" y="6540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4916520" y="6540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992840" y="65404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859120" y="66927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2935440" y="66927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3011400" y="66927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3087720" y="66927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3240000" y="66927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3316320" y="66927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3392640" y="66927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468600" y="66927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621240" y="66927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697200" y="66927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3773520" y="66927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849840" y="66927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4002120" y="66927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4078440" y="66927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154400" y="66927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4230720" y="66927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4383000" y="66927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4459320" y="66927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4535640" y="66927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4611600" y="66927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4764240" y="66927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4840200" y="66927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4916520" y="66927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4992840" y="66927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5221440" y="6692760"/>
            <a:ext cx="15228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2782800" y="6159600"/>
            <a:ext cx="28195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935440" y="6159600"/>
            <a:ext cx="304560" cy="152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3468600" y="6159600"/>
            <a:ext cx="30492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2782800" y="968688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2859120" y="97632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2935440" y="97632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3011400" y="97632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3087720" y="97632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240000" y="97632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3316320" y="97632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3392640" y="97632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3468600" y="97632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3621240" y="97632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3697200" y="97632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3773520" y="97632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3849840" y="97632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4002120" y="97632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4078440" y="97632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4154400" y="97632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4230720" y="97632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4383000" y="97632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4459320" y="97632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4535640" y="97632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4611600" y="97632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4764240" y="97632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4840200" y="97632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4916520" y="97632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4992840" y="97632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2859120" y="9915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2935440" y="99154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3011400" y="9915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3087720" y="9915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3240000" y="9915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3316320" y="9915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3392640" y="99154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3468600" y="9915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621240" y="99154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3697200" y="9915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773520" y="9915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3849840" y="99154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4002120" y="9915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4078440" y="99154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4154400" y="9915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4230720" y="9915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4383000" y="9915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4459320" y="9915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4535640" y="99154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4611600" y="9915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764240" y="99154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4840200" y="9915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4916520" y="99154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4992840" y="99154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2782800" y="10296360"/>
            <a:ext cx="28195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2935440" y="10296360"/>
            <a:ext cx="304560" cy="1526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5450040" y="219708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5983200" y="219708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5373720" y="724860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5830920" y="724860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1716120" y="11455560"/>
            <a:ext cx="0" cy="7617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96800" y="12141360"/>
            <a:ext cx="22860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2859120" y="465768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2935440" y="48099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3011400" y="48099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3087720" y="48099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3164040" y="48099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3316320" y="48099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3392640" y="48099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3468600" y="48099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3544920" y="48099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3697200" y="48099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3773520" y="48099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3849840" y="48099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3925800" y="48099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4078440" y="48099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4154400" y="48099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230720" y="48099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4307040" y="48099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4459320" y="48099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4535640" y="48099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4611600" y="48099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4687920" y="48099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4840200" y="48099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4916520" y="48099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4992840" y="48099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5068800" y="48099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5297400" y="4200480"/>
            <a:ext cx="15264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5450040" y="488628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5907240" y="488628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 flipV="1">
            <a:off x="2859120" y="816264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 flipV="1">
            <a:off x="3087720" y="8238960"/>
            <a:ext cx="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 flipV="1">
            <a:off x="3316320" y="816264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271800" y="9153360"/>
            <a:ext cx="153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000000"/>
                </a:solidFill>
                <a:latin typeface="Arial"/>
              </a:rPr>
              <a:t>A P.T CED OSPED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297400" y="9763200"/>
            <a:ext cx="152640" cy="152280"/>
          </a:xfrm>
          <a:custGeom>
            <a:avLst/>
            <a:gdLst>
              <a:gd name="textAreaLeft" fmla="*/ 33480 w 152640"/>
              <a:gd name="textAreaRight" fmla="*/ 119160 w 152640"/>
              <a:gd name="textAreaTop" fmla="*/ 33480 h 152280"/>
              <a:gd name="textAreaBottom" fmla="*/ 11880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4762440" y="9191520"/>
            <a:ext cx="628560" cy="609840"/>
          </a:xfrm>
          <a:custGeom>
            <a:avLst/>
            <a:gdLst/>
            <a:ahLst/>
            <a:rect l="l" t="t" r="r" b="b"/>
            <a:pathLst>
              <a:path w="396" h="384">
                <a:moveTo>
                  <a:pt x="0" y="0"/>
                </a:moveTo>
                <a:cubicBezTo>
                  <a:pt x="19" y="25"/>
                  <a:pt x="38" y="45"/>
                  <a:pt x="54" y="72"/>
                </a:cubicBezTo>
                <a:cubicBezTo>
                  <a:pt x="64" y="122"/>
                  <a:pt x="52" y="88"/>
                  <a:pt x="90" y="138"/>
                </a:cubicBezTo>
                <a:cubicBezTo>
                  <a:pt x="99" y="150"/>
                  <a:pt x="114" y="174"/>
                  <a:pt x="114" y="174"/>
                </a:cubicBezTo>
                <a:cubicBezTo>
                  <a:pt x="124" y="215"/>
                  <a:pt x="143" y="217"/>
                  <a:pt x="180" y="240"/>
                </a:cubicBezTo>
                <a:cubicBezTo>
                  <a:pt x="222" y="266"/>
                  <a:pt x="264" y="282"/>
                  <a:pt x="312" y="294"/>
                </a:cubicBezTo>
                <a:cubicBezTo>
                  <a:pt x="342" y="284"/>
                  <a:pt x="364" y="301"/>
                  <a:pt x="390" y="318"/>
                </a:cubicBezTo>
                <a:cubicBezTo>
                  <a:pt x="382" y="343"/>
                  <a:pt x="396" y="359"/>
                  <a:pt x="396" y="384"/>
                </a:cubicBezTo>
              </a:path>
            </a:pathLst>
          </a:custGeom>
          <a:noFill/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1944360" y="930600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 flipH="1">
            <a:off x="2021040" y="9458280"/>
            <a:ext cx="1295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39600" y="11439360"/>
            <a:ext cx="648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340920" y="11667960"/>
            <a:ext cx="110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rato -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5450040" y="435276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983200" y="4352760"/>
            <a:ext cx="0" cy="381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5373720" y="6715080"/>
            <a:ext cx="609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983200" y="671508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2782800" y="8696160"/>
            <a:ext cx="274320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4383000" y="9001080"/>
            <a:ext cx="152640" cy="152280"/>
          </a:xfrm>
          <a:custGeom>
            <a:avLst/>
            <a:gdLst>
              <a:gd name="textAreaLeft" fmla="*/ 33480 w 152640"/>
              <a:gd name="textAreaRight" fmla="*/ 119160 w 152640"/>
              <a:gd name="textAreaTop" fmla="*/ 33480 h 152280"/>
              <a:gd name="textAreaBottom" fmla="*/ 11880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4611600" y="9001080"/>
            <a:ext cx="152640" cy="152280"/>
          </a:xfrm>
          <a:custGeom>
            <a:avLst/>
            <a:gdLst>
              <a:gd name="textAreaLeft" fmla="*/ 33480 w 152640"/>
              <a:gd name="textAreaRight" fmla="*/ 119160 w 152640"/>
              <a:gd name="textAreaTop" fmla="*/ 33480 h 152280"/>
              <a:gd name="textAreaBottom" fmla="*/ 11880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3011400" y="8924760"/>
            <a:ext cx="152640" cy="76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3240000" y="8924760"/>
            <a:ext cx="152640" cy="76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3468600" y="8924760"/>
            <a:ext cx="152640" cy="76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3697200" y="8924760"/>
            <a:ext cx="152640" cy="76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3011400" y="9077400"/>
            <a:ext cx="152640" cy="75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3240000" y="9077400"/>
            <a:ext cx="152640" cy="75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3468600" y="9077400"/>
            <a:ext cx="152640" cy="75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3697200" y="9077400"/>
            <a:ext cx="152640" cy="75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3925800" y="9077400"/>
            <a:ext cx="152640" cy="75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3011400" y="9229680"/>
            <a:ext cx="15264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3240000" y="9229680"/>
            <a:ext cx="15264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3468600" y="9229680"/>
            <a:ext cx="152640" cy="76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3925800" y="9229680"/>
            <a:ext cx="152640" cy="76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5297400" y="8734320"/>
            <a:ext cx="152640" cy="2286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297400" y="9039240"/>
            <a:ext cx="15264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3011400" y="8734320"/>
            <a:ext cx="15264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3240000" y="8734320"/>
            <a:ext cx="15264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3468600" y="8734320"/>
            <a:ext cx="15264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3697200" y="8734320"/>
            <a:ext cx="15264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3925800" y="8734320"/>
            <a:ext cx="152640" cy="76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4154400" y="8734320"/>
            <a:ext cx="152640" cy="76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4383000" y="8734320"/>
            <a:ext cx="152640" cy="76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4611600" y="8734320"/>
            <a:ext cx="152640" cy="76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3316320" y="9267840"/>
            <a:ext cx="0" cy="190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2782800" y="8734320"/>
            <a:ext cx="15264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3544920" y="816264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 flipV="1">
            <a:off x="3773520" y="816264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5297400" y="4734000"/>
            <a:ext cx="228600" cy="22860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297400" y="4886280"/>
            <a:ext cx="152640" cy="7632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5221440" y="7172280"/>
            <a:ext cx="228600" cy="22860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5221440" y="7324560"/>
            <a:ext cx="152280" cy="7632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5146200" y="2523960"/>
            <a:ext cx="49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Sc/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5146560" y="5114880"/>
            <a:ext cx="51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Sc/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6" name="C03_ITCO" descr=""/>
          <p:cNvPicPr/>
          <p:nvPr/>
        </p:nvPicPr>
        <p:blipFill>
          <a:blip r:embed="rId1"/>
          <a:stretch/>
        </p:blipFill>
        <p:spPr>
          <a:xfrm>
            <a:off x="6059520" y="0"/>
            <a:ext cx="366840" cy="380880"/>
          </a:xfrm>
          <a:prstGeom prst="rect">
            <a:avLst/>
          </a:prstGeom>
          <a:ln w="0">
            <a:noFill/>
          </a:ln>
        </p:spPr>
      </p:pic>
      <p:pic>
        <p:nvPicPr>
          <p:cNvPr id="1247" name="" descr=""/>
          <p:cNvPicPr/>
          <p:nvPr/>
        </p:nvPicPr>
        <p:blipFill>
          <a:blip r:embed="rId2"/>
          <a:stretch/>
        </p:blipFill>
        <p:spPr>
          <a:xfrm>
            <a:off x="76320" y="0"/>
            <a:ext cx="147636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rico</cp:lastModifiedBy>
  <dcterms:modified xsi:type="dcterms:W3CDTF">2008-09-01T07:02:58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